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8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8.png" ContentType="image/png"/>
  <Override PartName="/ppt/media/image11.png" ContentType="image/png"/>
  <Override PartName="/ppt/media/image9.png" ContentType="image/png"/>
  <Override PartName="/ppt/media/image5.png" ContentType="image/png"/>
  <Override PartName="/ppt/media/image13.jpeg" ContentType="image/jpeg"/>
  <Override PartName="/ppt/media/image30.jpeg" ContentType="image/jpeg"/>
  <Override PartName="/ppt/media/image15.png" ContentType="image/png"/>
  <Override PartName="/ppt/media/image31.png" ContentType="image/png"/>
  <Override PartName="/ppt/media/image3.png" ContentType="image/png"/>
  <Override PartName="/ppt/media/image1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26.jpeg" ContentType="image/jpeg"/>
  <Override PartName="/ppt/media/image32.jpeg" ContentType="image/jpeg"/>
  <Override PartName="/ppt/media/image17.png" ContentType="image/png"/>
  <Override PartName="/ppt/media/image20.jpeg" ContentType="image/jpeg"/>
  <Override PartName="/ppt/media/image19.png" ContentType="image/png"/>
  <Override PartName="/ppt/media/image24.jpeg" ContentType="image/jpeg"/>
  <Override PartName="/ppt/media/image22.png" ContentType="image/pn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  <p:sldId id="276" r:id="rId51"/>
    <p:sldId id="277" r:id="rId52"/>
    <p:sldId id="278" r:id="rId53"/>
    <p:sldId id="279" r:id="rId54"/>
    <p:sldId id="280" r:id="rId55"/>
    <p:sldId id="281" r:id="rId56"/>
    <p:sldId id="282" r:id="rId57"/>
    <p:sldId id="283" r:id="rId58"/>
    <p:sldId id="284" r:id="rId59"/>
    <p:sldId id="285" r:id="rId60"/>
    <p:sldId id="286" r:id="rId61"/>
    <p:sldId id="287" r:id="rId62"/>
    <p:sldId id="288" r:id="rId63"/>
    <p:sldId id="289" r:id="rId6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slide" Target="slides/slide21.xml"/><Relationship Id="rId52" Type="http://schemas.openxmlformats.org/officeDocument/2006/relationships/slide" Target="slides/slide22.xml"/><Relationship Id="rId53" Type="http://schemas.openxmlformats.org/officeDocument/2006/relationships/slide" Target="slides/slide23.xml"/><Relationship Id="rId54" Type="http://schemas.openxmlformats.org/officeDocument/2006/relationships/slide" Target="slides/slide24.xml"/><Relationship Id="rId55" Type="http://schemas.openxmlformats.org/officeDocument/2006/relationships/slide" Target="slides/slide25.xml"/><Relationship Id="rId56" Type="http://schemas.openxmlformats.org/officeDocument/2006/relationships/slide" Target="slides/slide26.xml"/><Relationship Id="rId57" Type="http://schemas.openxmlformats.org/officeDocument/2006/relationships/slide" Target="slides/slide27.xml"/><Relationship Id="rId58" Type="http://schemas.openxmlformats.org/officeDocument/2006/relationships/slide" Target="slides/slide28.xml"/><Relationship Id="rId59" Type="http://schemas.openxmlformats.org/officeDocument/2006/relationships/slide" Target="slides/slide29.xml"/><Relationship Id="rId60" Type="http://schemas.openxmlformats.org/officeDocument/2006/relationships/slide" Target="slides/slide30.xml"/><Relationship Id="rId61" Type="http://schemas.openxmlformats.org/officeDocument/2006/relationships/slide" Target="slides/slide31.xml"/><Relationship Id="rId62" Type="http://schemas.openxmlformats.org/officeDocument/2006/relationships/slide" Target="slides/slide32.xml"/><Relationship Id="rId63" Type="http://schemas.openxmlformats.org/officeDocument/2006/relationships/slide" Target="slides/slide33.xml"/><Relationship Id="rId64" Type="http://schemas.openxmlformats.org/officeDocument/2006/relationships/slide" Target="slides/slide34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 type="dt" idx="73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2600" cy="3722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 type="ftr" idx="74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6"/>
          <p:cNvSpPr>
            <a:spLocks noGrp="1"/>
          </p:cNvSpPr>
          <p:nvPr>
            <p:ph type="sldNum" idx="75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303D-2909-4B5F-9809-9C0F1648288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Symbol zastępczy numeru slajd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A01D-0586-43C3-ABB9-E6D22B1F99E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Symbol zastępczy stopki 4"/>
          <p:cNvSpPr/>
          <p:nvPr/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4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Symbol zastępczy numeru slajd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CB40-5C63-4C4E-8A34-F99F5078BA1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Symbol zastępczy stopki 4"/>
          <p:cNvSpPr/>
          <p:nvPr/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Symbol zastępczy numeru slajd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AAAD-4024-4AB8-B27F-8F6C6B00082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Symbol zastępczy stopki 4"/>
          <p:cNvSpPr/>
          <p:nvPr/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Symbol zastępczy numeru slajd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264A-6625-4FDA-80A0-599E24B1060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Symbol zastępczy stopki 4"/>
          <p:cNvSpPr/>
          <p:nvPr/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Symbol zastępczy numeru slajd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66B4-742B-459D-A476-F4F38E67DD9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Symbol zastępczy stopki 4"/>
          <p:cNvSpPr/>
          <p:nvPr/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Symbol zastępczy numeru slajd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7031-2A8A-485F-850F-7A4541A915C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Symbol zastępczy stopki 4"/>
          <p:cNvSpPr/>
          <p:nvPr/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Symbol zastępczy numeru slajd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CD0F-833A-45DD-8030-73C8E6A439C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Symbol zastępczy stopki 4"/>
          <p:cNvSpPr/>
          <p:nvPr/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4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Symbol zastępczy numeru slajd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915E-70BC-4AAA-B945-995959E431C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Symbol zastępczy stopki 4"/>
          <p:cNvSpPr/>
          <p:nvPr/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Symbol zastępczy numeru slajd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4799-660B-49C1-8668-BF569B8F9E5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Symbol zastępczy stopki 4"/>
          <p:cNvSpPr/>
          <p:nvPr/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4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Symbol zastępczy numeru slajd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F12F-8CF1-4570-AFCB-ED7DA8E2DE8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Symbol zastępczy stopki 4"/>
          <p:cNvSpPr/>
          <p:nvPr/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Symbol zastępczy numeru slajd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B649-E76B-416A-8045-D7181099FE8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Symbol zastępczy stopki 4"/>
          <p:cNvSpPr/>
          <p:nvPr/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5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Symbol zastępczy numeru slajd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0E4B-BACC-4239-A949-A214AB2D96B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Symbol zastępczy stopki 4"/>
          <p:cNvSpPr/>
          <p:nvPr/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Symbol zastępczy numeru slajd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20D5-3BA0-403F-ADAD-26D6E7B6E95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Symbol zastępczy stopki 4"/>
          <p:cNvSpPr/>
          <p:nvPr/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Symbol zastępczy numeru slajd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B8D3-A8F6-452B-8E44-4C39AE80680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Symbol zastępczy stopki 4"/>
          <p:cNvSpPr/>
          <p:nvPr/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5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Symbol zastępczy numeru slajd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1DE0-26DD-46C2-897E-FA49AA6FFCA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Symbol zastępczy stopki 4"/>
          <p:cNvSpPr/>
          <p:nvPr/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4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Symbol zastępczy numeru slajd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4AF8-ACE7-4D8E-9556-923FAFEE622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Symbol zastępczy stopki 4"/>
          <p:cNvSpPr/>
          <p:nvPr/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Symbol zastępczy numeru slajd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7ACA-1665-49AA-953B-D4688E82640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Symbol zastępczy stopki 4"/>
          <p:cNvSpPr/>
          <p:nvPr/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Symbol zastępczy numeru slajd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0EF6-72E8-406E-ABAD-82FA3B29FC2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Symbol zastępczy stopki 4"/>
          <p:cNvSpPr/>
          <p:nvPr/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5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Symbol zastępczy numeru slajd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BAA2-A2F0-41B5-A5A3-42363DB5651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Symbol zastępczy stopki 4"/>
          <p:cNvSpPr/>
          <p:nvPr/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Symbol zastępczy numeru slajd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0D2B-3636-4782-99DA-5A4C5E47147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Symbol zastępczy stopki 4"/>
          <p:cNvSpPr/>
          <p:nvPr/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Symbol zastępczy numeru slajd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DD57-EF40-4A2A-BAE3-62289DB8D4B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Symbol zastępczy stopki 4"/>
          <p:cNvSpPr/>
          <p:nvPr/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4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Symbol zastępczy numeru slajd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47FD-7F92-4FE4-9DE9-72E2301C556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Symbol zastępczy stopki 4"/>
          <p:cNvSpPr/>
          <p:nvPr/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Symbol zastępczy numeru slajd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A074-04DE-4C59-A169-AA1FF62C5E4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Symbol zastępczy stopki 4"/>
          <p:cNvSpPr/>
          <p:nvPr/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Symbol zastępczy numeru slajd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E0E4-C98C-44CC-B245-0AF337C0A8D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Symbol zastępczy stopki 4"/>
          <p:cNvSpPr/>
          <p:nvPr/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DC8D-7623-464E-AB93-272993096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B537-3D5F-41E8-B954-F3382B2A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D9802-0ADA-4551-9E32-2DCBDA85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DD01E-8A66-40AF-BECB-93CA83AA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50129-D946-4C7D-B50D-97D58369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1BBDE-20F2-4661-8D3F-3B76E2FA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2C5B0-6B13-4816-AF61-FCFFF6EE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8324F-48E9-4DA9-A4B3-79C65F14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448D1-12B2-46DA-9DDE-2F35CA5B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2128D-0C32-4DFF-A38C-8BD9A0A17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C0FB3-2D53-429E-8639-C9CF6E236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6C080-A745-41AB-B90E-4FF0D424C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5699-0758-47EF-936A-F512D6CD1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3BBA4-33EB-45CB-9E27-05725BD1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DDF0E-4D53-47DE-B6AA-A691FCA1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933AA-F8DF-4D20-9895-5E989125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9F67C-A0BD-48CA-8CB3-24469A6E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6736B-16B0-4FCF-B436-8A390DBC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6E03C-7582-4374-8D0A-F59CAD94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0F224-3B22-4F63-B569-62B32B50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E0E0E-D5A3-4AD1-AF96-5EDE24AD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46B3F-8CFE-4B7E-ADC0-E261E7CA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D5CB6-2829-4769-B29A-8024DE8E5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2ED5-5464-41C6-ACAA-C54A80ED0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EAD1B-1468-466C-A39F-E06910A43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6EAB37-30C7-42F2-8891-FD0E3493D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ED7C7-0B8C-4D4F-A567-EC50E27F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F3468-7D6C-45CB-9323-10144840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EE6CEF-20AE-4FF2-ACF1-D6C22017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EEAEC-D46C-44EE-9F69-3AD6A723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707761-CF88-4A71-8AFB-73F5DD22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2C252B-389F-482E-B40F-447ED399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6AD9B-BFB3-4DE2-B950-471D6E75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547980-5FD7-4E37-9C08-B3845A03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DD2B-34F7-4B49-9BCA-E2909D64D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2D2EB-F0B8-4C9D-9C2C-730BCFDE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7DFB1F-F075-455B-9418-0918B827C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78F01F-3AEA-43DC-B442-548DA2041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99A76D-C4E3-43E4-98B8-46A0EED4C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A0CA79-9994-4A7E-A560-46FD16BE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B86A85-4D1E-44C8-8A3A-502402C0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53F773-49E0-4210-BDE1-FD8CA2EA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8B268-C4C2-43AB-B68B-073F6F11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89D28B-7E2F-4B0D-8B89-74ECBE93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2E9AF-0453-4721-99A6-74F880FF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BA96C-EE44-46E3-979F-4AD9907A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50088A-8C1E-4466-91D2-299539AC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B8FCB-6500-4B6E-8C0C-890D2B3D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D559F9-8C2B-43DE-9ADD-5EB6CF2F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37C8D9-9915-4D15-ABA1-B178A72A5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ACC413-C009-408F-A8B6-C6FD2C2FA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5C8B0-6EB5-4969-A62F-517ECCA77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D8607-07D8-4C25-8B72-596556E9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CD065-FC0C-4956-8B49-A9317FF4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4EBDE-0EA0-4911-A3AF-A19BEB22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7A28C-D1F2-49B9-88DE-66EB3BB5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555F-BCDD-459A-9582-EB3A274F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7F3C6-6194-4E54-A16D-55925FE5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9BA7F-2B3C-4FB5-B8EE-4E8FEAE8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18FFA-381C-4F18-88F1-E6859510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2EBCA-F1F6-45B2-930D-CD7FF2D6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CF328-8E7C-4321-ADA8-D6845299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245DE-249C-45C9-B713-56FD6B446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296D4-5E2A-4C95-841C-D663E4211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ED1FBE-5751-4A79-A041-F75107B72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6127A3-142D-4350-844E-401B2205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2502CF-8A06-4211-B955-0B415A7C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C7ED-71BF-415C-A41B-34FA235D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9E4C64-DB68-4F71-B89E-17647BFB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C2687B-056C-4414-90B9-0F818EC0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75F88A-62C5-467B-85C5-C686418E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4CAF0F-5022-45CF-A846-28A8D0CF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C09AC1-BAEE-484E-B882-36729771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7EE657-B816-4771-A727-195A126C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0A6D21-C476-4F0C-BBA2-18F9387C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1D1C04-3A49-4B72-A314-085EB914B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321D58-50E4-43BF-871B-E553DA3A2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C16CAB-5952-4010-BCF6-61AE26C6B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E7B3-17BA-4E04-B5D5-3F760B3C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D33FFA-AC97-42BC-803F-B2DB1768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BDD54B-EC6B-465F-AAFC-305E87DB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EE6224-C8DB-4907-B703-5D544065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F0AC8B-072E-4389-B801-162DE640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CBFCC1-28E4-43B3-AB33-8A9CC9A3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C6F910-52C9-48C1-8CC6-C6A591B3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36DF58-9F2C-4E34-BD73-B0707753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21E130-CED0-4388-8DD2-8A2CBA23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BA6E24-B5C0-45EB-A14F-83A6B893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8FB4F9-7075-4242-8ABA-DD0FCAFFA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09C3-9C6C-4700-9D28-8DD604C5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5E4956-B611-435A-A4A1-DFE05E09B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BEAD42-2398-4388-8E14-2CF249A2F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8656D3-C514-4481-92BB-4D0A0FB3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371D69-8E92-4AFF-8D09-CE635F32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1642B2-A3DC-483E-A593-BCD05D12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1F0BBC-2A41-4CA4-910F-10B4A77D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302BBB-9700-4477-A223-6EA69AD1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F8863F-E8D4-48A8-B816-21E83596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BACF37-0980-4F44-9AD2-C7756CDE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DEB2A0-C48E-4E27-9D32-70CCA54B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F6CD-BB6C-471F-BB70-785A74B4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371BCF-67C6-4391-86CD-55975ADE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0F12B5-8A57-4C1D-9313-5E8E46B88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D60F6F-5667-4989-A1FF-3683266F9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D2D564-324B-4E0E-AFCD-2B0E20817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6DCFC4-C838-466C-9F39-94B039DE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7919AA-C316-4877-86D4-E3512555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A24C66-2540-47EF-89A8-6048884F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09EBE3-731B-48F7-B996-6FBDCF26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AED642-C42F-4BA3-B15F-A766C97C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8F2EFB-7CA5-466C-AC8D-E4B6F4D1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27D1-CD80-4705-B330-A561D75A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D869-58E9-4EE9-8A60-ADA3BB89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2B07BF-EFDD-4BED-9C5D-5D94CFBC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97F737-CB61-4BBA-B774-47E318AA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5FC96B-0003-411B-9CF2-689E42E2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DDFD78-AAFA-44B2-B9C6-F7284B557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41301A-011F-4A3F-AAC7-9D382D843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CC7B56-37D0-4CB4-A73E-E8DBB45AD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E2DADE-9626-49BA-ABE7-0DDD1C19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E6C994-6D3A-478C-AA07-D4D0EEBA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761F8D-767A-4685-BEBD-CEEB489A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442311-84EA-4D5E-9856-8FD639AA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593F-7AFF-4CDF-AA15-F2F5F3D3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67B2CE-220F-45C1-AE50-FAC47C35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844C2B-E1E6-4E1B-83D1-2806D127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FAC745-DDC0-4559-AAC6-D2A87071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7D0A21-8D79-4061-8410-FB01D019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89C741-2D75-4FB4-A25E-4AE26A2D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895839-07BE-4C25-AE42-1930AF0AE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8C7109-20B4-41CC-8224-A9E3438B9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795E39-A9FA-4AA0-8A14-143E139F8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CF14AB-BB70-4D2F-9B54-3FB74C25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48403D-74A0-47F0-A4FA-592812D8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A046-021E-412E-BED3-6460C85E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A168A9-734C-44A4-A469-1D730054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D636DD-D20F-4FDB-8A0B-3E7550DA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09C5EC-01CA-48AA-AF63-2DAE804B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62C816-D894-454B-912C-8B876350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63F9A3-D2BD-4D07-8C27-E79B2F76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9FD750-5D1F-4112-8A03-65C7869B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1790BC-8987-4D31-B37B-5B6E4F9F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BC5D86-6565-4A47-814C-E0D776660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187D2F-7F46-4529-9480-01A9B7EA1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835751-DA28-4402-A598-7C53659D5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F14A-02BA-4005-B96B-F8B308D4C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37089D-B0AC-4DF5-B810-421F6440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2F645B-8D1D-475C-B7C0-36E13634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E102A4-5348-4E41-B548-B75583AC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F7D9B4-A174-466C-BCD5-EBE00022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05532F-D6BA-4EDE-9E21-10B51D2E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EF57E6-7A2C-4008-B5F7-EDCF2F2D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20CF7F-DFF8-49EB-9687-F2BFA9D2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24CB55-D728-42C3-B7C7-A2AC3E63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DBBF01-F3D0-4DC9-A37F-0C972A4B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98F66F-D1D4-4FE0-9C4B-1FCD61B63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E53C-9FB9-44B9-87FF-541DB9672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877220-D642-4FFE-A35D-BCFD2B9FA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077B70-C00E-4D0C-9B0D-937194DFA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727629-4A3F-4F7B-97D3-F7A85235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337F3E-2623-4024-9A1A-492E07D5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6DD451-B22C-4DE2-8858-17AA6CD7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DC525D-DFEB-48EE-9397-FF47573C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BA850D-1564-4153-B269-6AB8F48C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24C987-4AAD-43A9-B51D-F8F78E94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8C698E-A4CC-4429-941D-1F0A966C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F96281-D1B5-4BC4-A586-DDC14285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914BF8-7539-4BE9-8CBE-20C708AE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8EA7E4-F4D7-408A-82A7-B0DA3E6AD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3395CB-6979-40C0-A0B7-CF2D117D9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D02837-1174-49DB-B2A7-A147A0817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31906F-C328-4773-B2CB-37295ABF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2CACE9-EA44-4152-A4C6-0D271811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7CE5CA-07BB-4129-A127-6C832EBE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C17B46-F8FA-4357-BD26-E1994BCD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7C59C2-EA64-4437-A060-3A09CED8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EF2020-7EB9-4E61-B2FA-F935F47B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889C66-FD6F-49F0-8531-1D905D49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4AC872-FF4F-4A4B-B16C-200CE92A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47D203-4BDE-4197-85EB-B563283C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F26941-3F74-41D6-A949-A923F3919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AE8303-7093-486E-8D30-3B0F4FD6D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9CECC2-9ADF-4C95-9BFE-91CF753CC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C365E5-115B-4D1B-B3DB-8697845D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896DEB-28C0-4629-97A6-DBEBE5D4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1D7C94-D40E-4CDD-A896-95F8BA35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2D593A-FBCC-4EF1-B66D-56B10562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88CA53-42F9-472D-8EDD-AC5EA809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AD5820-B1FC-42E7-814D-B8999128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9434BD-08AF-4583-AFB9-39DAC159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F49D61-3251-40F3-BEEA-86034C02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E04579-A583-48B1-B1BD-41C68365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9B2854-2488-4FAD-8B14-7304C252D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9DD5B1-655F-4F78-B1BE-A0A43E838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251ED0-7E74-4C98-9275-278292FB5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2C3C73-CC54-47E5-B0C2-0265E1C7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1DDB34-AF52-44B0-BB43-F75379BE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769E0F-EAA1-4D7F-B76D-B1AF26A4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368831-E827-456D-A167-0D076CF1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339363-0C31-4277-AD3B-31AF7B7C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4D8821-0259-4CF2-9647-4BDD19E7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96ADB0-1792-404A-BDEC-D999C20D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8BDC59-3078-4D29-A0BB-8EF9B2E9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F67601-E7B1-4317-BD6A-23B60B44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F43A8F-3470-4652-A830-7747D20B7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154410-EE8F-4449-A573-55542DED7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5998AA-6CC4-4294-80C1-786037681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0C492E-7C4F-4545-9B13-12B31F42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7C1B8B-972F-4A72-A5D8-3902B16E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43EB90-A948-46FB-9252-78074E3D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BC0E0B-1536-49E1-8331-4345DD8D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A6CDFF-5CFC-4368-A045-8FE69470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D7B0BE-4355-49BC-A3F4-2B7B0B1E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3913BC-8A40-45F4-8884-465AB413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693FA7-6E08-4871-814F-62602C31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76E68F-D931-4091-A3F4-539AF2FD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D85E29-279F-4DBF-88FB-F569151BD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0DBD-24C3-492F-8CE7-3D29C239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829A38-A693-4627-B1E9-CD688E471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CDA736-5003-4135-B35E-342006615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A812CB-51AF-40EF-84A4-F7E7BB29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2BA4D9-4257-453C-B3A2-6386690B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0D1F72-A272-43B6-A472-8AF1D590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A3A931-A7C5-44F8-9E95-079E5220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885F54-6F20-47A8-8E7C-0FD1327B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3BD3D9-F7AA-4E3C-93E4-71823990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EBAD1E0-A3BF-4EEF-A979-28737DC6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130B3B-38A2-45FA-8D25-EE451BDB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B82103-AB55-4A34-8BC9-89531D6C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B68B0F-3E08-4718-AD2F-527EFD9C8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17C34C4-FBE9-4420-BFF3-2639D53E2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9462-9CAF-4780-91EA-4FCEF4A7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C8D41-70A6-4CCC-AD77-D199A049C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8D85-93F5-4408-AC9D-C09D09E4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2F6F8-E873-4835-B525-10705B80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70491-71E4-4F10-9D16-E802C271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1B7EA-5F14-4594-A632-7A59A7A6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3A337-84C2-45FD-9195-82E25D6A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23191-D402-4BC6-8815-019E61F5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AEE5C-52B3-4A22-955B-149C7663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2D726-4FBB-45FF-9157-0DB36CC1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7274B-C256-4A79-B727-27EA012D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44147-E254-4380-9A96-1AE79A11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14209-826E-4399-8A95-01480717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2809-8369-4254-9523-EB733A8F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60420-F018-4A6F-9431-5BCB14609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9CF4D-8114-4906-9016-B55456D7E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CCD90-C857-428C-BA1C-F2FD6998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F5D99-678C-4DA6-880D-EFB7F185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1F344-AC02-4D6E-B263-AFCFBB30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F69BD-501A-4837-B03E-F7E557C4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35590-CC2B-4A13-B5B4-C9CD2A64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BD56E-A8B2-437D-B503-0A80D87B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8CD00-A19B-46BB-A514-1D0F4790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D0643-A426-4DDA-87FB-AFE5F55F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7F06-6F06-40D4-B1B6-5F96C3A7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B82FE-8CD9-4BC3-9AA5-5A116695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DC7DC-1086-428D-86A6-02B3C6A85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544E3-1A32-47E9-B236-DD396C32C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89F28-895A-4E03-94B0-B35C5B6FF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52EB8-0916-49DA-8C57-D7B4E169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F190A-0E74-4F6B-A9D7-3B370F4E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D5C30-1A77-489E-B1CB-B01C872D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DE632-84A3-4147-A3DC-50A9DDFE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6D28A-96C6-428E-8B63-82785CD2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39648-2B0C-4162-BB65-341FF2FA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425E-02AA-466F-992B-E44B6963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2DF84-BCA4-4070-9DCA-6CC98B65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C85B9-46B2-4DAA-9252-8FC4A241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17515-E95E-4E9B-BD84-3428B9D8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AF08E-36F3-4B13-9F20-2F333E848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318EB-584E-4637-A634-6DE4461EE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8721E-CE70-4296-B27E-C77286F46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91487-C47B-46DD-B554-7AB97A36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D2EB0-4EA2-4007-AE4C-B55082A6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E134F-D2C7-4874-A847-EE0A0F03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D5537-12F5-402B-9A4F-FDD2117E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6D19-FF3E-4A22-9FFC-174DF159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9C093-CF66-45EA-808C-C93CA48D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B965E-D268-493F-B1BA-A9EF902F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35C11-D219-4E9F-8275-1008C5B5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9FAD8-9BC4-440F-91A4-3BBFB1E1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29285-9410-4777-A8CC-CEEDA25A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A3308-80FE-45B0-B0E8-00CE36F1C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5D0FC-33FC-4F1A-BE62-FA977B76A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1BA9E-3A59-44BD-B4B7-15B5F77F5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CB911-5168-4470-9359-4483BABD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45185-341F-4853-9C89-D64ABB97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13.xml"/><Relationship Id="rId7" Type="http://schemas.openxmlformats.org/officeDocument/2006/relationships/slideLayout" Target="../slideLayouts/slideLayout314.xml"/><Relationship Id="rId8" Type="http://schemas.openxmlformats.org/officeDocument/2006/relationships/slideLayout" Target="../slideLayouts/slideLayout315.xml"/><Relationship Id="rId9" Type="http://schemas.openxmlformats.org/officeDocument/2006/relationships/slideLayout" Target="../slideLayouts/slideLayout316.xml"/><Relationship Id="rId10" Type="http://schemas.openxmlformats.org/officeDocument/2006/relationships/slideLayout" Target="../slideLayouts/slideLayout317.xml"/><Relationship Id="rId11" Type="http://schemas.openxmlformats.org/officeDocument/2006/relationships/slideLayout" Target="../slideLayouts/slideLayout318.xml"/><Relationship Id="rId12" Type="http://schemas.openxmlformats.org/officeDocument/2006/relationships/slideLayout" Target="../slideLayouts/slideLayout319.xml"/><Relationship Id="rId13" Type="http://schemas.openxmlformats.org/officeDocument/2006/relationships/slideLayout" Target="../slideLayouts/slideLayout320.xml"/><Relationship Id="rId14" Type="http://schemas.openxmlformats.org/officeDocument/2006/relationships/slideLayout" Target="../slideLayouts/slideLayout321.xml"/><Relationship Id="rId15" Type="http://schemas.openxmlformats.org/officeDocument/2006/relationships/slideLayout" Target="../slideLayouts/slideLayout322.xml"/><Relationship Id="rId16" Type="http://schemas.openxmlformats.org/officeDocument/2006/relationships/slideLayout" Target="../slideLayouts/slideLayout323.xml"/><Relationship Id="rId17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25.xml"/><Relationship Id="rId7" Type="http://schemas.openxmlformats.org/officeDocument/2006/relationships/slideLayout" Target="../slideLayouts/slideLayout326.xml"/><Relationship Id="rId8" Type="http://schemas.openxmlformats.org/officeDocument/2006/relationships/slideLayout" Target="../slideLayouts/slideLayout327.xml"/><Relationship Id="rId9" Type="http://schemas.openxmlformats.org/officeDocument/2006/relationships/slideLayout" Target="../slideLayouts/slideLayout328.xml"/><Relationship Id="rId10" Type="http://schemas.openxmlformats.org/officeDocument/2006/relationships/slideLayout" Target="../slideLayouts/slideLayout329.xml"/><Relationship Id="rId11" Type="http://schemas.openxmlformats.org/officeDocument/2006/relationships/slideLayout" Target="../slideLayouts/slideLayout330.xml"/><Relationship Id="rId12" Type="http://schemas.openxmlformats.org/officeDocument/2006/relationships/slideLayout" Target="../slideLayouts/slideLayout331.xml"/><Relationship Id="rId13" Type="http://schemas.openxmlformats.org/officeDocument/2006/relationships/slideLayout" Target="../slideLayouts/slideLayout332.xml"/><Relationship Id="rId14" Type="http://schemas.openxmlformats.org/officeDocument/2006/relationships/slideLayout" Target="../slideLayouts/slideLayout333.xml"/><Relationship Id="rId15" Type="http://schemas.openxmlformats.org/officeDocument/2006/relationships/slideLayout" Target="../slideLayouts/slideLayout334.xml"/><Relationship Id="rId16" Type="http://schemas.openxmlformats.org/officeDocument/2006/relationships/slideLayout" Target="../slideLayouts/slideLayout335.xml"/><Relationship Id="rId17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A873-EB18-491D-BD88-A3FB03CCA3D4}" type="datetime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OPRACOWANIE: D.BIAŁOWĄS_KBW OLSZTY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C402-779A-4539-A4B2-B191E2FC3717}" type="slidenum"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2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362E-A603-43E2-8AD6-AED742FC9157}" type="datetime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3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OPRACOWANIE: D.BIAŁOWĄS_KBW OLSZTY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4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056C-3530-4C1A-867E-58BD4203E9FC}" type="slidenum"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5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5E82-76B5-4A4E-924A-255349C87D29}" type="datetime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6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OPRACOWANIE: D.BIAŁOWĄS_KBW OLSZTY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7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14B6-0419-42C4-9F11-4576F955F539}" type="slidenum"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8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5DD4-F376-4511-B3BF-E2978DF03637}" type="datetime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9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34342"/>
                </a:solidFill>
                <a:latin typeface="Times New Roman"/>
              </a:rPr>
              <a:t>OPRACOWANIE: D.BIAŁOWĄS_KBW OLSZTY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0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4442-BD6C-451D-8454-A7378B4FFE5D}" type="slidenum">
              <a:rPr b="0" lang="pl-PL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B0C9-731F-48D4-B033-5A5B324D912B}" type="datetime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OPRACOWANIE: D.BIAŁOWĄS_KBW OLSZTY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6C14-9721-496E-9850-D06E62CB9EC8}" type="slidenum"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6A14-02DF-414A-8871-D3C4578D68EF}" type="datetime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OPRACOWANIE: D.BIAŁOWĄS_KBW OLSZTY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1BE2-89BB-4768-A148-08FD5A13A65B}" type="slidenum"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3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D641-0DE7-4DB5-AF39-41A30C04DB54}" type="datetime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3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OPRACOWANIE: D.BIAŁOWĄS_KBW OLSZTY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3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9D7A-D84B-4854-8B9F-D5D4DAAC36E6}" type="slidenum"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4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0B23-5B21-4D59-8238-69718B7A35EF}" type="datetime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ftr" idx="4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OPRACOWANIE: D.BIAŁOWĄS_KBW OLSZTY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 type="sldNum" idx="4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B52B-0FA6-446D-91E6-F07DABEA6694}" type="slidenum"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dt" idx="4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0517-A9BF-4606-B420-46B897958322}" type="datetime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ftr" idx="4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OPRACOWANIE: D.BIAŁOWĄS_KBW OLSZTY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 type="sldNum" idx="4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B9ED-7937-43B0-80AB-F3869822CC41}" type="slidenum"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46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8F6B-E9AA-405B-B728-6862ABBE5196}" type="datetime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47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OPRACOWANIE: D.BIAŁOWĄS_KBW OLSZTY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48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F06D-6E44-4527-B71F-6EEB9147AFF2}" type="slidenum"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 type="dt" idx="49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6AE2-65F7-42C2-AFDA-A141812754AF}" type="datetime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 type="ftr" idx="50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OPRACOWANIE: D.BIAŁOWĄS_KBW OLSZTY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 type="sldNum" idx="51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1AC4-6F8F-4BB5-84F9-D9290A2A1B29}" type="slidenum"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0A75-AA29-4609-A0F0-33AE7F7610A2}" type="datetime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OPRACOWANIE: D.BIAŁOWĄS_KBW OLSZTY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B3B5-E5F8-4F91-8F60-46221AA09A87}" type="slidenum"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52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5DAF-E18F-4417-8197-7EB55E9F3BD6}" type="datetime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53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OPRACOWANIE: D.BIAŁOWĄS_KBW OLSZTY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54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318D-01B3-46C0-9607-47643C260CC7}" type="slidenum"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 type="dt" idx="55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8793-66D5-4A62-9885-4FDA2C981696}" type="datetime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 type="ftr" idx="56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OPRACOWANIE: D.BIAŁOWĄS_KBW OLSZTY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 type="sldNum" idx="57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9670-749A-46C4-8813-03B3A1272EC9}" type="slidenum"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 type="dt" idx="58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5CA8-A0B9-4470-8D1F-F3240EDE9E31}" type="datetime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 type="ftr" idx="59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OPRACOWANIE: D.BIAŁOWĄS_KBW OLSZTY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 type="sldNum" idx="60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B09E-DF66-45DC-A489-EE72467D76BD}" type="slidenum"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 type="dt" idx="6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9FFD-7835-4369-8715-0F0ADA44EEA6}" type="datetime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 type="ftr" idx="6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34342"/>
                </a:solidFill>
                <a:latin typeface="Times New Roman"/>
              </a:rPr>
              <a:t>OPRACOWANIE: D.BIAŁOWĄS_KBW OLSZTY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 type="sldNum" idx="6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44BE-78DF-43BF-A54D-23651749309D}" type="slidenum">
              <a:rPr b="0" lang="pl-PL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dt" idx="6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F2E8-DB89-4B16-8BC7-29EF481DD39D}" type="datetime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ftr" idx="6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OPRACOWANIE: D.BIAŁOWĄS_KBW OLSZTY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sldNum" idx="6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9245-43F0-47DF-BD16-AD6ACE1C361F}" type="slidenum"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dt" idx="6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56B3-099F-4C92-8F40-D7096A1582D1}" type="datetime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 type="ftr" idx="6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OPRACOWANIE: D.BIAŁOWĄS_KBW OLSZTY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 type="sldNum" idx="6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EB25-B187-4428-BA36-4172CAB3D69B}" type="slidenum"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dt" idx="7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E55F-727E-47A1-829A-009F07C6DAF5}" type="datetime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 type="ftr" idx="7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OPRACOWANIE: D.BIAŁOWĄS_KBW OLSZTY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 type="sldNum" idx="7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2A9C-33E7-4498-9DC6-69750B315AE3}" type="slidenum"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Obraz 8" descr="Logo - 3109 - 1 stron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595520"/>
          </a:xfrm>
          <a:prstGeom prst="rect">
            <a:avLst/>
          </a:prstGeom>
          <a:ln w="0">
            <a:noFill/>
          </a:ln>
        </p:spPr>
      </p:pic>
      <p:pic>
        <p:nvPicPr>
          <p:cNvPr id="1087" name="Obraz 6" descr=""/>
          <p:cNvPicPr/>
          <p:nvPr/>
        </p:nvPicPr>
        <p:blipFill>
          <a:blip r:embed="rId3"/>
          <a:stretch/>
        </p:blipFill>
        <p:spPr>
          <a:xfrm>
            <a:off x="7885080" y="6313320"/>
            <a:ext cx="1185840" cy="500400"/>
          </a:xfrm>
          <a:prstGeom prst="rect">
            <a:avLst/>
          </a:prstGeom>
          <a:ln w="0">
            <a:noFill/>
          </a:ln>
        </p:spPr>
      </p:pic>
      <p:sp>
        <p:nvSpPr>
          <p:cNvPr id="1088" name="pole tekstowe 8"/>
          <p:cNvSpPr/>
          <p:nvPr/>
        </p:nvSpPr>
        <p:spPr>
          <a:xfrm>
            <a:off x="8516880" y="836640"/>
            <a:ext cx="576360" cy="368280"/>
          </a:xfrm>
          <a:prstGeom prst="rect">
            <a:avLst/>
          </a:prstGeom>
          <a:noFill/>
          <a:ln w="9360">
            <a:solidFill>
              <a:srgbClr val="9d0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97D4-BA29-4249-AEC7-BD9FD8328089}" type="slidenum">
              <a:rPr b="1" lang="pl-PL" sz="1800" spc="-1" strike="noStrike">
                <a:solidFill>
                  <a:srgbClr val="9d032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9" name="Obraz 8" descr="Logo - 3109 - 1 strona.jpg"/>
          <p:cNvPicPr/>
          <p:nvPr/>
        </p:nvPicPr>
        <p:blipFill>
          <a:blip r:embed="rId4"/>
          <a:stretch/>
        </p:blipFill>
        <p:spPr>
          <a:xfrm>
            <a:off x="0" y="0"/>
            <a:ext cx="9144000" cy="1595520"/>
          </a:xfrm>
          <a:prstGeom prst="rect">
            <a:avLst/>
          </a:prstGeom>
          <a:ln w="0">
            <a:noFill/>
          </a:ln>
        </p:spPr>
      </p:pic>
      <p:sp>
        <p:nvSpPr>
          <p:cNvPr id="1090" name="AutoShape 6"/>
          <p:cNvSpPr/>
          <p:nvPr/>
        </p:nvSpPr>
        <p:spPr>
          <a:xfrm>
            <a:off x="155520" y="233280"/>
            <a:ext cx="987264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1" name="Obraz 12" descr=""/>
          <p:cNvPicPr/>
          <p:nvPr/>
        </p:nvPicPr>
        <p:blipFill>
          <a:blip r:embed="rId5"/>
          <a:stretch/>
        </p:blipFill>
        <p:spPr>
          <a:xfrm>
            <a:off x="7885080" y="6313320"/>
            <a:ext cx="1185840" cy="500400"/>
          </a:xfrm>
          <a:prstGeom prst="rect">
            <a:avLst/>
          </a:prstGeom>
          <a:ln w="0">
            <a:noFill/>
          </a:ln>
        </p:spPr>
      </p:pic>
      <p:sp>
        <p:nvSpPr>
          <p:cNvPr id="109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6"/>
    <p:sldLayoutId id="2147483988" r:id="rId7"/>
    <p:sldLayoutId id="2147483989" r:id="rId8"/>
    <p:sldLayoutId id="2147483990" r:id="rId9"/>
    <p:sldLayoutId id="2147483991" r:id="rId10"/>
    <p:sldLayoutId id="2147483992" r:id="rId11"/>
    <p:sldLayoutId id="2147483993" r:id="rId12"/>
    <p:sldLayoutId id="2147483994" r:id="rId13"/>
    <p:sldLayoutId id="2147483995" r:id="rId14"/>
    <p:sldLayoutId id="2147483996" r:id="rId15"/>
    <p:sldLayoutId id="2147483997" r:id="rId16"/>
    <p:sldLayoutId id="2147483998" r:id="rId17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Obraz 8" descr="Logo - 3109 - 1 stron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595520"/>
          </a:xfrm>
          <a:prstGeom prst="rect">
            <a:avLst/>
          </a:prstGeom>
          <a:ln w="0">
            <a:noFill/>
          </a:ln>
        </p:spPr>
      </p:pic>
      <p:pic>
        <p:nvPicPr>
          <p:cNvPr id="1131" name="Obraz 6" descr=""/>
          <p:cNvPicPr/>
          <p:nvPr/>
        </p:nvPicPr>
        <p:blipFill>
          <a:blip r:embed="rId3"/>
          <a:stretch/>
        </p:blipFill>
        <p:spPr>
          <a:xfrm>
            <a:off x="7885080" y="6313320"/>
            <a:ext cx="1185840" cy="500400"/>
          </a:xfrm>
          <a:prstGeom prst="rect">
            <a:avLst/>
          </a:prstGeom>
          <a:ln w="0">
            <a:noFill/>
          </a:ln>
        </p:spPr>
      </p:pic>
      <p:sp>
        <p:nvSpPr>
          <p:cNvPr id="1132" name="pole tekstowe 8"/>
          <p:cNvSpPr/>
          <p:nvPr/>
        </p:nvSpPr>
        <p:spPr>
          <a:xfrm>
            <a:off x="8516880" y="836640"/>
            <a:ext cx="576360" cy="368280"/>
          </a:xfrm>
          <a:prstGeom prst="rect">
            <a:avLst/>
          </a:prstGeom>
          <a:noFill/>
          <a:ln w="9360">
            <a:solidFill>
              <a:srgbClr val="9d0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1189-0AB0-40D2-802F-004195B47BB3}" type="slidenum">
              <a:rPr b="1" lang="pl-PL" sz="1800" spc="-1" strike="noStrike">
                <a:solidFill>
                  <a:srgbClr val="9d032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Obraz 8" descr="Logo - 3109 - 1 strona.jpg"/>
          <p:cNvPicPr/>
          <p:nvPr/>
        </p:nvPicPr>
        <p:blipFill>
          <a:blip r:embed="rId4"/>
          <a:stretch/>
        </p:blipFill>
        <p:spPr>
          <a:xfrm>
            <a:off x="0" y="0"/>
            <a:ext cx="9144000" cy="1595520"/>
          </a:xfrm>
          <a:prstGeom prst="rect">
            <a:avLst/>
          </a:prstGeom>
          <a:ln w="0">
            <a:noFill/>
          </a:ln>
        </p:spPr>
      </p:pic>
      <p:sp>
        <p:nvSpPr>
          <p:cNvPr id="1134" name="AutoShape 6"/>
          <p:cNvSpPr/>
          <p:nvPr/>
        </p:nvSpPr>
        <p:spPr>
          <a:xfrm>
            <a:off x="155520" y="233280"/>
            <a:ext cx="987264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5" name="Obraz 12" descr=""/>
          <p:cNvPicPr/>
          <p:nvPr/>
        </p:nvPicPr>
        <p:blipFill>
          <a:blip r:embed="rId5"/>
          <a:stretch/>
        </p:blipFill>
        <p:spPr>
          <a:xfrm>
            <a:off x="7885080" y="6313320"/>
            <a:ext cx="1185840" cy="500400"/>
          </a:xfrm>
          <a:prstGeom prst="rect">
            <a:avLst/>
          </a:prstGeom>
          <a:ln w="0">
            <a:noFill/>
          </a:ln>
        </p:spPr>
      </p:pic>
      <p:sp>
        <p:nvSpPr>
          <p:cNvPr id="113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6"/>
    <p:sldLayoutId id="2147484001" r:id="rId7"/>
    <p:sldLayoutId id="2147484002" r:id="rId8"/>
    <p:sldLayoutId id="2147484003" r:id="rId9"/>
    <p:sldLayoutId id="2147484004" r:id="rId10"/>
    <p:sldLayoutId id="2147484005" r:id="rId11"/>
    <p:sldLayoutId id="2147484006" r:id="rId12"/>
    <p:sldLayoutId id="2147484007" r:id="rId13"/>
    <p:sldLayoutId id="2147484008" r:id="rId14"/>
    <p:sldLayoutId id="2147484009" r:id="rId15"/>
    <p:sldLayoutId id="2147484010" r:id="rId16"/>
    <p:sldLayoutId id="2147484011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az 8" descr="Logo - 3109 - 1 stron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5955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9" name="Obraz 6" descr=""/>
          <p:cNvPicPr/>
          <p:nvPr/>
        </p:nvPicPr>
        <p:blipFill>
          <a:blip r:embed="rId3"/>
          <a:stretch/>
        </p:blipFill>
        <p:spPr>
          <a:xfrm>
            <a:off x="7885080" y="6313320"/>
            <a:ext cx="1185840" cy="500400"/>
          </a:xfrm>
          <a:prstGeom prst="rect">
            <a:avLst/>
          </a:prstGeom>
          <a:ln w="0">
            <a:noFill/>
          </a:ln>
        </p:spPr>
      </p:pic>
      <p:sp>
        <p:nvSpPr>
          <p:cNvPr id="90" name="pole tekstowe 8"/>
          <p:cNvSpPr/>
          <p:nvPr/>
        </p:nvSpPr>
        <p:spPr>
          <a:xfrm>
            <a:off x="8516880" y="836640"/>
            <a:ext cx="576360" cy="368280"/>
          </a:xfrm>
          <a:prstGeom prst="rect">
            <a:avLst/>
          </a:prstGeom>
          <a:noFill/>
          <a:ln w="9360">
            <a:solidFill>
              <a:srgbClr val="9d0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1183-7554-45B3-8D6B-55D43391D95F}" type="slidenum">
              <a:rPr b="1" lang="pl-PL" sz="1800" spc="-1" strike="noStrike">
                <a:solidFill>
                  <a:srgbClr val="9d032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Obraz 8" descr="Logo - 3109 - 1 stron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5955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0" name="Obraz 6" descr=""/>
          <p:cNvPicPr/>
          <p:nvPr/>
        </p:nvPicPr>
        <p:blipFill>
          <a:blip r:embed="rId3"/>
          <a:stretch/>
        </p:blipFill>
        <p:spPr>
          <a:xfrm>
            <a:off x="7885080" y="6313320"/>
            <a:ext cx="1185840" cy="500400"/>
          </a:xfrm>
          <a:prstGeom prst="rect">
            <a:avLst/>
          </a:prstGeom>
          <a:ln w="0">
            <a:noFill/>
          </a:ln>
        </p:spPr>
      </p:pic>
      <p:sp>
        <p:nvSpPr>
          <p:cNvPr id="131" name="pole tekstowe 8"/>
          <p:cNvSpPr/>
          <p:nvPr/>
        </p:nvSpPr>
        <p:spPr>
          <a:xfrm>
            <a:off x="8516880" y="836640"/>
            <a:ext cx="576360" cy="368280"/>
          </a:xfrm>
          <a:prstGeom prst="rect">
            <a:avLst/>
          </a:prstGeom>
          <a:noFill/>
          <a:ln w="9360">
            <a:solidFill>
              <a:srgbClr val="9d0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AE51-0441-49BD-B20A-C6CF944445CD}" type="slidenum">
              <a:rPr b="1" lang="pl-PL" sz="1800" spc="-1" strike="noStrike">
                <a:solidFill>
                  <a:srgbClr val="9d032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BB7D-6FF8-426F-B08A-E292DBC6E812}" type="datetime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OPRACOWANIE: D.BIAŁOWĄS_KBW OLSZTY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DDAA-60D0-4EC8-868F-F30E2EF1AED8}" type="slidenum"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5421-6D66-4E77-BA34-D819EA25655A}" type="datetime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OPRACOWANIE: D.BIAŁOWĄS_KBW OLSZTY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3E7E-B7BD-4994-BDBB-03EE618E0740}" type="slidenum"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0474-B131-43A3-9662-BA0ED946FF79}" type="datetime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OPRACOWANIE: D.BIAŁOWĄS_KBW OLSZTY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CF21-7215-43A6-976B-EFA7B03679EC}" type="slidenum"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DD56-5352-4656-B8DF-BF8821B79A69}" type="datetime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17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OPRACOWANIE: D.BIAŁOWĄS_KBW OLSZTY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18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D832-0766-4D59-A213-A368AA8D3EA8}" type="slidenum"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19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5042-5767-42DC-8177-B3F58E4BB0A1}" type="datetime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0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OPRACOWANIE: D.BIAŁOWĄS_KBW OLSZTY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1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8E4B-6CE1-4C50-BD62-306FBDE53D04}" type="slidenum"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6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1" name="Obraz 8" descr="Logo - 3109 - 1 stron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595520"/>
          </a:xfrm>
          <a:prstGeom prst="rect">
            <a:avLst/>
          </a:prstGeom>
          <a:ln w="0">
            <a:noFill/>
          </a:ln>
        </p:spPr>
      </p:pic>
      <p:sp>
        <p:nvSpPr>
          <p:cNvPr id="1182" name="AutoShape 5"/>
          <p:cNvSpPr/>
          <p:nvPr/>
        </p:nvSpPr>
        <p:spPr>
          <a:xfrm>
            <a:off x="155520" y="-433440"/>
            <a:ext cx="771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3" name="Obraz 6" descr=""/>
          <p:cNvPicPr/>
          <p:nvPr/>
        </p:nvPicPr>
        <p:blipFill>
          <a:blip r:embed="rId2"/>
          <a:stretch/>
        </p:blipFill>
        <p:spPr>
          <a:xfrm>
            <a:off x="7885080" y="6313320"/>
            <a:ext cx="1185840" cy="500400"/>
          </a:xfrm>
          <a:prstGeom prst="rect">
            <a:avLst/>
          </a:prstGeom>
          <a:ln w="0">
            <a:noFill/>
          </a:ln>
        </p:spPr>
      </p:pic>
      <p:sp>
        <p:nvSpPr>
          <p:cNvPr id="1184" name="Prostokąt 2"/>
          <p:cNvSpPr/>
          <p:nvPr/>
        </p:nvSpPr>
        <p:spPr>
          <a:xfrm>
            <a:off x="392040" y="6083280"/>
            <a:ext cx="64818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9d032a"/>
                </a:solidFill>
                <a:latin typeface="Arial"/>
                <a:ea typeface="Arial"/>
              </a:rPr>
              <a:t>Opracowani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9d032a"/>
                </a:solidFill>
                <a:latin typeface="Arial"/>
                <a:ea typeface="Arial"/>
              </a:rPr>
              <a:t>© Krajowe Biuro Wyborcz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ole tekstowe 3"/>
          <p:cNvSpPr/>
          <p:nvPr/>
        </p:nvSpPr>
        <p:spPr>
          <a:xfrm>
            <a:off x="149400" y="2682720"/>
            <a:ext cx="880884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 Black"/>
                <a:ea typeface="Arial"/>
              </a:rPr>
              <a:t>Szkole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 Black"/>
                <a:ea typeface="Arial"/>
              </a:rPr>
              <a:t>członków obwodowych komisji wyborcz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 Black"/>
                <a:ea typeface="Arial"/>
              </a:rPr>
              <a:t>Część I - </a:t>
            </a:r>
            <a:r>
              <a:rPr b="1" i="1" lang="pl-PL" sz="2800" spc="-1" strike="noStrike">
                <a:solidFill>
                  <a:srgbClr val="000000"/>
                </a:solidFill>
                <a:latin typeface="Arial Black"/>
                <a:ea typeface="Arial"/>
              </a:rPr>
              <a:t>z zakresu praw i obowiązków oraz organizacji pracy członków obwodowych komisji wyborcz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d032a"/>
                </a:solidFill>
                <a:latin typeface="Arial"/>
                <a:ea typeface="Arial"/>
              </a:rPr>
              <a:t>wrzesień 2019 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Łącznik prostoliniowy 5"/>
          <p:cNvSpPr/>
          <p:nvPr/>
        </p:nvSpPr>
        <p:spPr>
          <a:xfrm>
            <a:off x="541440" y="2492280"/>
            <a:ext cx="8424720" cy="0"/>
          </a:xfrm>
          <a:prstGeom prst="line">
            <a:avLst/>
          </a:prstGeom>
          <a:ln w="284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7" name="pole tekstowe 8"/>
          <p:cNvGrpSpPr/>
          <p:nvPr/>
        </p:nvGrpSpPr>
        <p:grpSpPr>
          <a:xfrm>
            <a:off x="414360" y="573120"/>
            <a:ext cx="7736040" cy="1846080"/>
            <a:chOff x="414360" y="573120"/>
            <a:chExt cx="7736040" cy="1846080"/>
          </a:xfrm>
        </p:grpSpPr>
        <p:pic>
          <p:nvPicPr>
            <p:cNvPr id="1188" name="pole tekstowe 8" descr=""/>
            <p:cNvPicPr/>
            <p:nvPr/>
          </p:nvPicPr>
          <p:blipFill>
            <a:blip r:embed="rId3"/>
            <a:stretch/>
          </p:blipFill>
          <p:spPr>
            <a:xfrm>
              <a:off x="414360" y="573120"/>
              <a:ext cx="7736040" cy="18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9" name=""/>
            <p:cNvSpPr/>
            <p:nvPr/>
          </p:nvSpPr>
          <p:spPr>
            <a:xfrm>
              <a:off x="431640" y="590400"/>
              <a:ext cx="77043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90181b"/>
                  </a:solidFill>
                  <a:latin typeface="Arial Black"/>
                  <a:ea typeface="Arial"/>
                </a:rPr>
                <a:t>Wybory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90181b"/>
                  </a:solidFill>
                  <a:latin typeface="Arial Black"/>
                  <a:ea typeface="Arial"/>
                </a:rPr>
                <a:t>do Sejmu Rzeczypospolitej Polskiej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90181b"/>
                  </a:solidFill>
                  <a:latin typeface="Arial Black"/>
                  <a:ea typeface="Arial"/>
                </a:rPr>
                <a:t>i do Senatu Rzeczypospolitej Polskiej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90181b"/>
                  </a:solidFill>
                  <a:latin typeface="Arial Black"/>
                  <a:ea typeface="Arial"/>
                </a:rPr>
                <a:t>13 października 2019 r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rostokąt 5"/>
          <p:cNvSpPr/>
          <p:nvPr/>
        </p:nvSpPr>
        <p:spPr>
          <a:xfrm>
            <a:off x="250920" y="1484280"/>
            <a:ext cx="8208720" cy="32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ts val="25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chwała Państwowej Komisji Wyborczej z dnia 3 września 2018 r. w sprawie określenia wzoru i rozmiaru koperty na pakiet wyborczy, koperty zwrotnej, koperty na kartę do głosowania, oświadczenia o osobistym i tajnym oddaniu głosu oraz instrukcji głosowania korespondencyjnego (M.P. z 2018 r. poz. 966 i z 2019 r. poz. 37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lnSpc>
                <a:spcPts val="25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chwała Państwowej Komisji Wyborczej z dnia 27 sierpnia 2018 r. w sprawie sposobu postępowania z kopertami zwrotnymi i pakietami wyborczymi w głosowaniu korespondencyjnym (M.P. z 2018 r. poz. 909 i z 2019 r. poz. 37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6" name="Obraz 1" descr=""/>
          <p:cNvPicPr/>
          <p:nvPr/>
        </p:nvPicPr>
        <p:blipFill>
          <a:blip r:embed="rId1"/>
          <a:stretch/>
        </p:blipFill>
        <p:spPr>
          <a:xfrm>
            <a:off x="1258920" y="434880"/>
            <a:ext cx="1009440" cy="1006560"/>
          </a:xfrm>
          <a:prstGeom prst="rect">
            <a:avLst/>
          </a:prstGeom>
          <a:ln w="0">
            <a:noFill/>
          </a:ln>
        </p:spPr>
      </p:pic>
      <p:pic>
        <p:nvPicPr>
          <p:cNvPr id="1247" name="Obraz 2" descr="Envelope Icon Letter · Free vector graphic on Pixabay"/>
          <p:cNvPicPr/>
          <p:nvPr/>
        </p:nvPicPr>
        <p:blipFill>
          <a:blip r:embed="rId2"/>
          <a:srcRect l="0" t="0" r="13172" b="0"/>
          <a:stretch/>
        </p:blipFill>
        <p:spPr>
          <a:xfrm>
            <a:off x="4067280" y="4759200"/>
            <a:ext cx="1655640" cy="954360"/>
          </a:xfrm>
          <a:prstGeom prst="rect">
            <a:avLst/>
          </a:prstGeom>
          <a:ln w="0">
            <a:noFill/>
          </a:ln>
        </p:spPr>
      </p:pic>
      <p:pic>
        <p:nvPicPr>
          <p:cNvPr id="1248" name="Obraz 2" descr="Envelope Icon Letter · Free vector graphic on Pixabay"/>
          <p:cNvPicPr/>
          <p:nvPr/>
        </p:nvPicPr>
        <p:blipFill>
          <a:blip r:embed="rId3"/>
          <a:srcRect l="0" t="0" r="13172" b="0"/>
          <a:stretch/>
        </p:blipFill>
        <p:spPr>
          <a:xfrm>
            <a:off x="2843280" y="5084640"/>
            <a:ext cx="1655640" cy="954360"/>
          </a:xfrm>
          <a:prstGeom prst="rect">
            <a:avLst/>
          </a:prstGeom>
          <a:ln w="0">
            <a:noFill/>
          </a:ln>
        </p:spPr>
      </p:pic>
      <p:pic>
        <p:nvPicPr>
          <p:cNvPr id="1249" name="Picture 2" descr="http://www.eksperciwoswiacie.pl/gfx/oswiatainfo/pl/defaultaktualnosci/394/59/1/532053718.jpg"/>
          <p:cNvPicPr/>
          <p:nvPr/>
        </p:nvPicPr>
        <p:blipFill>
          <a:blip r:embed="rId4"/>
          <a:stretch/>
        </p:blipFill>
        <p:spPr>
          <a:xfrm>
            <a:off x="6227640" y="4446720"/>
            <a:ext cx="1584360" cy="1685880"/>
          </a:xfrm>
          <a:prstGeom prst="rect">
            <a:avLst/>
          </a:prstGeom>
          <a:ln w="0">
            <a:noFill/>
          </a:ln>
        </p:spPr>
      </p:pic>
      <p:sp>
        <p:nvSpPr>
          <p:cNvPr id="1250" name="pole tekstowe 3"/>
          <p:cNvSpPr/>
          <p:nvPr/>
        </p:nvSpPr>
        <p:spPr>
          <a:xfrm>
            <a:off x="2050920" y="382680"/>
            <a:ext cx="51865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d032a"/>
                </a:solidFill>
                <a:latin typeface="Arial Black"/>
              </a:rPr>
              <a:t>Podstawa praw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9d032a"/>
                </a:solidFill>
                <a:latin typeface="Arial Black"/>
              </a:rPr>
              <a:t>określająca sposób realizacji zada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Obraz 8" descr="Logo - 3109 - 1 stron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1252" name="AutoShape 6"/>
          <p:cNvSpPr/>
          <p:nvPr/>
        </p:nvSpPr>
        <p:spPr>
          <a:xfrm>
            <a:off x="155520" y="233280"/>
            <a:ext cx="987264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ole tekstowe 8"/>
          <p:cNvSpPr/>
          <p:nvPr/>
        </p:nvSpPr>
        <p:spPr>
          <a:xfrm>
            <a:off x="8516880" y="836640"/>
            <a:ext cx="576360" cy="368280"/>
          </a:xfrm>
          <a:prstGeom prst="rect">
            <a:avLst/>
          </a:prstGeom>
          <a:noFill/>
          <a:ln w="9360">
            <a:solidFill>
              <a:srgbClr val="9d0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5CF1-3986-4945-9269-8BE60E850377}" type="slidenum">
              <a:rPr b="1" lang="pl-PL" sz="1800" spc="-1" strike="noStrike">
                <a:solidFill>
                  <a:srgbClr val="9d032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4" name="Obraz 6" descr=""/>
          <p:cNvPicPr/>
          <p:nvPr/>
        </p:nvPicPr>
        <p:blipFill>
          <a:blip r:embed="rId2"/>
          <a:stretch/>
        </p:blipFill>
        <p:spPr>
          <a:xfrm>
            <a:off x="7885080" y="6313320"/>
            <a:ext cx="1185840" cy="500400"/>
          </a:xfrm>
          <a:prstGeom prst="rect">
            <a:avLst/>
          </a:prstGeom>
          <a:ln w="0">
            <a:noFill/>
          </a:ln>
        </p:spPr>
      </p:pic>
      <p:sp>
        <p:nvSpPr>
          <p:cNvPr id="1255" name="Prostokąt 1"/>
          <p:cNvSpPr/>
          <p:nvPr/>
        </p:nvSpPr>
        <p:spPr>
          <a:xfrm>
            <a:off x="108000" y="1413000"/>
            <a:ext cx="8962920" cy="51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Uchwała nr 87/2019 Państwowej Komisji Wyborczej z dnia 12 sierpnia 2019 r.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 sprawie warunków oraz sposobu pomocniczego wykorzystania techniki elektronicznej w wyborach do Sejmu Rzeczypospolitej Polskiej i do Senatu Rzeczypospolitej Polskiej zarządzonych na dzień 13 października 2019r. (M.P. poz. 78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ytyczne dla obwodowych komisji wyborczych dotyczące sprawdzenia w systemie informatycznym zgodności arytmetycznej danych zawartych w projektach protokołów głosowania i w protokołach głosowania w wyborach do Sejmu Rzeczypospolitej Polskiej i do Senatu Rzeczypospolitej Polskiej zarządzonych na dzień 13 października 2019 r.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będące załącznikiem do uchwały nr 88/2019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aństwowej Komisji Wyborczej z dnia 12 sierpnia 2019 r. (M.P. poz. 790)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Uchwała nr 159/2019 Państwowej Komisji Wyborczej z dnia 26 sierpnia 2019r.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 sprawie trybu i sposobu przekazywania danych o liczbie osób ujętych w spisach wyborców oraz liczbie wyborców, którym wydano karty do głosowania w stałych obwodach głosowania utworzonych w kraju w wyborach do Sejmu Rzeczypospolitej Polskiej i do Senatu Rzeczypospolitej Polskiej zarządzonych na dzień 13 października 2019r. (M.P. poz. 85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ole tekstowe 3"/>
          <p:cNvSpPr/>
          <p:nvPr/>
        </p:nvSpPr>
        <p:spPr>
          <a:xfrm>
            <a:off x="1258920" y="189000"/>
            <a:ext cx="51861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d032a"/>
                </a:solidFill>
                <a:latin typeface="Arial Black"/>
              </a:rPr>
              <a:t>Podstawa praw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9d032a"/>
                </a:solidFill>
                <a:latin typeface="Arial Black"/>
              </a:rPr>
              <a:t>określająca sposób realizacji zada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rostokąt zaokrąglony 2"/>
          <p:cNvSpPr/>
          <p:nvPr/>
        </p:nvSpPr>
        <p:spPr>
          <a:xfrm flipV="1">
            <a:off x="395280" y="835560"/>
            <a:ext cx="7561440" cy="576360"/>
          </a:xfrm>
          <a:prstGeom prst="roundRect">
            <a:avLst>
              <a:gd name="adj" fmla="val 16667"/>
            </a:avLst>
          </a:prstGeom>
          <a:solidFill>
            <a:srgbClr val="cdd7d9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8" name="Obraz 8" descr="Logo - 3109 - 1 stron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595520"/>
          </a:xfrm>
          <a:prstGeom prst="rect">
            <a:avLst/>
          </a:prstGeom>
          <a:ln w="0">
            <a:noFill/>
          </a:ln>
        </p:spPr>
      </p:pic>
      <p:sp>
        <p:nvSpPr>
          <p:cNvPr id="1259" name="AutoShape 6"/>
          <p:cNvSpPr/>
          <p:nvPr/>
        </p:nvSpPr>
        <p:spPr>
          <a:xfrm>
            <a:off x="179280" y="260280"/>
            <a:ext cx="987264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ole tekstowe 8"/>
          <p:cNvSpPr/>
          <p:nvPr/>
        </p:nvSpPr>
        <p:spPr>
          <a:xfrm>
            <a:off x="8516880" y="836640"/>
            <a:ext cx="576360" cy="368280"/>
          </a:xfrm>
          <a:prstGeom prst="rect">
            <a:avLst/>
          </a:prstGeom>
          <a:noFill/>
          <a:ln w="9360">
            <a:solidFill>
              <a:srgbClr val="9d0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8A49-17B5-4C2A-BFB4-725BAE3D270D}" type="slidenum">
              <a:rPr b="1" lang="pl-PL" sz="1800" spc="-1" strike="noStrike">
                <a:solidFill>
                  <a:srgbClr val="9d032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1" name="Obraz 6" descr=""/>
          <p:cNvPicPr/>
          <p:nvPr/>
        </p:nvPicPr>
        <p:blipFill>
          <a:blip r:embed="rId2"/>
          <a:stretch/>
        </p:blipFill>
        <p:spPr>
          <a:xfrm>
            <a:off x="7667640" y="6165720"/>
            <a:ext cx="1332000" cy="500040"/>
          </a:xfrm>
          <a:prstGeom prst="rect">
            <a:avLst/>
          </a:prstGeom>
          <a:ln w="0">
            <a:noFill/>
          </a:ln>
        </p:spPr>
      </p:pic>
      <p:sp>
        <p:nvSpPr>
          <p:cNvPr id="1262" name="pole tekstowe 5"/>
          <p:cNvSpPr/>
          <p:nvPr/>
        </p:nvSpPr>
        <p:spPr>
          <a:xfrm>
            <a:off x="1397160" y="592200"/>
            <a:ext cx="59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d032a"/>
                </a:solidFill>
                <a:latin typeface="Arial Black"/>
              </a:rPr>
              <a:t>ZADANIA OK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ole tekstowe 1"/>
          <p:cNvSpPr/>
          <p:nvPr/>
        </p:nvSpPr>
        <p:spPr>
          <a:xfrm>
            <a:off x="250920" y="1197000"/>
            <a:ext cx="820872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eprowadzenie głosowania w obwodzi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Aft>
                <a:spcPts val="6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zuwanie w dniu wyborów nad przestrzeganiem prawa wyborczego w miejscu i czasie głosowan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Aft>
                <a:spcPts val="6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stalenie wyników głosowania w obwodzie i podanie ich do publicznej wiadomośc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Aft>
                <a:spcPts val="6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esłanie wyników głosowania do okręgowej komisji wyborcz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Aft>
                <a:spcPts val="6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Inne czynności określone w Kodeksie wyborczym, w ty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a/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gotowanie pakietu wyborczego na wniosek wyborcy niepełnosprawneg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b/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prawdzenie przygotowania lokalu wyborczeg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/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dbiór i zabezpieczenie kart do głosowania, formularzy protokoł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pisu wyborców, pieczęci komisji, obwieszczeń i innych materiał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/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ekazanie urzędnikowi wyborczemu dokumentów z pracy Komisji   i pieczęci Komis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4" name="Obraz 8" descr="Logo - 3109 - 1 stron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595520"/>
          </a:xfrm>
          <a:prstGeom prst="rect">
            <a:avLst/>
          </a:prstGeom>
          <a:ln w="0">
            <a:noFill/>
          </a:ln>
        </p:spPr>
      </p:pic>
      <p:sp>
        <p:nvSpPr>
          <p:cNvPr id="1265" name="AutoShape 4"/>
          <p:cNvSpPr/>
          <p:nvPr/>
        </p:nvSpPr>
        <p:spPr>
          <a:xfrm>
            <a:off x="307800" y="-1638360"/>
            <a:ext cx="30672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AutoShape 6"/>
          <p:cNvSpPr/>
          <p:nvPr/>
        </p:nvSpPr>
        <p:spPr>
          <a:xfrm>
            <a:off x="155520" y="233280"/>
            <a:ext cx="987264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ole tekstowe 8"/>
          <p:cNvSpPr/>
          <p:nvPr/>
        </p:nvSpPr>
        <p:spPr>
          <a:xfrm>
            <a:off x="8516880" y="836640"/>
            <a:ext cx="576360" cy="368280"/>
          </a:xfrm>
          <a:prstGeom prst="rect">
            <a:avLst/>
          </a:prstGeom>
          <a:noFill/>
          <a:ln w="9360">
            <a:solidFill>
              <a:srgbClr val="9d0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4A5E-B09F-4F57-A60C-9686DA0642CE}" type="slidenum">
              <a:rPr b="1" lang="pl-PL" sz="1800" spc="-1" strike="noStrike">
                <a:solidFill>
                  <a:srgbClr val="9d032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8" name="Obraz 6" descr=""/>
          <p:cNvPicPr/>
          <p:nvPr/>
        </p:nvPicPr>
        <p:blipFill>
          <a:blip r:embed="rId2"/>
          <a:stretch/>
        </p:blipFill>
        <p:spPr>
          <a:xfrm>
            <a:off x="7885080" y="6313320"/>
            <a:ext cx="1185840" cy="500400"/>
          </a:xfrm>
          <a:prstGeom prst="rect">
            <a:avLst/>
          </a:prstGeom>
          <a:ln w="0">
            <a:noFill/>
          </a:ln>
        </p:spPr>
      </p:pic>
      <p:sp>
        <p:nvSpPr>
          <p:cNvPr id="1269" name=""/>
          <p:cNvSpPr txBox="1"/>
          <p:nvPr/>
        </p:nvSpPr>
        <p:spPr>
          <a:xfrm>
            <a:off x="394920" y="1484280"/>
            <a:ext cx="81421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złonkowie OKW mają obowiązek  uczestniczenia w posiedzeniach, szkoleniach i innych pracach OKW, w szczególności                            w przeprowadzeniu głosowania i ustaleniu wyników głosowania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KW podejmuje rozstrzygnięcia w obecności co najmniej połowy swego składu, w tym przewodniczącego lub jego zastępcy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d chwili rozpoczęcia głosowania aż do ustalenia wyników głosowania w obwodzie w lokalu wyborczym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muszą być równocześnie obecni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złonkowie OKW w liczbie stanowiącej co najmniej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2/3 jej pełnego składu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, w tym przewodniczący OKW lub jego zastępca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KW podejmuje rozstrzygnięcia większością głosów - w razie równej liczby rozstrzyga głos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przewodniczącego posiedzenia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ozstrzygnięcia OKW mogą mieć formę odrębnych uchwał lub wpisów do protokołu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ole tekstowe 5"/>
          <p:cNvSpPr/>
          <p:nvPr/>
        </p:nvSpPr>
        <p:spPr>
          <a:xfrm>
            <a:off x="1187280" y="758880"/>
            <a:ext cx="60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d032a"/>
                </a:solidFill>
                <a:latin typeface="Arial Black"/>
              </a:rPr>
              <a:t>ORGANIZACJA I TRYB PRACY OK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ole tekstowe 9"/>
          <p:cNvSpPr/>
          <p:nvPr/>
        </p:nvSpPr>
        <p:spPr>
          <a:xfrm>
            <a:off x="3459240" y="981000"/>
            <a:ext cx="8539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2" name="Picture 15" descr=""/>
          <p:cNvPicPr/>
          <p:nvPr/>
        </p:nvPicPr>
        <p:blipFill>
          <a:blip r:embed="rId1"/>
          <a:srcRect l="0" t="0" r="12913" b="0"/>
          <a:stretch/>
        </p:blipFill>
        <p:spPr>
          <a:xfrm>
            <a:off x="8083440" y="4941720"/>
            <a:ext cx="1025640" cy="1322640"/>
          </a:xfrm>
          <a:prstGeom prst="rect">
            <a:avLst/>
          </a:prstGeom>
          <a:ln w="0">
            <a:noFill/>
          </a:ln>
        </p:spPr>
      </p:pic>
      <p:pic>
        <p:nvPicPr>
          <p:cNvPr id="1273" name="Obraz 8" descr="Logo - 3109 - 1 stron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595520"/>
          </a:xfrm>
          <a:prstGeom prst="rect">
            <a:avLst/>
          </a:prstGeom>
          <a:ln w="0">
            <a:noFill/>
          </a:ln>
        </p:spPr>
      </p:pic>
      <p:sp>
        <p:nvSpPr>
          <p:cNvPr id="1274" name="AutoShape 4"/>
          <p:cNvSpPr/>
          <p:nvPr/>
        </p:nvSpPr>
        <p:spPr>
          <a:xfrm>
            <a:off x="307800" y="-1638360"/>
            <a:ext cx="30672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AutoShape 6"/>
          <p:cNvSpPr/>
          <p:nvPr/>
        </p:nvSpPr>
        <p:spPr>
          <a:xfrm>
            <a:off x="155520" y="233280"/>
            <a:ext cx="987264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ole tekstowe 8"/>
          <p:cNvSpPr/>
          <p:nvPr/>
        </p:nvSpPr>
        <p:spPr>
          <a:xfrm>
            <a:off x="8516880" y="836640"/>
            <a:ext cx="576360" cy="368280"/>
          </a:xfrm>
          <a:prstGeom prst="rect">
            <a:avLst/>
          </a:prstGeom>
          <a:noFill/>
          <a:ln w="9360">
            <a:solidFill>
              <a:srgbClr val="9d0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62DE-E668-4BF6-BAEA-1B06C5331BD5}" type="slidenum">
              <a:rPr b="1" lang="pl-PL" sz="1800" spc="-1" strike="noStrike">
                <a:solidFill>
                  <a:srgbClr val="9d032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7" name="Obraz 6" descr=""/>
          <p:cNvPicPr/>
          <p:nvPr/>
        </p:nvPicPr>
        <p:blipFill>
          <a:blip r:embed="rId3"/>
          <a:stretch/>
        </p:blipFill>
        <p:spPr>
          <a:xfrm>
            <a:off x="7885080" y="6313320"/>
            <a:ext cx="1185840" cy="500400"/>
          </a:xfrm>
          <a:prstGeom prst="rect">
            <a:avLst/>
          </a:prstGeom>
          <a:ln w="0">
            <a:noFill/>
          </a:ln>
        </p:spPr>
      </p:pic>
      <p:sp>
        <p:nvSpPr>
          <p:cNvPr id="1278" name=""/>
          <p:cNvSpPr txBox="1"/>
          <p:nvPr/>
        </p:nvSpPr>
        <p:spPr>
          <a:xfrm>
            <a:off x="285840" y="1483920"/>
            <a:ext cx="78501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1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 posiedzenia OKW sporządza się protokół, w którym podaje się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a/ porządek obrad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b/ imiona i nazwiska uczestników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/ podjęte rozstrzygnięcia i ustaleni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7)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o protokołu dołącza się podjęte uchwały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2999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Uchwały OKW, protokoły głosowania, zaświadczenia dla członków OKW usprawiedliwiające nieobecność w pracy      i inne dokumenty OKW zgodnie z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uchwałą nr 210/2019 PKW -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ytycznymi PKW oraz karty do głosowania </a:t>
            </a:r>
            <a:r>
              <a:rPr b="1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opatrywane są pieczęcią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obwodowej komisji wyborczej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ole tekstowe 5"/>
          <p:cNvSpPr/>
          <p:nvPr/>
        </p:nvSpPr>
        <p:spPr>
          <a:xfrm>
            <a:off x="1163520" y="806400"/>
            <a:ext cx="60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d032a"/>
                </a:solidFill>
                <a:latin typeface="Arial Black"/>
              </a:rPr>
              <a:t>ORGANIZACJA I TRYB PRACY OK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0" name="Obraz 9" descr="Document &lt;strong&gt;Paper&lt;/strong&gt; Contract · Free vector graphic on Pixabay"/>
          <p:cNvPicPr/>
          <p:nvPr/>
        </p:nvPicPr>
        <p:blipFill>
          <a:blip r:embed="rId4"/>
          <a:stretch/>
        </p:blipFill>
        <p:spPr>
          <a:xfrm>
            <a:off x="6300720" y="1916280"/>
            <a:ext cx="14176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1" name="Obraz 8" descr="Logo - 3109 - 1 stron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595520"/>
          </a:xfrm>
          <a:prstGeom prst="rect">
            <a:avLst/>
          </a:prstGeom>
          <a:ln w="0">
            <a:noFill/>
          </a:ln>
        </p:spPr>
      </p:pic>
      <p:sp>
        <p:nvSpPr>
          <p:cNvPr id="1282" name="AutoShape 4"/>
          <p:cNvSpPr/>
          <p:nvPr/>
        </p:nvSpPr>
        <p:spPr>
          <a:xfrm>
            <a:off x="307800" y="-1638360"/>
            <a:ext cx="30672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AutoShape 6"/>
          <p:cNvSpPr/>
          <p:nvPr/>
        </p:nvSpPr>
        <p:spPr>
          <a:xfrm>
            <a:off x="155520" y="233280"/>
            <a:ext cx="987264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ole tekstowe 8"/>
          <p:cNvSpPr/>
          <p:nvPr/>
        </p:nvSpPr>
        <p:spPr>
          <a:xfrm>
            <a:off x="8516880" y="836640"/>
            <a:ext cx="576360" cy="368280"/>
          </a:xfrm>
          <a:prstGeom prst="rect">
            <a:avLst/>
          </a:prstGeom>
          <a:noFill/>
          <a:ln w="9360">
            <a:solidFill>
              <a:srgbClr val="9d0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DB06-9DAD-4855-8571-88A82CB9467F}" type="slidenum">
              <a:rPr b="1" lang="pl-PL" sz="1800" spc="-1" strike="noStrike">
                <a:solidFill>
                  <a:srgbClr val="9d032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5" name="Obraz 6" descr=""/>
          <p:cNvPicPr/>
          <p:nvPr/>
        </p:nvPicPr>
        <p:blipFill>
          <a:blip r:embed="rId2"/>
          <a:stretch/>
        </p:blipFill>
        <p:spPr>
          <a:xfrm>
            <a:off x="7885080" y="6313320"/>
            <a:ext cx="1185840" cy="500400"/>
          </a:xfrm>
          <a:prstGeom prst="rect">
            <a:avLst/>
          </a:prstGeom>
          <a:ln w="0">
            <a:noFill/>
          </a:ln>
        </p:spPr>
      </p:pic>
      <p:sp>
        <p:nvSpPr>
          <p:cNvPr id="1286" name=""/>
          <p:cNvSpPr txBox="1"/>
          <p:nvPr/>
        </p:nvSpPr>
        <p:spPr>
          <a:xfrm>
            <a:off x="503280" y="1531440"/>
            <a:ext cx="8137440" cy="338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Uchwały komisji lub zarządzenia jej przewodniczącego, dotyczące przebiegu głosowania bądź ustalenia jego wyników, wpisuje się do protokołu głosowania w obwodzi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ts val="2398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 razie braku miejsca na formularzu, dołącza się je jako załączniki do protokołu głosowania, a w odpowiednim punkcie tego protokołu wpisuje się informację o sporządzeniu załącznik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ole tekstowe 5"/>
          <p:cNvSpPr/>
          <p:nvPr/>
        </p:nvSpPr>
        <p:spPr>
          <a:xfrm>
            <a:off x="1332000" y="662040"/>
            <a:ext cx="609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d032a"/>
                </a:solidFill>
                <a:latin typeface="Arial Black"/>
              </a:rPr>
              <a:t>DOKUMENTOWANIE PRACY OKW W PROTOKOLE GŁOSOW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ole tekstowe 9"/>
          <p:cNvSpPr/>
          <p:nvPr/>
        </p:nvSpPr>
        <p:spPr>
          <a:xfrm>
            <a:off x="3459240" y="981000"/>
            <a:ext cx="8539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9" name="Obraz 9" descr="Document &lt;strong&gt;Paper&lt;/strong&gt; Contract · Free vector graphic on Pixabay"/>
          <p:cNvPicPr/>
          <p:nvPr/>
        </p:nvPicPr>
        <p:blipFill>
          <a:blip r:embed="rId3"/>
          <a:stretch/>
        </p:blipFill>
        <p:spPr>
          <a:xfrm rot="18228000">
            <a:off x="1692720" y="4663080"/>
            <a:ext cx="1417680" cy="1800000"/>
          </a:xfrm>
          <a:prstGeom prst="rect">
            <a:avLst/>
          </a:prstGeom>
          <a:ln w="0">
            <a:noFill/>
          </a:ln>
        </p:spPr>
      </p:pic>
      <p:pic>
        <p:nvPicPr>
          <p:cNvPr id="1290" name="Obraz 4" descr="Free vector graphic: Pen, Biro, Writing, Ballpoint Pen ..."/>
          <p:cNvPicPr/>
          <p:nvPr/>
        </p:nvPicPr>
        <p:blipFill>
          <a:blip r:embed="rId4"/>
          <a:stretch/>
        </p:blipFill>
        <p:spPr>
          <a:xfrm rot="20763000">
            <a:off x="2341440" y="4863960"/>
            <a:ext cx="1495440" cy="13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Obraz 8" descr="Logo - 3109 - 1 stron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595520"/>
          </a:xfrm>
          <a:prstGeom prst="rect">
            <a:avLst/>
          </a:prstGeom>
          <a:ln w="0">
            <a:noFill/>
          </a:ln>
        </p:spPr>
      </p:pic>
      <p:sp>
        <p:nvSpPr>
          <p:cNvPr id="1292" name="AutoShape 4"/>
          <p:cNvSpPr/>
          <p:nvPr/>
        </p:nvSpPr>
        <p:spPr>
          <a:xfrm>
            <a:off x="307800" y="-1638360"/>
            <a:ext cx="30672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AutoShape 6"/>
          <p:cNvSpPr/>
          <p:nvPr/>
        </p:nvSpPr>
        <p:spPr>
          <a:xfrm>
            <a:off x="155520" y="233280"/>
            <a:ext cx="987264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ole tekstowe 8"/>
          <p:cNvSpPr/>
          <p:nvPr/>
        </p:nvSpPr>
        <p:spPr>
          <a:xfrm>
            <a:off x="8516880" y="836640"/>
            <a:ext cx="576360" cy="368280"/>
          </a:xfrm>
          <a:prstGeom prst="rect">
            <a:avLst/>
          </a:prstGeom>
          <a:noFill/>
          <a:ln w="9360">
            <a:solidFill>
              <a:srgbClr val="9d0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28C1-209A-40D2-96AD-5D26019EC6A9}" type="slidenum">
              <a:rPr b="1" lang="pl-PL" sz="1800" spc="-1" strike="noStrike">
                <a:solidFill>
                  <a:srgbClr val="9d032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5" name="Obraz 6" descr=""/>
          <p:cNvPicPr/>
          <p:nvPr/>
        </p:nvPicPr>
        <p:blipFill>
          <a:blip r:embed="rId2"/>
          <a:stretch/>
        </p:blipFill>
        <p:spPr>
          <a:xfrm>
            <a:off x="7885080" y="6313320"/>
            <a:ext cx="1185840" cy="500400"/>
          </a:xfrm>
          <a:prstGeom prst="rect">
            <a:avLst/>
          </a:prstGeom>
          <a:ln w="0">
            <a:noFill/>
          </a:ln>
        </p:spPr>
      </p:pic>
      <p:sp>
        <p:nvSpPr>
          <p:cNvPr id="1296" name=""/>
          <p:cNvSpPr txBox="1"/>
          <p:nvPr/>
        </p:nvSpPr>
        <p:spPr>
          <a:xfrm>
            <a:off x="411120" y="1485720"/>
            <a:ext cx="8337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ts val="2398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W punkcie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protokołu głosowania w obwodzie na listy kandydatów na posłów i protokołu głosowania w obwodzie na kandydatów na senatora odnotowuje się (jeśli wystąpią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398"/>
              </a:lnSpc>
              <a:spcAft>
                <a:spcPts val="601"/>
              </a:spcAft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66ff"/>
                </a:solidFill>
                <a:uFillTx/>
                <a:latin typeface="Arial"/>
              </a:rPr>
              <a:t>przypadki zakłócenia głosowania</a:t>
            </a:r>
            <a:r>
              <a:rPr b="1" lang="pl-PL" sz="1600" spc="-1" strike="noStrike">
                <a:solidFill>
                  <a:srgbClr val="0066ff"/>
                </a:solidFill>
                <a:latin typeface="Arial"/>
              </a:rPr>
              <a:t> przez wyborców – OKW opisuje w protokole przebieg zdarzenia - </a:t>
            </a:r>
            <a:r>
              <a:rPr b="1" i="1" lang="pl-PL" sz="1600" spc="-1" strike="noStrike">
                <a:solidFill>
                  <a:srgbClr val="0066ff"/>
                </a:solidFill>
                <a:latin typeface="Arial"/>
              </a:rPr>
              <a:t>pkt 2 Wytycznych PKW</a:t>
            </a:r>
            <a:r>
              <a:rPr b="1" lang="pl-PL" sz="1600" spc="-1" strike="noStrike">
                <a:solidFill>
                  <a:srgbClr val="0066ff"/>
                </a:solidFill>
                <a:latin typeface="Arial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398"/>
              </a:lnSpc>
              <a:spcAft>
                <a:spcPts val="601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33cc"/>
                </a:solidFill>
                <a:latin typeface="Arial"/>
              </a:rPr>
              <a:t>wydane przez przewodniczącego OKW </a:t>
            </a:r>
            <a:r>
              <a:rPr b="1" lang="pl-PL" sz="1600" spc="-1" strike="noStrike" u="sng">
                <a:solidFill>
                  <a:srgbClr val="3333cc"/>
                </a:solidFill>
                <a:uFillTx/>
                <a:latin typeface="Arial"/>
              </a:rPr>
              <a:t>polecenia o charakterze porządkowym</a:t>
            </a:r>
            <a:r>
              <a:rPr b="1" lang="pl-PL" sz="1600" spc="-1" strike="noStrike">
                <a:solidFill>
                  <a:srgbClr val="3333cc"/>
                </a:solidFill>
                <a:latin typeface="Arial"/>
              </a:rPr>
              <a:t> w związku z działaniami mężów zaufania lub obserwatorów społecznych i międzynarodowych przekraczającymi ich uprawnienia, utrudniającymi pracę OKW, zakłócającymi powagę głosowania lub naruszającymi jego tajność - </a:t>
            </a:r>
            <a:r>
              <a:rPr b="1" i="1" lang="pl-PL" sz="1600" spc="-1" strike="noStrike">
                <a:solidFill>
                  <a:srgbClr val="3333cc"/>
                </a:solidFill>
                <a:latin typeface="Arial"/>
              </a:rPr>
              <a:t>pkt 12 Wytycznych PKW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398"/>
              </a:lnSpc>
              <a:spcAft>
                <a:spcPts val="601"/>
              </a:spcAft>
              <a:buClr>
                <a:srgbClr val="66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6600ff"/>
                </a:solidFill>
                <a:uFillTx/>
                <a:latin typeface="Arial"/>
              </a:rPr>
              <a:t> </a:t>
            </a:r>
            <a:r>
              <a:rPr b="1" lang="pl-PL" sz="1600" spc="-1" strike="noStrike" u="sng">
                <a:solidFill>
                  <a:srgbClr val="6600ff"/>
                </a:solidFill>
                <a:uFillTx/>
                <a:latin typeface="Arial"/>
              </a:rPr>
              <a:t>przypadki otwarcia urny wyborczej</a:t>
            </a:r>
            <a:r>
              <a:rPr b="1" lang="pl-PL" sz="1600" spc="-1" strike="noStrike">
                <a:solidFill>
                  <a:srgbClr val="6600ff"/>
                </a:solidFill>
                <a:latin typeface="Arial"/>
              </a:rPr>
              <a:t> w trakcie głosowania lub po zakończeniu głosowania a przed rozpoczęciem ustalenia wyników głosowania - OKW opisuje zdarzenie i wyjaśnia jego przyczynę - </a:t>
            </a:r>
            <a:r>
              <a:rPr b="1" i="1" lang="pl-PL" sz="1600" spc="-1" strike="noStrike">
                <a:solidFill>
                  <a:srgbClr val="6600ff"/>
                </a:solidFill>
                <a:latin typeface="Arial"/>
              </a:rPr>
              <a:t>pkt 35 Wytycznych PKW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398"/>
              </a:lnSpc>
              <a:spcAft>
                <a:spcPts val="601"/>
              </a:spcAft>
              <a:buClr>
                <a:srgbClr val="66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ole tekstowe 5"/>
          <p:cNvSpPr/>
          <p:nvPr/>
        </p:nvSpPr>
        <p:spPr>
          <a:xfrm>
            <a:off x="1332000" y="604800"/>
            <a:ext cx="609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d032a"/>
                </a:solidFill>
                <a:latin typeface="Arial Black"/>
              </a:rPr>
              <a:t>DOKUMENTOWANIE PRACY OKW W PROTOKOLE GŁOSOW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8" name="Obraz 7" descr="REFERENDUM 2015 - Policjant.png"/>
          <p:cNvPicPr/>
          <p:nvPr/>
        </p:nvPicPr>
        <p:blipFill>
          <a:blip r:embed="rId1"/>
          <a:srcRect l="0" t="0" r="16060" b="0"/>
          <a:stretch/>
        </p:blipFill>
        <p:spPr>
          <a:xfrm>
            <a:off x="7647120" y="1598760"/>
            <a:ext cx="1245960" cy="2209680"/>
          </a:xfrm>
          <a:prstGeom prst="rect">
            <a:avLst/>
          </a:prstGeom>
          <a:ln w="0">
            <a:noFill/>
          </a:ln>
        </p:spPr>
      </p:pic>
      <p:pic>
        <p:nvPicPr>
          <p:cNvPr id="1299" name="Obraz 8" descr="Logo - 3109 - 1 stron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595520"/>
          </a:xfrm>
          <a:prstGeom prst="rect">
            <a:avLst/>
          </a:prstGeom>
          <a:ln w="0">
            <a:noFill/>
          </a:ln>
        </p:spPr>
      </p:pic>
      <p:sp>
        <p:nvSpPr>
          <p:cNvPr id="1300" name="AutoShape 4"/>
          <p:cNvSpPr/>
          <p:nvPr/>
        </p:nvSpPr>
        <p:spPr>
          <a:xfrm>
            <a:off x="307800" y="-1638360"/>
            <a:ext cx="30672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AutoShape 6"/>
          <p:cNvSpPr/>
          <p:nvPr/>
        </p:nvSpPr>
        <p:spPr>
          <a:xfrm>
            <a:off x="155520" y="233280"/>
            <a:ext cx="987264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ole tekstowe 8"/>
          <p:cNvSpPr/>
          <p:nvPr/>
        </p:nvSpPr>
        <p:spPr>
          <a:xfrm>
            <a:off x="8516880" y="836640"/>
            <a:ext cx="576360" cy="368280"/>
          </a:xfrm>
          <a:prstGeom prst="rect">
            <a:avLst/>
          </a:prstGeom>
          <a:noFill/>
          <a:ln w="9360">
            <a:solidFill>
              <a:srgbClr val="9d0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7E58-247D-49B5-A3CE-C9AF6B42DE47}" type="slidenum">
              <a:rPr b="1" lang="pl-PL" sz="1800" spc="-1" strike="noStrike">
                <a:solidFill>
                  <a:srgbClr val="9d032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3" name="Obraz 6" descr=""/>
          <p:cNvPicPr/>
          <p:nvPr/>
        </p:nvPicPr>
        <p:blipFill>
          <a:blip r:embed="rId3"/>
          <a:stretch/>
        </p:blipFill>
        <p:spPr>
          <a:xfrm>
            <a:off x="7885080" y="6313320"/>
            <a:ext cx="1185840" cy="500400"/>
          </a:xfrm>
          <a:prstGeom prst="rect">
            <a:avLst/>
          </a:prstGeom>
          <a:ln w="0">
            <a:noFill/>
          </a:ln>
        </p:spPr>
      </p:pic>
      <p:sp>
        <p:nvSpPr>
          <p:cNvPr id="1304" name=""/>
          <p:cNvSpPr txBox="1"/>
          <p:nvPr/>
        </p:nvSpPr>
        <p:spPr>
          <a:xfrm>
            <a:off x="237600" y="1773000"/>
            <a:ext cx="73393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2398"/>
              </a:lnSpc>
              <a:spcAft>
                <a:spcPts val="1199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cc"/>
                </a:solidFill>
                <a:latin typeface="Arial"/>
              </a:rPr>
              <a:t>zauważone </a:t>
            </a:r>
            <a:r>
              <a:rPr b="1" lang="pl-PL" sz="1600" spc="-1" strike="noStrike" u="sng">
                <a:solidFill>
                  <a:srgbClr val="0033cc"/>
                </a:solidFill>
                <a:uFillTx/>
                <a:latin typeface="Arial"/>
              </a:rPr>
              <a:t>przypadki wyniesienia karty do głosowania</a:t>
            </a:r>
            <a:r>
              <a:rPr b="1" lang="pl-PL" sz="1600" spc="-1" strike="noStrike">
                <a:solidFill>
                  <a:srgbClr val="0033cc"/>
                </a:solidFill>
                <a:latin typeface="Arial"/>
              </a:rPr>
              <a:t> przez wyborcę z lokalu wyborczego, lub otrzymania informacji, że w lokalu wyborczym lub poza nim taką kartę wyborca przyjmuje lub posiada (nie będąc uprawnionym), np. oferowane jest odstąpienie karty           – wówczas poza wpisem do protokołu OKW </a:t>
            </a:r>
            <a:r>
              <a:rPr b="1" lang="pl-PL" sz="1600" spc="-1" strike="noStrike" u="sng">
                <a:solidFill>
                  <a:srgbClr val="0033cc"/>
                </a:solidFill>
                <a:uFillTx/>
                <a:latin typeface="Arial"/>
              </a:rPr>
              <a:t>zawiadamia o tym fakcie Policję </a:t>
            </a:r>
            <a:r>
              <a:rPr b="1" lang="pl-PL" sz="1600" spc="-1" strike="noStrike">
                <a:solidFill>
                  <a:srgbClr val="0033cc"/>
                </a:solidFill>
                <a:latin typeface="Arial"/>
              </a:rPr>
              <a:t>- </a:t>
            </a:r>
            <a:r>
              <a:rPr b="1" i="1" lang="pl-PL" sz="1600" spc="-1" strike="noStrike">
                <a:solidFill>
                  <a:srgbClr val="0033cc"/>
                </a:solidFill>
                <a:latin typeface="Arial"/>
              </a:rPr>
              <a:t>pkt 50 Wytycznych PKW</a:t>
            </a:r>
            <a:r>
              <a:rPr b="1" lang="pl-PL" sz="1600" spc="-1" strike="noStrike">
                <a:solidFill>
                  <a:srgbClr val="0033cc"/>
                </a:solidFill>
                <a:latin typeface="Arial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2398"/>
              </a:lnSpc>
              <a:spcAft>
                <a:spcPts val="1199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3399"/>
                </a:solidFill>
                <a:latin typeface="Arial"/>
              </a:rPr>
              <a:t>przypadki </a:t>
            </a:r>
            <a:r>
              <a:rPr b="1" lang="pl-PL" sz="1600" spc="-1" strike="noStrike" u="sng">
                <a:solidFill>
                  <a:srgbClr val="333399"/>
                </a:solidFill>
                <a:uFillTx/>
                <a:latin typeface="Arial"/>
              </a:rPr>
              <a:t>usiłowania wrzucenia</a:t>
            </a:r>
            <a:r>
              <a:rPr b="1" lang="pl-PL" sz="1600" spc="-1" strike="noStrike">
                <a:solidFill>
                  <a:srgbClr val="333399"/>
                </a:solidFill>
                <a:latin typeface="Arial"/>
              </a:rPr>
              <a:t> lub </a:t>
            </a:r>
            <a:r>
              <a:rPr b="1" lang="pl-PL" sz="1600" spc="-1" strike="noStrike" u="sng">
                <a:solidFill>
                  <a:srgbClr val="333399"/>
                </a:solidFill>
                <a:uFillTx/>
                <a:latin typeface="Arial"/>
              </a:rPr>
              <a:t>wyjęcia z urny wyborczej przedmiotów innych</a:t>
            </a:r>
            <a:r>
              <a:rPr b="1" lang="pl-PL" sz="1600" spc="-1" strike="noStrike">
                <a:solidFill>
                  <a:srgbClr val="333399"/>
                </a:solidFill>
                <a:latin typeface="Arial"/>
              </a:rPr>
              <a:t> niż karty do głosowania np. czyste kartki papieru - </a:t>
            </a:r>
            <a:r>
              <a:rPr b="1" i="1" lang="pl-PL" sz="1600" spc="-1" strike="noStrike">
                <a:solidFill>
                  <a:srgbClr val="333399"/>
                </a:solidFill>
                <a:latin typeface="Arial"/>
              </a:rPr>
              <a:t>pkt 51 i 79 Wytycznych PKW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ole tekstowe 5"/>
          <p:cNvSpPr/>
          <p:nvPr/>
        </p:nvSpPr>
        <p:spPr>
          <a:xfrm>
            <a:off x="1116000" y="669960"/>
            <a:ext cx="609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d032a"/>
                </a:solidFill>
                <a:latin typeface="Arial Black"/>
              </a:rPr>
              <a:t>DOKUMENTOWANIE PRACY OKW W PROTOKOLE GŁOSOWANIA – c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6" name="Obraz 8" descr="Logo - 3109 - 1 stron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595520"/>
          </a:xfrm>
          <a:prstGeom prst="rect">
            <a:avLst/>
          </a:prstGeom>
          <a:ln w="0">
            <a:noFill/>
          </a:ln>
        </p:spPr>
      </p:pic>
      <p:sp>
        <p:nvSpPr>
          <p:cNvPr id="1307" name="AutoShape 4"/>
          <p:cNvSpPr/>
          <p:nvPr/>
        </p:nvSpPr>
        <p:spPr>
          <a:xfrm>
            <a:off x="250920" y="-1539720"/>
            <a:ext cx="306684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AutoShape 6"/>
          <p:cNvSpPr/>
          <p:nvPr/>
        </p:nvSpPr>
        <p:spPr>
          <a:xfrm>
            <a:off x="155520" y="233280"/>
            <a:ext cx="987264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ole tekstowe 8"/>
          <p:cNvSpPr/>
          <p:nvPr/>
        </p:nvSpPr>
        <p:spPr>
          <a:xfrm>
            <a:off x="8516880" y="836640"/>
            <a:ext cx="576360" cy="368280"/>
          </a:xfrm>
          <a:prstGeom prst="rect">
            <a:avLst/>
          </a:prstGeom>
          <a:noFill/>
          <a:ln w="9360">
            <a:solidFill>
              <a:srgbClr val="9d0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CCD8-2E69-47BC-A309-141AB77DCF79}" type="slidenum">
              <a:rPr b="1" lang="pl-PL" sz="1800" spc="-1" strike="noStrike">
                <a:solidFill>
                  <a:srgbClr val="9d032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0" name="Obraz 6" descr=""/>
          <p:cNvPicPr/>
          <p:nvPr/>
        </p:nvPicPr>
        <p:blipFill>
          <a:blip r:embed="rId2"/>
          <a:stretch/>
        </p:blipFill>
        <p:spPr>
          <a:xfrm>
            <a:off x="7740720" y="6093000"/>
            <a:ext cx="1185840" cy="500040"/>
          </a:xfrm>
          <a:prstGeom prst="rect">
            <a:avLst/>
          </a:prstGeom>
          <a:ln w="0">
            <a:noFill/>
          </a:ln>
        </p:spPr>
      </p:pic>
      <p:sp>
        <p:nvSpPr>
          <p:cNvPr id="1311" name="Prostokąt 1"/>
          <p:cNvSpPr/>
          <p:nvPr/>
        </p:nvSpPr>
        <p:spPr>
          <a:xfrm>
            <a:off x="395280" y="2205000"/>
            <a:ext cx="8080560" cy="29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ts val="20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1/ zwoływanie posiedzeń OKW i przewodniczenie i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2/ podpisywanie uchwał podjętych na posiedzeniach oraz pism i innych dokumentów, z wyjątkiem zastrzeżonych w przepisach do podpisania przez wszystkich członków OKW obecnych na posiedzeni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Arial"/>
              </a:rPr>
              <a:t>3/ czuwanie nad przestrzeganiem tajności głosowania i w tym celu wyznaczenie członka OKW, który przebywając w bezpośredniej bliskości urny zapewnia jej nienaruszalność oraz przestrzeganie przez wyborców zasad wrzucania kart do urny </a:t>
            </a:r>
            <a:r>
              <a:rPr b="1" i="1" lang="pl-PL" sz="1500" spc="-1" strike="noStrike">
                <a:solidFill>
                  <a:srgbClr val="0070c0"/>
                </a:solidFill>
                <a:latin typeface="Arial"/>
              </a:rPr>
              <a:t>(aby strona zadrukowana była niewidoczna)</a:t>
            </a:r>
            <a:r>
              <a:rPr b="1" lang="pl-PL" sz="1500" spc="-1" strike="noStrike">
                <a:solidFill>
                  <a:srgbClr val="0070c0"/>
                </a:solidFill>
                <a:latin typeface="Arial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ts val="20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ole tekstowe 2"/>
          <p:cNvSpPr/>
          <p:nvPr/>
        </p:nvSpPr>
        <p:spPr>
          <a:xfrm>
            <a:off x="250920" y="147492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Kierowanie pracami OKW, a w szczególnoś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ole tekstowe 10"/>
          <p:cNvSpPr/>
          <p:nvPr/>
        </p:nvSpPr>
        <p:spPr>
          <a:xfrm>
            <a:off x="1187280" y="542880"/>
            <a:ext cx="61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d032a"/>
                </a:solidFill>
                <a:latin typeface="Arial Black"/>
              </a:rPr>
              <a:t>Zadania przewodniczącego komis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4" name="Picture 14" descr="F:\SZKOLENIA\2019\tak.png"/>
          <p:cNvPicPr/>
          <p:nvPr/>
        </p:nvPicPr>
        <p:blipFill>
          <a:blip r:embed="rId3"/>
          <a:stretch/>
        </p:blipFill>
        <p:spPr>
          <a:xfrm>
            <a:off x="4859280" y="4941720"/>
            <a:ext cx="276876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5" name="Obraz 8" descr="Logo - 3109 - 1 stron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1316" name="AutoShape 4"/>
          <p:cNvSpPr/>
          <p:nvPr/>
        </p:nvSpPr>
        <p:spPr>
          <a:xfrm>
            <a:off x="307800" y="-1638360"/>
            <a:ext cx="30672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AutoShape 6"/>
          <p:cNvSpPr/>
          <p:nvPr/>
        </p:nvSpPr>
        <p:spPr>
          <a:xfrm>
            <a:off x="155520" y="233280"/>
            <a:ext cx="987264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ole tekstowe 8"/>
          <p:cNvSpPr/>
          <p:nvPr/>
        </p:nvSpPr>
        <p:spPr>
          <a:xfrm>
            <a:off x="8516880" y="836640"/>
            <a:ext cx="576360" cy="368280"/>
          </a:xfrm>
          <a:prstGeom prst="rect">
            <a:avLst/>
          </a:prstGeom>
          <a:noFill/>
          <a:ln w="9360">
            <a:solidFill>
              <a:srgbClr val="9d0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0330-48D5-4CBF-A1CF-5153B2660A73}" type="slidenum">
              <a:rPr b="1" lang="pl-PL" sz="1800" spc="-1" strike="noStrike">
                <a:solidFill>
                  <a:srgbClr val="9d032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9" name="Obraz 6" descr=""/>
          <p:cNvPicPr/>
          <p:nvPr/>
        </p:nvPicPr>
        <p:blipFill>
          <a:blip r:embed="rId2"/>
          <a:stretch/>
        </p:blipFill>
        <p:spPr>
          <a:xfrm>
            <a:off x="7812000" y="6165720"/>
            <a:ext cx="1185840" cy="500040"/>
          </a:xfrm>
          <a:prstGeom prst="rect">
            <a:avLst/>
          </a:prstGeom>
          <a:ln w="0">
            <a:noFill/>
          </a:ln>
        </p:spPr>
      </p:pic>
      <p:sp>
        <p:nvSpPr>
          <p:cNvPr id="1320" name="Prostokąt 1"/>
          <p:cNvSpPr/>
          <p:nvPr/>
        </p:nvSpPr>
        <p:spPr>
          <a:xfrm>
            <a:off x="250920" y="1484280"/>
            <a:ext cx="8515080" cy="40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Arial"/>
              </a:rPr>
              <a:t>4/  odpowiedzialność za utrzymanie porządku i spokoju w lokalu wyborczym, w tym żądanie opuszczenia lokalu przez osoby naruszające porządek i spokój, a w razie potrzeby zwrócenie się do miejscowego komendanta komisariatu Policji o zapewnienie koniecznej pomocy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Arial"/>
              </a:rPr>
              <a:t>5/ czuwanie nad przestrzeganiem zakazu prowadzenia w jakiejkolwiek formie agitacji wyborczej   w lokalu wyborczym i na terenie budynku, w którym znajduje się ten lokal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Arial"/>
              </a:rPr>
              <a:t>6/</a:t>
            </a:r>
            <a:r>
              <a:rPr b="1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500" spc="-1" strike="noStrike">
                <a:solidFill>
                  <a:srgbClr val="000000"/>
                </a:solidFill>
                <a:latin typeface="Arial"/>
              </a:rPr>
              <a:t>informowanie mężów zaufania, obserwatorów społecznych i międzynarodowych               o przysługujących im prawach i wskazanie im miejsca do obserwacji pracy OKW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Arial"/>
              </a:rPr>
              <a:t>7/</a:t>
            </a:r>
            <a:r>
              <a:rPr b="1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500" spc="-1" strike="noStrike">
                <a:solidFill>
                  <a:srgbClr val="000000"/>
                </a:solidFill>
                <a:latin typeface="Arial"/>
              </a:rPr>
              <a:t>podpisywanie zaświadczeń dla wyborców potwierdzających wzięcie udziału w głosowaniu lub odmowę wydania karty do głosowania – </a:t>
            </a:r>
            <a:r>
              <a:rPr b="1" i="1" lang="pl-PL" sz="1500" spc="-1" strike="noStrike">
                <a:solidFill>
                  <a:srgbClr val="000000"/>
                </a:solidFill>
                <a:latin typeface="Arial"/>
              </a:rPr>
              <a:t>pkt 52-54 Wytycznych PKW</a:t>
            </a:r>
            <a:r>
              <a:rPr b="1" lang="pl-PL" sz="1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Arial"/>
              </a:rPr>
              <a:t>8/ podpisywanie adnotacji czynionych w spisie wyborców oraz dodatkowego formularza spisu wyborców – </a:t>
            </a:r>
            <a:r>
              <a:rPr b="1" i="1" lang="pl-PL" sz="1500" spc="-1" strike="noStrike">
                <a:solidFill>
                  <a:srgbClr val="000000"/>
                </a:solidFill>
                <a:latin typeface="Arial"/>
              </a:rPr>
              <a:t>pkt 38 ppkt 3, pkt 39 i 40 Wytycznych PKW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500" spc="-1" strike="noStrike">
                <a:solidFill>
                  <a:srgbClr val="000000"/>
                </a:solidFill>
                <a:latin typeface="Arial"/>
              </a:rPr>
              <a:t>9/ </a:t>
            </a:r>
            <a:r>
              <a:rPr b="1" lang="pl-PL" sz="1500" spc="-1" strike="noStrike">
                <a:solidFill>
                  <a:srgbClr val="000000"/>
                </a:solidFill>
                <a:latin typeface="Arial"/>
              </a:rPr>
              <a:t>niezwłoczne powiadomienie komisarza wyborczego o wystąpieniu przyczyny wygaśnięcia członkostwa w OKW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ole tekstowe 10"/>
          <p:cNvSpPr/>
          <p:nvPr/>
        </p:nvSpPr>
        <p:spPr>
          <a:xfrm>
            <a:off x="596880" y="6634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d032a"/>
                </a:solidFill>
                <a:latin typeface="Arial Black"/>
              </a:rPr>
              <a:t>Zadania przewodniczącego komisji – c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0" name="Obraz 1" descr=""/>
          <p:cNvPicPr/>
          <p:nvPr/>
        </p:nvPicPr>
        <p:blipFill>
          <a:blip r:embed="rId1"/>
          <a:stretch/>
        </p:blipFill>
        <p:spPr>
          <a:xfrm>
            <a:off x="7211880" y="1914480"/>
            <a:ext cx="1859040" cy="1859040"/>
          </a:xfrm>
          <a:prstGeom prst="rect">
            <a:avLst/>
          </a:prstGeom>
          <a:ln w="0">
            <a:noFill/>
          </a:ln>
        </p:spPr>
      </p:pic>
      <p:pic>
        <p:nvPicPr>
          <p:cNvPr id="1191" name="Obraz 8" descr="Logo - 3109 - 1 stron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595520"/>
          </a:xfrm>
          <a:prstGeom prst="rect">
            <a:avLst/>
          </a:prstGeom>
          <a:ln w="0">
            <a:noFill/>
          </a:ln>
        </p:spPr>
      </p:pic>
      <p:sp>
        <p:nvSpPr>
          <p:cNvPr id="1192" name="Prostokąt 6"/>
          <p:cNvSpPr/>
          <p:nvPr/>
        </p:nvSpPr>
        <p:spPr>
          <a:xfrm>
            <a:off x="108000" y="1413000"/>
            <a:ext cx="8856720" cy="55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0280" indent="-2870280">
              <a:spcAft>
                <a:spcPts val="1199"/>
              </a:spcAft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cc"/>
                </a:solidFill>
                <a:latin typeface="Arial"/>
                <a:ea typeface="Arial"/>
              </a:rPr>
              <a:t>Wybory do Sejmu RP i Senatu RP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– wybory  do Sejmu Rzeczypospolitej Polskiej i do Senatu Rzeczypospolitej Polskiej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0280" indent="-2870280">
              <a:spcAft>
                <a:spcPts val="1199"/>
              </a:spcAft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cc"/>
                </a:solidFill>
                <a:latin typeface="Arial"/>
                <a:ea typeface="Arial"/>
              </a:rPr>
              <a:t>PKW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– Państwowa Komisja Wyborc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0280" indent="-2870280">
              <a:spcAft>
                <a:spcPts val="1199"/>
              </a:spcAft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cc"/>
                </a:solidFill>
                <a:latin typeface="Arial"/>
                <a:ea typeface="Arial"/>
              </a:rPr>
              <a:t>KBW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– Krajowe Biuro Wyborc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0280" indent="-2870280">
              <a:spcAft>
                <a:spcPts val="1199"/>
              </a:spcAft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cc"/>
                </a:solidFill>
                <a:latin typeface="Arial"/>
                <a:ea typeface="Arial"/>
              </a:rPr>
              <a:t>OKW lub komisja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– obwodowa komisja wyborc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0280" indent="-2870280">
              <a:spcAft>
                <a:spcPts val="1199"/>
              </a:spcAft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cc"/>
                </a:solidFill>
                <a:latin typeface="Arial"/>
                <a:ea typeface="Arial"/>
              </a:rPr>
              <a:t>protokół głosowania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– protokół głosowania w obwodz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0280" indent="-2870280">
              <a:spcAft>
                <a:spcPts val="1199"/>
              </a:spcAft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cc"/>
                </a:solidFill>
                <a:latin typeface="Arial"/>
                <a:ea typeface="Arial"/>
              </a:rPr>
              <a:t>system WOW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– system informatyczny Wsparcie Organów Wyborcz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0280" indent="-2870280">
              <a:spcAft>
                <a:spcPts val="1199"/>
              </a:spcAft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cc"/>
                </a:solidFill>
                <a:latin typeface="Arial"/>
                <a:ea typeface="Arial"/>
              </a:rPr>
              <a:t>wójt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pl-PL" sz="20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należy rozumieć także burmistrza i prezydenta mia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0280" indent="-2870280">
              <a:spcAft>
                <a:spcPts val="1199"/>
              </a:spcAft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cc"/>
                </a:solidFill>
                <a:latin typeface="Arial"/>
                <a:ea typeface="Arial"/>
              </a:rPr>
              <a:t>urząd gminy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– należy rozumieć także urząd miejski, urząd miasta albo urząd miasta i gm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0280" indent="-2870280">
              <a:spcAft>
                <a:spcPts val="601"/>
              </a:spcAft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cc"/>
                </a:solidFill>
                <a:latin typeface="Arial"/>
                <a:ea typeface="Arial"/>
              </a:rPr>
              <a:t>obwód odrębny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– należy rozumieć obwód głosowania utworzony w zakładzie leczniczym, domu pomocy społecznej, zakładzie karnym i areszcie śledcz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AutoShape 4"/>
          <p:cNvSpPr/>
          <p:nvPr/>
        </p:nvSpPr>
        <p:spPr>
          <a:xfrm>
            <a:off x="307800" y="-1638360"/>
            <a:ext cx="30672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AutoShape 6"/>
          <p:cNvSpPr/>
          <p:nvPr/>
        </p:nvSpPr>
        <p:spPr>
          <a:xfrm>
            <a:off x="155520" y="233280"/>
            <a:ext cx="987264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ole tekstowe 5"/>
          <p:cNvSpPr/>
          <p:nvPr/>
        </p:nvSpPr>
        <p:spPr>
          <a:xfrm>
            <a:off x="490680" y="601560"/>
            <a:ext cx="65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d032a"/>
                </a:solidFill>
                <a:latin typeface="Arial Black"/>
              </a:rPr>
              <a:t>Zastosowane skróty nazw i określe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ole tekstowe 8"/>
          <p:cNvSpPr/>
          <p:nvPr/>
        </p:nvSpPr>
        <p:spPr>
          <a:xfrm>
            <a:off x="8516880" y="836640"/>
            <a:ext cx="576360" cy="368280"/>
          </a:xfrm>
          <a:prstGeom prst="rect">
            <a:avLst/>
          </a:prstGeom>
          <a:noFill/>
          <a:ln w="9360">
            <a:solidFill>
              <a:srgbClr val="9d0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9d032a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7" name="Obraz 6" descr=""/>
          <p:cNvPicPr/>
          <p:nvPr/>
        </p:nvPicPr>
        <p:blipFill>
          <a:blip r:embed="rId3"/>
          <a:stretch/>
        </p:blipFill>
        <p:spPr>
          <a:xfrm>
            <a:off x="7885080" y="6313320"/>
            <a:ext cx="1185840" cy="5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rostokąt zaokrąglony 11"/>
          <p:cNvSpPr/>
          <p:nvPr/>
        </p:nvSpPr>
        <p:spPr>
          <a:xfrm>
            <a:off x="324000" y="2349360"/>
            <a:ext cx="8280360" cy="201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38160">
            <a:solidFill>
              <a:srgbClr val="9018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3" name="Obraz 8" descr="Logo - 3109 - 1 strona.jpg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1595520"/>
          </a:xfrm>
          <a:prstGeom prst="rect">
            <a:avLst/>
          </a:prstGeom>
          <a:ln w="0">
            <a:noFill/>
          </a:ln>
        </p:spPr>
      </p:pic>
      <p:sp>
        <p:nvSpPr>
          <p:cNvPr id="1324" name="AutoShape 4"/>
          <p:cNvSpPr/>
          <p:nvPr/>
        </p:nvSpPr>
        <p:spPr>
          <a:xfrm>
            <a:off x="307800" y="-1638360"/>
            <a:ext cx="306720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AutoShape 6"/>
          <p:cNvSpPr/>
          <p:nvPr/>
        </p:nvSpPr>
        <p:spPr>
          <a:xfrm>
            <a:off x="155520" y="233280"/>
            <a:ext cx="987264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ole tekstowe 8"/>
          <p:cNvSpPr/>
          <p:nvPr/>
        </p:nvSpPr>
        <p:spPr>
          <a:xfrm>
            <a:off x="8516880" y="836640"/>
            <a:ext cx="576360" cy="368280"/>
          </a:xfrm>
          <a:prstGeom prst="rect">
            <a:avLst/>
          </a:prstGeom>
          <a:noFill/>
          <a:ln w="9360">
            <a:solidFill>
              <a:srgbClr val="9d0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74CC-234E-40CC-B6DA-603255CF9F32}" type="slidenum">
              <a:rPr b="1" lang="pl-PL" sz="1800" spc="-1" strike="noStrike">
                <a:solidFill>
                  <a:srgbClr val="9d032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Obraz 6" descr=""/>
          <p:cNvPicPr/>
          <p:nvPr/>
        </p:nvPicPr>
        <p:blipFill>
          <a:blip r:embed="rId2"/>
          <a:stretch/>
        </p:blipFill>
        <p:spPr>
          <a:xfrm>
            <a:off x="7740720" y="6165720"/>
            <a:ext cx="1185840" cy="500040"/>
          </a:xfrm>
          <a:prstGeom prst="rect">
            <a:avLst/>
          </a:prstGeom>
          <a:ln w="0">
            <a:noFill/>
          </a:ln>
        </p:spPr>
      </p:pic>
      <p:sp>
        <p:nvSpPr>
          <p:cNvPr id="1328" name="pole tekstowe 5"/>
          <p:cNvSpPr/>
          <p:nvPr/>
        </p:nvSpPr>
        <p:spPr>
          <a:xfrm>
            <a:off x="539640" y="800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d032a"/>
                </a:solidFill>
                <a:latin typeface="Arial Black"/>
              </a:rPr>
              <a:t>ORGANIZACJA I TRYB PRACY OK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rostokąt 3"/>
          <p:cNvSpPr/>
          <p:nvPr/>
        </p:nvSpPr>
        <p:spPr>
          <a:xfrm>
            <a:off x="395280" y="263700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 razie nieobecności przewodnicząc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jego obowiązki peł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stępca przewodnicząc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ole tekstowe 10"/>
          <p:cNvSpPr/>
          <p:nvPr/>
        </p:nvSpPr>
        <p:spPr>
          <a:xfrm>
            <a:off x="1550880" y="1461960"/>
            <a:ext cx="553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9d032a"/>
                </a:solidFill>
                <a:latin typeface="Arial"/>
              </a:rPr>
              <a:t>Obowiązki przewodniczącego OK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1" name="Obraz 2" descr="Clipart - people"/>
          <p:cNvPicPr/>
          <p:nvPr/>
        </p:nvPicPr>
        <p:blipFill>
          <a:blip r:embed="rId3"/>
          <a:stretch/>
        </p:blipFill>
        <p:spPr>
          <a:xfrm>
            <a:off x="755640" y="443700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332" name="Obraz 8" descr="Shops Partnership Cooperation · Free image on Pixabay"/>
          <p:cNvPicPr/>
          <p:nvPr/>
        </p:nvPicPr>
        <p:blipFill>
          <a:blip r:embed="rId4"/>
          <a:stretch/>
        </p:blipFill>
        <p:spPr>
          <a:xfrm>
            <a:off x="5292720" y="4508640"/>
            <a:ext cx="1469880" cy="14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3" name="Obraz 8" descr="Logo - 3109 - 1 strona.jpg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1595520"/>
          </a:xfrm>
          <a:prstGeom prst="rect">
            <a:avLst/>
          </a:prstGeom>
          <a:ln w="0">
            <a:noFill/>
          </a:ln>
        </p:spPr>
      </p:pic>
      <p:sp>
        <p:nvSpPr>
          <p:cNvPr id="1334" name="AutoShape 4"/>
          <p:cNvSpPr/>
          <p:nvPr/>
        </p:nvSpPr>
        <p:spPr>
          <a:xfrm>
            <a:off x="307800" y="-1638360"/>
            <a:ext cx="30672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AutoShape 6"/>
          <p:cNvSpPr/>
          <p:nvPr/>
        </p:nvSpPr>
        <p:spPr>
          <a:xfrm>
            <a:off x="155520" y="233280"/>
            <a:ext cx="987264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ole tekstowe 8"/>
          <p:cNvSpPr/>
          <p:nvPr/>
        </p:nvSpPr>
        <p:spPr>
          <a:xfrm>
            <a:off x="8516880" y="836640"/>
            <a:ext cx="576360" cy="368280"/>
          </a:xfrm>
          <a:prstGeom prst="rect">
            <a:avLst/>
          </a:prstGeom>
          <a:noFill/>
          <a:ln w="9360">
            <a:solidFill>
              <a:srgbClr val="9d0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0318-F902-430D-B0EA-17064FFCC7FB}" type="slidenum">
              <a:rPr b="1" lang="pl-PL" sz="1800" spc="-1" strike="noStrike">
                <a:solidFill>
                  <a:srgbClr val="9d032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7" name="Obraz 6" descr=""/>
          <p:cNvPicPr/>
          <p:nvPr/>
        </p:nvPicPr>
        <p:blipFill>
          <a:blip r:embed="rId2"/>
          <a:stretch/>
        </p:blipFill>
        <p:spPr>
          <a:xfrm>
            <a:off x="7885080" y="6313320"/>
            <a:ext cx="1185840" cy="500400"/>
          </a:xfrm>
          <a:prstGeom prst="rect">
            <a:avLst/>
          </a:prstGeom>
          <a:ln w="0">
            <a:noFill/>
          </a:ln>
        </p:spPr>
      </p:pic>
      <p:sp>
        <p:nvSpPr>
          <p:cNvPr id="1338" name="pole tekstowe 5"/>
          <p:cNvSpPr/>
          <p:nvPr/>
        </p:nvSpPr>
        <p:spPr>
          <a:xfrm>
            <a:off x="1753560" y="652320"/>
            <a:ext cx="52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d032a"/>
                </a:solidFill>
                <a:latin typeface="Arial Black"/>
              </a:rPr>
              <a:t>ORGANIZACJA I TRYB PRACY OK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ole tekstowe 1"/>
          <p:cNvSpPr/>
          <p:nvPr/>
        </p:nvSpPr>
        <p:spPr>
          <a:xfrm>
            <a:off x="324000" y="1268280"/>
            <a:ext cx="74898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KW zadania wykonuje we współdziałaniu z urzędnikiem wyborczym i urzędem gminy, w tym wójtem -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§ 10 Regulaminu OK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0" name="Obraz 2" descr="Będzie obiekt dla sportowców w Nowicach | Jaworzyna Śląska ..."/>
          <p:cNvPicPr/>
          <p:nvPr/>
        </p:nvPicPr>
        <p:blipFill>
          <a:blip r:embed="rId3"/>
          <a:stretch/>
        </p:blipFill>
        <p:spPr>
          <a:xfrm>
            <a:off x="341280" y="3357720"/>
            <a:ext cx="3960720" cy="2717640"/>
          </a:xfrm>
          <a:prstGeom prst="rect">
            <a:avLst/>
          </a:prstGeom>
          <a:ln w="0">
            <a:noFill/>
          </a:ln>
        </p:spPr>
      </p:pic>
      <p:sp>
        <p:nvSpPr>
          <p:cNvPr id="1341" name="pole tekstowe 3"/>
          <p:cNvSpPr/>
          <p:nvPr/>
        </p:nvSpPr>
        <p:spPr>
          <a:xfrm>
            <a:off x="2700360" y="4102200"/>
            <a:ext cx="10810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 Black"/>
              </a:rPr>
              <a:t>URZĄ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2" name="Obraz 2" descr="&lt;strong&gt;Zarząd&lt;/strong&gt; | Cech Rzemiosł w Grodzisku Mazowieckim"/>
          <p:cNvPicPr/>
          <p:nvPr/>
        </p:nvPicPr>
        <p:blipFill>
          <a:blip r:embed="rId4"/>
          <a:stretch/>
        </p:blipFill>
        <p:spPr>
          <a:xfrm>
            <a:off x="5724360" y="4324320"/>
            <a:ext cx="2935440" cy="1390680"/>
          </a:xfrm>
          <a:prstGeom prst="rect">
            <a:avLst/>
          </a:prstGeom>
          <a:ln w="0">
            <a:noFill/>
          </a:ln>
        </p:spPr>
      </p:pic>
      <p:pic>
        <p:nvPicPr>
          <p:cNvPr id="1343" name="Obraz 6" descr="Ławka doodle, wektor ręcznie rysowane doodle ilustracja ..."/>
          <p:cNvPicPr/>
          <p:nvPr/>
        </p:nvPicPr>
        <p:blipFill>
          <a:blip r:embed="rId5"/>
          <a:stretch/>
        </p:blipFill>
        <p:spPr>
          <a:xfrm>
            <a:off x="4140360" y="4437000"/>
            <a:ext cx="15112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4" name="Obraz 8" descr="Logo - 3109 - 1 stron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595520"/>
          </a:xfrm>
          <a:prstGeom prst="rect">
            <a:avLst/>
          </a:prstGeom>
          <a:ln w="0">
            <a:noFill/>
          </a:ln>
        </p:spPr>
      </p:pic>
      <p:sp>
        <p:nvSpPr>
          <p:cNvPr id="1345" name="pole tekstowe 8"/>
          <p:cNvSpPr/>
          <p:nvPr/>
        </p:nvSpPr>
        <p:spPr>
          <a:xfrm>
            <a:off x="8516880" y="836640"/>
            <a:ext cx="576360" cy="368280"/>
          </a:xfrm>
          <a:prstGeom prst="rect">
            <a:avLst/>
          </a:prstGeom>
          <a:noFill/>
          <a:ln w="9360">
            <a:solidFill>
              <a:srgbClr val="9d0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40EA-2D4B-46BE-B8B0-82553E3D3BFC}" type="slidenum">
              <a:rPr b="1" lang="pl-PL" sz="1800" spc="-1" strike="noStrike">
                <a:solidFill>
                  <a:srgbClr val="9d032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ole tekstowe 5"/>
          <p:cNvSpPr/>
          <p:nvPr/>
        </p:nvSpPr>
        <p:spPr>
          <a:xfrm>
            <a:off x="2331720" y="565200"/>
            <a:ext cx="383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d032a"/>
                </a:solidFill>
                <a:latin typeface="Arial Black"/>
              </a:rPr>
              <a:t>CZŁONKOSTWO W OK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d032a"/>
                </a:solidFill>
                <a:latin typeface="Arial Black"/>
              </a:rPr>
              <a:t>WYGASA W PRZYPADK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7" name="Obraz 6" descr=""/>
          <p:cNvPicPr/>
          <p:nvPr/>
        </p:nvPicPr>
        <p:blipFill>
          <a:blip r:embed="rId2"/>
          <a:stretch/>
        </p:blipFill>
        <p:spPr>
          <a:xfrm>
            <a:off x="7812000" y="6165720"/>
            <a:ext cx="1185840" cy="500040"/>
          </a:xfrm>
          <a:prstGeom prst="rect">
            <a:avLst/>
          </a:prstGeom>
          <a:ln w="0">
            <a:noFill/>
          </a:ln>
        </p:spPr>
      </p:pic>
      <p:sp>
        <p:nvSpPr>
          <p:cNvPr id="1348" name="Prostokąt 1"/>
          <p:cNvSpPr/>
          <p:nvPr/>
        </p:nvSpPr>
        <p:spPr>
          <a:xfrm>
            <a:off x="539640" y="1716120"/>
            <a:ext cx="7920000" cy="37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zrzeczenia się członkostwa w OK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odpisania zgody na kandydowanie w wyborach bądź objęcia funkcji, pełnomocnika wyborczego, pełnomocnika finansowego lub męża zaufania albo obserwatora społeczneg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traty prawa wybierani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niezamieszkiwania stale na obszarze województwa, w którym została powołana komisj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nieuczestniczenia w pracach OKW bez usprawiedliwienia lub podejmowania działań sprzecznych z prawe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niewykonywania lub nienależytego wykonywania obowiązków przez członka OK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śmierci członka OK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9" name="Obraz 8" descr="Logo - 3109 - 1 strona.jpg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1595520"/>
          </a:xfrm>
          <a:prstGeom prst="rect">
            <a:avLst/>
          </a:prstGeom>
          <a:ln w="0">
            <a:noFill/>
          </a:ln>
        </p:spPr>
      </p:pic>
      <p:sp>
        <p:nvSpPr>
          <p:cNvPr id="1350" name="pole tekstowe 8"/>
          <p:cNvSpPr/>
          <p:nvPr/>
        </p:nvSpPr>
        <p:spPr>
          <a:xfrm>
            <a:off x="8516880" y="836640"/>
            <a:ext cx="576360" cy="368280"/>
          </a:xfrm>
          <a:prstGeom prst="rect">
            <a:avLst/>
          </a:prstGeom>
          <a:noFill/>
          <a:ln w="9360">
            <a:solidFill>
              <a:srgbClr val="9d0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F372-72E6-46AD-A7CF-39F50FEF4F1A}" type="slidenum">
              <a:rPr b="1" lang="pl-PL" sz="1800" spc="-1" strike="noStrike">
                <a:solidFill>
                  <a:srgbClr val="9d032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ole tekstowe 5"/>
          <p:cNvSpPr/>
          <p:nvPr/>
        </p:nvSpPr>
        <p:spPr>
          <a:xfrm>
            <a:off x="2403360" y="561960"/>
            <a:ext cx="383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d032a"/>
                </a:solidFill>
                <a:latin typeface="Arial Black"/>
              </a:rPr>
              <a:t>CZŁONKOSTWO W OK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d032a"/>
                </a:solidFill>
                <a:latin typeface="Arial Black"/>
              </a:rPr>
              <a:t>WYGASA W PRZYPADK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2" name="Obraz 6" descr=""/>
          <p:cNvPicPr/>
          <p:nvPr/>
        </p:nvPicPr>
        <p:blipFill>
          <a:blip r:embed="rId2"/>
          <a:stretch/>
        </p:blipFill>
        <p:spPr>
          <a:xfrm>
            <a:off x="7812000" y="6237360"/>
            <a:ext cx="1185840" cy="500040"/>
          </a:xfrm>
          <a:prstGeom prst="rect">
            <a:avLst/>
          </a:prstGeom>
          <a:ln w="0">
            <a:noFill/>
          </a:ln>
        </p:spPr>
      </p:pic>
      <p:sp>
        <p:nvSpPr>
          <p:cNvPr id="1353" name="Prostokąt 1"/>
          <p:cNvSpPr/>
          <p:nvPr/>
        </p:nvSpPr>
        <p:spPr>
          <a:xfrm>
            <a:off x="539640" y="1684440"/>
            <a:ext cx="80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złonkostwo w obwodowej komisji wyborcz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ff0000"/>
                </a:solidFill>
                <a:latin typeface="Arial"/>
              </a:rPr>
              <a:t>wygasa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 przypadku wyrażenia zgody na kandydowanie w wyborach przez osobę będącą w stosunku do członka komisji małżonkiem, wstępnym, zstępnym, rodzeństwem, małżonkiem wstępnego, zstępnego lub przysposobionego albo pozostającą z nim w stosunku przysposobienia, jeżeli osoba kandyduje w okręgu wyborczym, dla którego właściwa jest dana komis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4" name="Obraz 2" descr="ManagerOnline | studio baroni"/>
          <p:cNvPicPr/>
          <p:nvPr/>
        </p:nvPicPr>
        <p:blipFill>
          <a:blip r:embed="rId3"/>
          <a:stretch/>
        </p:blipFill>
        <p:spPr>
          <a:xfrm>
            <a:off x="611280" y="5084640"/>
            <a:ext cx="2736720" cy="15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5" name="Obraz 3" descr="Uwaga na fotki: Kryteria oceniania"/>
          <p:cNvPicPr/>
          <p:nvPr/>
        </p:nvPicPr>
        <p:blipFill>
          <a:blip r:embed="rId1"/>
          <a:srcRect l="0" t="4194" r="48162" b="0"/>
          <a:stretch/>
        </p:blipFill>
        <p:spPr>
          <a:xfrm>
            <a:off x="7236000" y="4303800"/>
            <a:ext cx="1008000" cy="1646280"/>
          </a:xfrm>
          <a:prstGeom prst="rect">
            <a:avLst/>
          </a:prstGeom>
          <a:ln w="0">
            <a:noFill/>
          </a:ln>
        </p:spPr>
      </p:pic>
      <p:pic>
        <p:nvPicPr>
          <p:cNvPr id="1356" name="Obraz 8" descr="Logo - 3109 - 1 strona.jpg"/>
          <p:cNvPicPr/>
          <p:nvPr/>
        </p:nvPicPr>
        <p:blipFill>
          <a:blip r:embed="rId2"/>
          <a:stretch/>
        </p:blipFill>
        <p:spPr>
          <a:xfrm>
            <a:off x="0" y="-25560"/>
            <a:ext cx="9144000" cy="1595520"/>
          </a:xfrm>
          <a:prstGeom prst="rect">
            <a:avLst/>
          </a:prstGeom>
          <a:ln w="0">
            <a:noFill/>
          </a:ln>
        </p:spPr>
      </p:pic>
      <p:sp>
        <p:nvSpPr>
          <p:cNvPr id="1357" name="AutoShape 4"/>
          <p:cNvSpPr/>
          <p:nvPr/>
        </p:nvSpPr>
        <p:spPr>
          <a:xfrm>
            <a:off x="307800" y="-1638360"/>
            <a:ext cx="30672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AutoShape 6"/>
          <p:cNvSpPr/>
          <p:nvPr/>
        </p:nvSpPr>
        <p:spPr>
          <a:xfrm>
            <a:off x="155520" y="233280"/>
            <a:ext cx="987264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ole tekstowe 8"/>
          <p:cNvSpPr/>
          <p:nvPr/>
        </p:nvSpPr>
        <p:spPr>
          <a:xfrm>
            <a:off x="8516880" y="836640"/>
            <a:ext cx="576360" cy="368280"/>
          </a:xfrm>
          <a:prstGeom prst="rect">
            <a:avLst/>
          </a:prstGeom>
          <a:noFill/>
          <a:ln w="9360">
            <a:solidFill>
              <a:srgbClr val="9d0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1546-77FC-404D-86FF-0D7199BF63E5}" type="slidenum">
              <a:rPr b="1" lang="pl-PL" sz="1800" spc="-1" strike="noStrike">
                <a:solidFill>
                  <a:srgbClr val="9d032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0" name="Obraz 6" descr=""/>
          <p:cNvPicPr/>
          <p:nvPr/>
        </p:nvPicPr>
        <p:blipFill>
          <a:blip r:embed="rId3"/>
          <a:stretch/>
        </p:blipFill>
        <p:spPr>
          <a:xfrm>
            <a:off x="7707240" y="6242040"/>
            <a:ext cx="1185840" cy="500040"/>
          </a:xfrm>
          <a:prstGeom prst="rect">
            <a:avLst/>
          </a:prstGeom>
          <a:ln w="0">
            <a:noFill/>
          </a:ln>
        </p:spPr>
      </p:pic>
      <p:sp>
        <p:nvSpPr>
          <p:cNvPr id="1361" name="pole tekstowe 5"/>
          <p:cNvSpPr/>
          <p:nvPr/>
        </p:nvSpPr>
        <p:spPr>
          <a:xfrm>
            <a:off x="611280" y="777960"/>
            <a:ext cx="72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d032a"/>
                </a:solidFill>
                <a:latin typeface="Arial Black"/>
              </a:rPr>
              <a:t>OBOWIĄZKI I UPRAWNIENIA CZŁONKÓW OBWODOWEJ KOMISJI WYBORCZ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rostokąt 1"/>
          <p:cNvSpPr/>
          <p:nvPr/>
        </p:nvSpPr>
        <p:spPr>
          <a:xfrm>
            <a:off x="181080" y="1736640"/>
            <a:ext cx="87120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ff0066"/>
                </a:solidFill>
                <a:latin typeface="Arial"/>
              </a:rPr>
              <a:t>OBOWIĄZKI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Arial"/>
              </a:rPr>
              <a:t>Członkowie OKW mają obowiązek uczestniczenia w szkoleniach oraz  posiedzeniach i innych pracach OKW, w szczególności                        w przeprowadzeniu głosowania i ustaleniu wyników wyborów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Arial"/>
              </a:rPr>
              <a:t>W razie niemożności wzięcia udziału w pracach OKW, zwłaszcza        w dniu wyborów, członek OKW jest obowiązany powiadomić jak najwcześniej przewodniczącego OKW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Arial"/>
              </a:rPr>
              <a:t>Członkowie OKW nie mogą prowadzić agitacji wyborczej na rzecz poszczególnych kandydatów oraz list kandydatów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900" spc="-1" strike="noStrike">
                <a:solidFill>
                  <a:srgbClr val="000000"/>
                </a:solidFill>
                <a:latin typeface="Arial"/>
              </a:rPr>
              <a:t>a/ w lokalu wyborczym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900" spc="-1" strike="noStrike">
                <a:solidFill>
                  <a:srgbClr val="000000"/>
                </a:solidFill>
                <a:latin typeface="Arial"/>
              </a:rPr>
              <a:t>b/ w trakcie czynności podejmowanych przez OKW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900" spc="-1" strike="noStrike">
                <a:solidFill>
                  <a:srgbClr val="000000"/>
                </a:solidFill>
                <a:latin typeface="Arial"/>
              </a:rPr>
              <a:t>c/ w trakcie przygotowań do prac OKW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3" name="Obraz 8" descr="Logo - 3109 - 1 strona.jpg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1595520"/>
          </a:xfrm>
          <a:prstGeom prst="rect">
            <a:avLst/>
          </a:prstGeom>
          <a:ln w="0">
            <a:noFill/>
          </a:ln>
        </p:spPr>
      </p:pic>
      <p:sp>
        <p:nvSpPr>
          <p:cNvPr id="1364" name="AutoShape 4"/>
          <p:cNvSpPr/>
          <p:nvPr/>
        </p:nvSpPr>
        <p:spPr>
          <a:xfrm>
            <a:off x="307800" y="-1638360"/>
            <a:ext cx="30672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AutoShape 6"/>
          <p:cNvSpPr/>
          <p:nvPr/>
        </p:nvSpPr>
        <p:spPr>
          <a:xfrm>
            <a:off x="155520" y="233280"/>
            <a:ext cx="987264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ole tekstowe 8"/>
          <p:cNvSpPr/>
          <p:nvPr/>
        </p:nvSpPr>
        <p:spPr>
          <a:xfrm>
            <a:off x="8516880" y="836640"/>
            <a:ext cx="576360" cy="368280"/>
          </a:xfrm>
          <a:prstGeom prst="rect">
            <a:avLst/>
          </a:prstGeom>
          <a:noFill/>
          <a:ln w="9360">
            <a:solidFill>
              <a:srgbClr val="9d0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208E-C460-498A-BD6B-2358A81A129C}" type="slidenum">
              <a:rPr b="1" lang="pl-PL" sz="1800" spc="-1" strike="noStrike">
                <a:solidFill>
                  <a:srgbClr val="9d032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7" name="Obraz 6" descr=""/>
          <p:cNvPicPr/>
          <p:nvPr/>
        </p:nvPicPr>
        <p:blipFill>
          <a:blip r:embed="rId2"/>
          <a:stretch/>
        </p:blipFill>
        <p:spPr>
          <a:xfrm>
            <a:off x="7812000" y="6237360"/>
            <a:ext cx="1185840" cy="500040"/>
          </a:xfrm>
          <a:prstGeom prst="rect">
            <a:avLst/>
          </a:prstGeom>
          <a:ln w="0">
            <a:noFill/>
          </a:ln>
        </p:spPr>
      </p:pic>
      <p:sp>
        <p:nvSpPr>
          <p:cNvPr id="1368" name="pole tekstowe 5"/>
          <p:cNvSpPr/>
          <p:nvPr/>
        </p:nvSpPr>
        <p:spPr>
          <a:xfrm>
            <a:off x="985320" y="792000"/>
            <a:ext cx="644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d032a"/>
                </a:solidFill>
                <a:latin typeface="Arial Black"/>
              </a:rPr>
              <a:t>OBOWIĄZKI I UPRAWNIENIA CZŁONKÓ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d032a"/>
                </a:solidFill>
                <a:latin typeface="Arial Black"/>
              </a:rPr>
              <a:t>OBWODOWEJ KOMISJI WYBORCZ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rostokąt 9"/>
          <p:cNvSpPr/>
          <p:nvPr/>
        </p:nvSpPr>
        <p:spPr>
          <a:xfrm>
            <a:off x="544680" y="2365200"/>
            <a:ext cx="806436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ff0066"/>
                </a:solidFill>
                <a:latin typeface="Arial"/>
              </a:rPr>
              <a:t>OBOWIĄZKI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1" lang="pl-P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900" spc="-1" strike="noStrike">
                <a:solidFill>
                  <a:srgbClr val="000000"/>
                </a:solidFill>
                <a:latin typeface="Arial"/>
              </a:rPr>
              <a:t>Członkowie OKW ponoszą odpowiedzialność jak funkcjonariusze publiczni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 u="sng">
                <a:solidFill>
                  <a:srgbClr val="000000"/>
                </a:solidFill>
                <a:uFillTx/>
                <a:latin typeface="Arial"/>
              </a:rPr>
              <a:t>Członek OKW powinien </a:t>
            </a:r>
            <a:r>
              <a:rPr b="1" lang="pl-PL" sz="1900" spc="-1" strike="noStrike" u="sng">
                <a:solidFill>
                  <a:srgbClr val="ff0000"/>
                </a:solidFill>
                <a:uFillTx/>
                <a:latin typeface="Arial"/>
              </a:rPr>
              <a:t>sam </a:t>
            </a:r>
            <a:r>
              <a:rPr b="1" lang="pl-PL" sz="1900" spc="-1" strike="noStrike" u="sng">
                <a:solidFill>
                  <a:srgbClr val="000000"/>
                </a:solidFill>
                <a:uFillTx/>
                <a:latin typeface="Arial"/>
              </a:rPr>
              <a:t>niezwłocznie </a:t>
            </a:r>
            <a:r>
              <a:rPr b="1" lang="pl-PL" sz="1900" spc="-1" strike="noStrike" u="sng">
                <a:solidFill>
                  <a:srgbClr val="ff0000"/>
                </a:solidFill>
                <a:uFillTx/>
                <a:latin typeface="Arial"/>
              </a:rPr>
              <a:t>powiadomić </a:t>
            </a:r>
            <a:r>
              <a:rPr b="1" lang="pl-PL" sz="1900" spc="-1" strike="noStrike" u="sng">
                <a:solidFill>
                  <a:srgbClr val="000000"/>
                </a:solidFill>
                <a:uFillTx/>
                <a:latin typeface="Arial"/>
              </a:rPr>
              <a:t>przewodniczącego o wystąpieniu przyczyny wygaśnięcia członkostwa w OKW</a:t>
            </a:r>
            <a:r>
              <a:rPr b="1" lang="pl-PL" sz="1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0" name="Obraz 1" descr="Rashmi's Songs: Please Mr. Postman - The Carpenters (Cover)"/>
          <p:cNvPicPr/>
          <p:nvPr/>
        </p:nvPicPr>
        <p:blipFill>
          <a:blip r:embed="rId3"/>
          <a:stretch/>
        </p:blipFill>
        <p:spPr>
          <a:xfrm>
            <a:off x="4572000" y="4941720"/>
            <a:ext cx="139392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1" name="Obraz 8" descr="Logo - 3109 - 1 stron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595520"/>
          </a:xfrm>
          <a:prstGeom prst="rect">
            <a:avLst/>
          </a:prstGeom>
          <a:ln w="0">
            <a:noFill/>
          </a:ln>
        </p:spPr>
      </p:pic>
      <p:sp>
        <p:nvSpPr>
          <p:cNvPr id="1372" name="pole tekstowe 8"/>
          <p:cNvSpPr/>
          <p:nvPr/>
        </p:nvSpPr>
        <p:spPr>
          <a:xfrm>
            <a:off x="8516880" y="836640"/>
            <a:ext cx="576360" cy="368280"/>
          </a:xfrm>
          <a:prstGeom prst="rect">
            <a:avLst/>
          </a:prstGeom>
          <a:noFill/>
          <a:ln w="9360">
            <a:solidFill>
              <a:srgbClr val="9d0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5C15-AB2C-4F16-AE35-6AA56EC7DE44}" type="slidenum">
              <a:rPr b="1" lang="pl-PL" sz="1800" spc="-1" strike="noStrike">
                <a:solidFill>
                  <a:srgbClr val="9d032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ole tekstowe 5"/>
          <p:cNvSpPr/>
          <p:nvPr/>
        </p:nvSpPr>
        <p:spPr>
          <a:xfrm>
            <a:off x="923400" y="789120"/>
            <a:ext cx="644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d032a"/>
                </a:solidFill>
                <a:latin typeface="Arial Black"/>
              </a:rPr>
              <a:t>OBOWIĄZKI I UPRAWNIENIA CZŁONKÓ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d032a"/>
                </a:solidFill>
                <a:latin typeface="Arial Black"/>
              </a:rPr>
              <a:t>OBWODOWEJ KOMISJI WYBORCZ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4" name="Obraz 6" descr=""/>
          <p:cNvPicPr/>
          <p:nvPr/>
        </p:nvPicPr>
        <p:blipFill>
          <a:blip r:embed="rId2"/>
          <a:stretch/>
        </p:blipFill>
        <p:spPr>
          <a:xfrm>
            <a:off x="7812000" y="6237360"/>
            <a:ext cx="1185840" cy="500040"/>
          </a:xfrm>
          <a:prstGeom prst="rect">
            <a:avLst/>
          </a:prstGeom>
          <a:ln w="0">
            <a:noFill/>
          </a:ln>
        </p:spPr>
      </p:pic>
      <p:sp>
        <p:nvSpPr>
          <p:cNvPr id="1375" name="Prostokąt 1"/>
          <p:cNvSpPr/>
          <p:nvPr/>
        </p:nvSpPr>
        <p:spPr>
          <a:xfrm>
            <a:off x="611280" y="1949400"/>
            <a:ext cx="7632720" cy="32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ff0066"/>
                </a:solidFill>
                <a:latin typeface="Arial"/>
              </a:rPr>
              <a:t>UPRAWNIENIA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Arial"/>
              </a:rPr>
              <a:t>1) Członkom OKW przysługuje zryczałtowana dieta za czas związany z przeprowadzeniem głosowania i ustaleniem wyników głosowania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Arial"/>
              </a:rPr>
              <a:t>dla przewodniczącego OKW</a:t>
            </a:r>
            <a:r>
              <a:rPr b="1" lang="pl-P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900" spc="-1" strike="noStrike">
                <a:solidFill>
                  <a:srgbClr val="000000"/>
                </a:solidFill>
                <a:latin typeface="Arial"/>
              </a:rPr>
              <a:t>- 500 z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Arial"/>
              </a:rPr>
              <a:t>dla zastępcy przewodniczącego OKW</a:t>
            </a:r>
            <a:r>
              <a:rPr b="1" lang="pl-P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900" spc="-1" strike="noStrike">
                <a:solidFill>
                  <a:srgbClr val="000000"/>
                </a:solidFill>
                <a:latin typeface="Arial"/>
              </a:rPr>
              <a:t>- 400 z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Arial"/>
              </a:rPr>
              <a:t>dla członków OKW</a:t>
            </a:r>
            <a:r>
              <a:rPr b="1" lang="pl-P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900" spc="-1" strike="noStrike">
                <a:solidFill>
                  <a:srgbClr val="000000"/>
                </a:solidFill>
                <a:latin typeface="Arial"/>
              </a:rPr>
              <a:t>- 350 zł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6" name="Obraz 5" descr=""/>
          <p:cNvPicPr/>
          <p:nvPr/>
        </p:nvPicPr>
        <p:blipFill>
          <a:blip r:embed="rId3"/>
          <a:stretch/>
        </p:blipFill>
        <p:spPr>
          <a:xfrm>
            <a:off x="3995640" y="4933800"/>
            <a:ext cx="180036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7" name="Obraz 8" descr="Logo - 3109 - 1 strona.jpg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1595520"/>
          </a:xfrm>
          <a:prstGeom prst="rect">
            <a:avLst/>
          </a:prstGeom>
          <a:ln w="0">
            <a:noFill/>
          </a:ln>
        </p:spPr>
      </p:pic>
      <p:sp>
        <p:nvSpPr>
          <p:cNvPr id="1378" name="pole tekstowe 8"/>
          <p:cNvSpPr/>
          <p:nvPr/>
        </p:nvSpPr>
        <p:spPr>
          <a:xfrm>
            <a:off x="8516880" y="836640"/>
            <a:ext cx="576360" cy="368280"/>
          </a:xfrm>
          <a:prstGeom prst="rect">
            <a:avLst/>
          </a:prstGeom>
          <a:noFill/>
          <a:ln w="9360">
            <a:solidFill>
              <a:srgbClr val="9d0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AA8C-4B01-4E6F-A1DE-83C14B53653E}" type="slidenum">
              <a:rPr b="1" lang="pl-PL" sz="1800" spc="-1" strike="noStrike">
                <a:solidFill>
                  <a:srgbClr val="9d032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ole tekstowe 5"/>
          <p:cNvSpPr/>
          <p:nvPr/>
        </p:nvSpPr>
        <p:spPr>
          <a:xfrm>
            <a:off x="553680" y="476280"/>
            <a:ext cx="644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d032a"/>
                </a:solidFill>
                <a:latin typeface="Arial Black"/>
              </a:rPr>
              <a:t>OBOWIĄZKI I UPRAWNIENIA CZŁONKÓ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d032a"/>
                </a:solidFill>
                <a:latin typeface="Arial Black"/>
              </a:rPr>
              <a:t>OBWODOWEJ KOMISJI WYBORCZ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0" name="Obraz 6" descr=""/>
          <p:cNvPicPr/>
          <p:nvPr/>
        </p:nvPicPr>
        <p:blipFill>
          <a:blip r:embed="rId2"/>
          <a:stretch/>
        </p:blipFill>
        <p:spPr>
          <a:xfrm>
            <a:off x="7812000" y="6237360"/>
            <a:ext cx="1185840" cy="500040"/>
          </a:xfrm>
          <a:prstGeom prst="rect">
            <a:avLst/>
          </a:prstGeom>
          <a:ln w="0">
            <a:noFill/>
          </a:ln>
        </p:spPr>
      </p:pic>
      <p:sp>
        <p:nvSpPr>
          <p:cNvPr id="1381" name="Prostokąt 1"/>
          <p:cNvSpPr/>
          <p:nvPr/>
        </p:nvSpPr>
        <p:spPr>
          <a:xfrm>
            <a:off x="250920" y="1341360"/>
            <a:ext cx="82072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 Black"/>
              </a:rPr>
              <a:t>UWAG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ryczałtowana dieta </a:t>
            </a:r>
            <a:r>
              <a:rPr b="1" lang="pl-PL" sz="2000" spc="-1" strike="noStrike">
                <a:solidFill>
                  <a:srgbClr val="000000"/>
                </a:solidFill>
                <a:latin typeface="Arial Black"/>
              </a:rPr>
              <a:t>nie przysługuje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, jeżeli członek obwodowej komisji wyborczej nie uczestniczył w czynnościach związanych z przeprowadzeniem głosowania i ustaleniem wyników głosowania, w tym sporządzeniem protokołów głosowania przyjętych przez Okręgową Komisję Wyborcz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ojazd członka obwodowej komisji wyborczej  na posiedzenie, szkolenie </a:t>
            </a:r>
            <a:r>
              <a:rPr b="1" i="1" lang="pl-PL" sz="2000" spc="-1" strike="noStrike">
                <a:solidFill>
                  <a:srgbClr val="000000"/>
                </a:solidFill>
                <a:latin typeface="Arial"/>
              </a:rPr>
              <a:t>(o ile szkolenie przeprowadzane jest w tej samej gminie, w której siedzibę ma komisja)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l-PL" sz="2000" spc="-1" strike="noStrike">
                <a:solidFill>
                  <a:srgbClr val="000000"/>
                </a:solidFill>
                <a:latin typeface="Arial Black"/>
              </a:rPr>
              <a:t>traktowane jest tak jak dojazd do miejsca pracy i w związku z tym członkowi komisji nie przysługuje zwrot kosztów dojazdu do siedziby komisji czy miejsca szkole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2" name="Obraz 4" descr="File:Star N52 (rysunek).jpg - Wikimedia Commons"/>
          <p:cNvPicPr/>
          <p:nvPr/>
        </p:nvPicPr>
        <p:blipFill>
          <a:blip r:embed="rId3"/>
          <a:stretch/>
        </p:blipFill>
        <p:spPr>
          <a:xfrm>
            <a:off x="3276720" y="5381640"/>
            <a:ext cx="27367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3" name="Obraz 8" descr="Logo - 3109 - 1 strona.jpg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1595520"/>
          </a:xfrm>
          <a:prstGeom prst="rect">
            <a:avLst/>
          </a:prstGeom>
          <a:ln w="0">
            <a:noFill/>
          </a:ln>
        </p:spPr>
      </p:pic>
      <p:sp>
        <p:nvSpPr>
          <p:cNvPr id="1384" name="pole tekstowe 8"/>
          <p:cNvSpPr/>
          <p:nvPr/>
        </p:nvSpPr>
        <p:spPr>
          <a:xfrm>
            <a:off x="8516880" y="836640"/>
            <a:ext cx="576360" cy="368280"/>
          </a:xfrm>
          <a:prstGeom prst="rect">
            <a:avLst/>
          </a:prstGeom>
          <a:noFill/>
          <a:ln w="9360">
            <a:solidFill>
              <a:srgbClr val="9d0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0A9C-6342-4AA6-ACAE-537E9B5428D7}" type="slidenum">
              <a:rPr b="1" lang="pl-PL" sz="1800" spc="-1" strike="noStrike">
                <a:solidFill>
                  <a:srgbClr val="9d032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ole tekstowe 5"/>
          <p:cNvSpPr/>
          <p:nvPr/>
        </p:nvSpPr>
        <p:spPr>
          <a:xfrm>
            <a:off x="1037880" y="582480"/>
            <a:ext cx="644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d032a"/>
                </a:solidFill>
                <a:latin typeface="Arial Black"/>
              </a:rPr>
              <a:t>OBOWIĄZKI I UPRAWNIENIA CZŁONKÓ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d032a"/>
                </a:solidFill>
                <a:latin typeface="Arial Black"/>
              </a:rPr>
              <a:t>OBWODOWEJ KOMISJI WYBORCZ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6" name="Obraz 6" descr=""/>
          <p:cNvPicPr/>
          <p:nvPr/>
        </p:nvPicPr>
        <p:blipFill>
          <a:blip r:embed="rId2"/>
          <a:stretch/>
        </p:blipFill>
        <p:spPr>
          <a:xfrm>
            <a:off x="7885080" y="6313320"/>
            <a:ext cx="1185840" cy="500400"/>
          </a:xfrm>
          <a:prstGeom prst="rect">
            <a:avLst/>
          </a:prstGeom>
          <a:ln w="0">
            <a:noFill/>
          </a:ln>
        </p:spPr>
      </p:pic>
      <p:sp>
        <p:nvSpPr>
          <p:cNvPr id="1387" name="Prostokąt 1"/>
          <p:cNvSpPr/>
          <p:nvPr/>
        </p:nvSpPr>
        <p:spPr>
          <a:xfrm>
            <a:off x="600120" y="1566720"/>
            <a:ext cx="82090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ff0066"/>
                </a:solidFill>
                <a:latin typeface="Arial"/>
              </a:rPr>
              <a:t>UPRAWNIENIA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798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Arial"/>
              </a:rPr>
              <a:t>2) Do 5 dni zwolnienia od pracy z zachowaniem prawa do świadczeń z ubezpieczenia społecznego oraz uprawnień ze stosunku pracy, z wyjątkiem prawa do wynagrodzenia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798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Arial"/>
              </a:rPr>
              <a:t>3) Ochrona prawna przewidziana dla funkcjonariuszy publicznych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798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Arial"/>
              </a:rPr>
              <a:t>4) Zaopatrzenie z tytułu wypadku przy wykonywaniu zadań członka OKW - </a:t>
            </a:r>
            <a:r>
              <a:rPr b="1" i="1" lang="pl-PL" sz="1900" spc="-1" strike="noStrike">
                <a:solidFill>
                  <a:srgbClr val="000000"/>
                </a:solidFill>
                <a:latin typeface="Arial"/>
              </a:rPr>
              <a:t>na podstawie przepisów ustawy o zaopatrzeniu z tytułu wypadków lub chorób zawodowych powstałych w szczególnych okolicznościach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8" name="Obraz 10" descr="Clipart - my registration"/>
          <p:cNvPicPr/>
          <p:nvPr/>
        </p:nvPicPr>
        <p:blipFill>
          <a:blip r:embed="rId3"/>
          <a:stretch/>
        </p:blipFill>
        <p:spPr>
          <a:xfrm>
            <a:off x="5867280" y="4888080"/>
            <a:ext cx="1300320" cy="12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9" name="Obraz 8" descr="Logo - 3109 - 1 strona.jpg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1595520"/>
          </a:xfrm>
          <a:prstGeom prst="rect">
            <a:avLst/>
          </a:prstGeom>
          <a:ln w="0">
            <a:noFill/>
          </a:ln>
        </p:spPr>
      </p:pic>
      <p:sp>
        <p:nvSpPr>
          <p:cNvPr id="1390" name="pole tekstowe 8"/>
          <p:cNvSpPr/>
          <p:nvPr/>
        </p:nvSpPr>
        <p:spPr>
          <a:xfrm>
            <a:off x="8516880" y="836640"/>
            <a:ext cx="576360" cy="368280"/>
          </a:xfrm>
          <a:prstGeom prst="rect">
            <a:avLst/>
          </a:prstGeom>
          <a:noFill/>
          <a:ln w="9360">
            <a:solidFill>
              <a:srgbClr val="9d0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5875-0182-4A2E-B882-9AD7F782A97E}" type="slidenum">
              <a:rPr b="1" lang="pl-PL" sz="1800" spc="-1" strike="noStrike">
                <a:solidFill>
                  <a:srgbClr val="9d032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1" name="Obraz 6" descr=""/>
          <p:cNvPicPr/>
          <p:nvPr/>
        </p:nvPicPr>
        <p:blipFill>
          <a:blip r:embed="rId2"/>
          <a:stretch/>
        </p:blipFill>
        <p:spPr>
          <a:xfrm>
            <a:off x="7812000" y="6093000"/>
            <a:ext cx="1185840" cy="500040"/>
          </a:xfrm>
          <a:prstGeom prst="rect">
            <a:avLst/>
          </a:prstGeom>
          <a:ln w="0">
            <a:noFill/>
          </a:ln>
        </p:spPr>
      </p:pic>
      <p:sp>
        <p:nvSpPr>
          <p:cNvPr id="1392" name="pole tekstowe 5"/>
          <p:cNvSpPr/>
          <p:nvPr/>
        </p:nvSpPr>
        <p:spPr>
          <a:xfrm>
            <a:off x="1392840" y="744480"/>
            <a:ext cx="569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9d032a"/>
                </a:solidFill>
                <a:latin typeface="Arial Black"/>
              </a:rPr>
              <a:t>ORGANIZACJA PIERWSZYCH POSIEDZEŃ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9d032a"/>
                </a:solidFill>
                <a:latin typeface="Arial Black"/>
              </a:rPr>
              <a:t>OBWODOWYCH KOMISJI WYBORCZY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rostokąt 1"/>
          <p:cNvSpPr/>
          <p:nvPr/>
        </p:nvSpPr>
        <p:spPr>
          <a:xfrm>
            <a:off x="684360" y="1844640"/>
            <a:ext cx="6696000" cy="27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Pierwsze posiedzenie OKW powinno przebiegać wg następującego porządk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Otwarcie posiedzen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Wybór Przewodniczącego OKW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Wybór Zastępcy Przewodniczącego OKW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Ustalenie organizacji prac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Zakończenie posiedze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4" name="Picture 8" descr="C:\Users\ppp\Desktop\19383.jpg"/>
          <p:cNvPicPr/>
          <p:nvPr/>
        </p:nvPicPr>
        <p:blipFill>
          <a:blip r:embed="rId3"/>
          <a:srcRect l="0" t="71153" r="61499" b="0"/>
          <a:stretch/>
        </p:blipFill>
        <p:spPr>
          <a:xfrm>
            <a:off x="4572000" y="4365720"/>
            <a:ext cx="220032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8" name="Obraz 8" descr="Logo - 3109 - 1 stron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595520"/>
          </a:xfrm>
          <a:prstGeom prst="rect">
            <a:avLst/>
          </a:prstGeom>
          <a:ln w="0">
            <a:noFill/>
          </a:ln>
        </p:spPr>
      </p:pic>
      <p:sp>
        <p:nvSpPr>
          <p:cNvPr id="1199" name="Prostokąt 6"/>
          <p:cNvSpPr/>
          <p:nvPr/>
        </p:nvSpPr>
        <p:spPr>
          <a:xfrm>
            <a:off x="250920" y="765000"/>
            <a:ext cx="8008920" cy="47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Część I – szkolenie ogól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Zapoznanie członków OKW z przepisami praw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w szczególności omówieni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adań OKW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organizacji i trybu pracy OKW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mian w składzie OKW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obowiązków i uprawnień członków OKW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ynagrodzenia członków OKW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organizacji pierwszych posiedzeń OK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Omówienie przekazanych materiałów szkoleniow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AutoShape 6"/>
          <p:cNvSpPr/>
          <p:nvPr/>
        </p:nvSpPr>
        <p:spPr>
          <a:xfrm>
            <a:off x="250920" y="1844640"/>
            <a:ext cx="987264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ole tekstowe 5"/>
          <p:cNvSpPr/>
          <p:nvPr/>
        </p:nvSpPr>
        <p:spPr>
          <a:xfrm>
            <a:off x="2126160" y="506520"/>
            <a:ext cx="407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d032a"/>
                </a:solidFill>
                <a:latin typeface="Arial Black"/>
              </a:rPr>
              <a:t>PROGRAM SZKOL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ole tekstowe 8"/>
          <p:cNvSpPr/>
          <p:nvPr/>
        </p:nvSpPr>
        <p:spPr>
          <a:xfrm>
            <a:off x="8516880" y="836640"/>
            <a:ext cx="576360" cy="368280"/>
          </a:xfrm>
          <a:prstGeom prst="rect">
            <a:avLst/>
          </a:prstGeom>
          <a:noFill/>
          <a:ln w="9360">
            <a:solidFill>
              <a:srgbClr val="9d0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2D8B-BA8E-4292-8956-577BBF59B944}" type="slidenum">
              <a:rPr b="1" lang="pl-PL" sz="1800" spc="-1" strike="noStrike">
                <a:solidFill>
                  <a:srgbClr val="9d032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3" name="Obraz 6" descr=""/>
          <p:cNvPicPr/>
          <p:nvPr/>
        </p:nvPicPr>
        <p:blipFill>
          <a:blip r:embed="rId2"/>
          <a:stretch/>
        </p:blipFill>
        <p:spPr>
          <a:xfrm>
            <a:off x="7885080" y="6313320"/>
            <a:ext cx="1185840" cy="500400"/>
          </a:xfrm>
          <a:prstGeom prst="rect">
            <a:avLst/>
          </a:prstGeom>
          <a:ln w="0">
            <a:noFill/>
          </a:ln>
        </p:spPr>
      </p:pic>
      <p:pic>
        <p:nvPicPr>
          <p:cNvPr id="1204" name="Obraz 8" descr="Free illustration: Businessman, Cartoons, Training - Free ..."/>
          <p:cNvPicPr/>
          <p:nvPr/>
        </p:nvPicPr>
        <p:blipFill>
          <a:blip r:embed="rId3"/>
          <a:stretch/>
        </p:blipFill>
        <p:spPr>
          <a:xfrm>
            <a:off x="6372360" y="2421000"/>
            <a:ext cx="25207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5" name="Obraz 8" descr="Logo - 3109 - 1 stron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595520"/>
          </a:xfrm>
          <a:prstGeom prst="rect">
            <a:avLst/>
          </a:prstGeom>
          <a:ln w="0">
            <a:noFill/>
          </a:ln>
        </p:spPr>
      </p:pic>
      <p:sp>
        <p:nvSpPr>
          <p:cNvPr id="1396" name="pole tekstowe 8"/>
          <p:cNvSpPr/>
          <p:nvPr/>
        </p:nvSpPr>
        <p:spPr>
          <a:xfrm>
            <a:off x="8516880" y="836640"/>
            <a:ext cx="576360" cy="368280"/>
          </a:xfrm>
          <a:prstGeom prst="rect">
            <a:avLst/>
          </a:prstGeom>
          <a:noFill/>
          <a:ln w="9360">
            <a:solidFill>
              <a:srgbClr val="9d0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C8E9-3891-4FA8-9CAF-A8F96027C2E2}" type="slidenum">
              <a:rPr b="1" lang="pl-PL" sz="1800" spc="-1" strike="noStrike">
                <a:solidFill>
                  <a:srgbClr val="9d032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7" name="Obraz 6" descr=""/>
          <p:cNvPicPr/>
          <p:nvPr/>
        </p:nvPicPr>
        <p:blipFill>
          <a:blip r:embed="rId2"/>
          <a:stretch/>
        </p:blipFill>
        <p:spPr>
          <a:xfrm>
            <a:off x="7885080" y="6313320"/>
            <a:ext cx="1185840" cy="500400"/>
          </a:xfrm>
          <a:prstGeom prst="rect">
            <a:avLst/>
          </a:prstGeom>
          <a:ln w="0">
            <a:noFill/>
          </a:ln>
        </p:spPr>
      </p:pic>
      <p:sp>
        <p:nvSpPr>
          <p:cNvPr id="1398" name="pole tekstowe 5"/>
          <p:cNvSpPr/>
          <p:nvPr/>
        </p:nvSpPr>
        <p:spPr>
          <a:xfrm>
            <a:off x="1022760" y="549360"/>
            <a:ext cx="569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9d032a"/>
                </a:solidFill>
                <a:latin typeface="Arial Black"/>
              </a:rPr>
              <a:t>ORGANIZACJA PIERWSZYCH POSIEDZEŃ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9d032a"/>
                </a:solidFill>
                <a:latin typeface="Arial Black"/>
              </a:rPr>
              <a:t>OBWODOWYCH KOMISJI WYBORCZY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rostokąt 1"/>
          <p:cNvSpPr/>
          <p:nvPr/>
        </p:nvSpPr>
        <p:spPr>
          <a:xfrm>
            <a:off x="179280" y="1484280"/>
            <a:ext cx="885672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ts val="2299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ierwsze posiedzenie OKW otwiera i przeprowadza wybór przewodniczącego komisji </a:t>
            </a:r>
            <a:r>
              <a:rPr b="1" lang="pl-PL" sz="1800" spc="-1" strike="noStrike">
                <a:solidFill>
                  <a:srgbClr val="000000"/>
                </a:solidFill>
                <a:latin typeface="Arial Black"/>
              </a:rPr>
              <a:t>najstarszy wiekiem członek OKW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czestniczący w posiedzeniu, który następnie podpisuje uchwałę o wyborze przewodnicząceg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2299"/>
              </a:lnSpc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ybory przewodniczącego OKW i jego zastępcy odbywają się oddzielnie, w głosowaniu jawnym, chyba że członek OKW zażąda przeprowadzenia głosowania tajnego. W razie równej liczby głosów ponawia się głosowani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2299"/>
              </a:lnSpc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 wyborze przewodniczącego OKW prowadzenie posiedzenia OKW przejmuje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nowo wybrany przewodniczący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, który przeprowadza wybór zastępcy przewodniczącego OKW oraz realizuje dalszy porządek obra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0" name="Obraz 2" descr="&lt;strong&gt;Zarząd&lt;/strong&gt; | Cech Rzemiosł w Grodzisku Mazowieckim"/>
          <p:cNvPicPr/>
          <p:nvPr/>
        </p:nvPicPr>
        <p:blipFill>
          <a:blip r:embed="rId3"/>
          <a:stretch/>
        </p:blipFill>
        <p:spPr>
          <a:xfrm>
            <a:off x="4067280" y="5157720"/>
            <a:ext cx="293508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1" name="Obraz 8" descr="Logo - 3109 - 1 strona.jpg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1595520"/>
          </a:xfrm>
          <a:prstGeom prst="rect">
            <a:avLst/>
          </a:prstGeom>
          <a:ln w="0">
            <a:noFill/>
          </a:ln>
        </p:spPr>
      </p:pic>
      <p:sp>
        <p:nvSpPr>
          <p:cNvPr id="1402" name="AutoShape 4"/>
          <p:cNvSpPr/>
          <p:nvPr/>
        </p:nvSpPr>
        <p:spPr>
          <a:xfrm>
            <a:off x="307800" y="-1638360"/>
            <a:ext cx="30672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AutoShape 6"/>
          <p:cNvSpPr/>
          <p:nvPr/>
        </p:nvSpPr>
        <p:spPr>
          <a:xfrm>
            <a:off x="155520" y="233280"/>
            <a:ext cx="987264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ole tekstowe 8"/>
          <p:cNvSpPr/>
          <p:nvPr/>
        </p:nvSpPr>
        <p:spPr>
          <a:xfrm>
            <a:off x="8516880" y="836640"/>
            <a:ext cx="576360" cy="368280"/>
          </a:xfrm>
          <a:prstGeom prst="rect">
            <a:avLst/>
          </a:prstGeom>
          <a:noFill/>
          <a:ln w="9360">
            <a:solidFill>
              <a:srgbClr val="9d0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A1E0-B02B-415E-85AD-40A055DDD088}" type="slidenum">
              <a:rPr b="1" lang="pl-PL" sz="1800" spc="-1" strike="noStrike">
                <a:solidFill>
                  <a:srgbClr val="9d032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5" name="Obraz 6" descr=""/>
          <p:cNvPicPr/>
          <p:nvPr/>
        </p:nvPicPr>
        <p:blipFill>
          <a:blip r:embed="rId2"/>
          <a:stretch/>
        </p:blipFill>
        <p:spPr>
          <a:xfrm>
            <a:off x="7885080" y="6313320"/>
            <a:ext cx="1185840" cy="500400"/>
          </a:xfrm>
          <a:prstGeom prst="rect">
            <a:avLst/>
          </a:prstGeom>
          <a:ln w="0">
            <a:noFill/>
          </a:ln>
        </p:spPr>
      </p:pic>
      <p:sp>
        <p:nvSpPr>
          <p:cNvPr id="1406" name="pole tekstowe 5"/>
          <p:cNvSpPr/>
          <p:nvPr/>
        </p:nvSpPr>
        <p:spPr>
          <a:xfrm>
            <a:off x="655920" y="476280"/>
            <a:ext cx="620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d032a"/>
                </a:solidFill>
                <a:latin typeface="Arial Black"/>
              </a:rPr>
              <a:t>ORGANIZACJA PIERWSZYCH POSIEDZE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d032a"/>
                </a:solidFill>
                <a:latin typeface="Arial Black"/>
              </a:rPr>
              <a:t>OBWODOWYCH KOMISJI WYBORCZY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rostokąt 9"/>
          <p:cNvSpPr/>
          <p:nvPr/>
        </p:nvSpPr>
        <p:spPr>
          <a:xfrm>
            <a:off x="108000" y="1268280"/>
            <a:ext cx="8016840" cy="36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ts val="2398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4/ OKW ustala sposób wykonywania swoich zadań i organizację pracy do dnia wyborów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szczególności czynności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wiązanych                     z głosowaniem korespondencyjnym, przygotowaniem lokalu wyborczego, odbiorem i zabezpieczeniem kart do głosowania, formularzy protokołu (po 4 egz. dla każdych wyborów), spisu wyborców, pieczęci komisji, obwieszczeń i innych materiałów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ts val="2398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5/ OKW ustala godzinę rozpoczęcia pracy w dniu głosowania uwzględniającą wykonanie wszystkich czynności, w szczególności konieczność ostemplowania wszystkich kart do głosowan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/ OKW podaje niezwłocznie do wiadomości publicznej informację      o swoim składzie z uwzględnieniem pełnionych funkc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8" name="Picture 12" descr="F:\SZKOLENIA\2019\ODUDFT0.png"/>
          <p:cNvPicPr/>
          <p:nvPr/>
        </p:nvPicPr>
        <p:blipFill>
          <a:blip r:embed="rId3"/>
          <a:srcRect l="7136" t="7398" r="7411" b="6031"/>
          <a:stretch/>
        </p:blipFill>
        <p:spPr>
          <a:xfrm>
            <a:off x="8101080" y="3284640"/>
            <a:ext cx="1008000" cy="936360"/>
          </a:xfrm>
          <a:prstGeom prst="rect">
            <a:avLst/>
          </a:prstGeom>
          <a:ln w="0">
            <a:noFill/>
          </a:ln>
        </p:spPr>
      </p:pic>
      <p:sp>
        <p:nvSpPr>
          <p:cNvPr id="1409" name="Prostokąt 1"/>
          <p:cNvSpPr/>
          <p:nvPr/>
        </p:nvSpPr>
        <p:spPr>
          <a:xfrm>
            <a:off x="5651640" y="4987800"/>
            <a:ext cx="2160360" cy="1739880"/>
          </a:xfrm>
          <a:prstGeom prst="rect">
            <a:avLst/>
          </a:prstGeom>
          <a:solidFill>
            <a:srgbClr val="c8e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" spc="-1" strike="noStrike">
                <a:solidFill>
                  <a:srgbClr val="000000"/>
                </a:solidFill>
                <a:latin typeface="Arial"/>
              </a:rPr>
              <a:t>Informacj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" spc="-1" strike="noStrike">
                <a:solidFill>
                  <a:srgbClr val="000000"/>
                </a:solidFill>
                <a:latin typeface="Arial"/>
              </a:rPr>
              <a:t>Obwodowej Komisji Wyborczej nr … w …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" spc="-1" strike="noStrike">
                <a:solidFill>
                  <a:srgbClr val="000000"/>
                </a:solidFill>
                <a:latin typeface="Arial"/>
              </a:rPr>
              <a:t>o składzie i pełnionych funkcjach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600" spc="-1" strike="noStrike">
                <a:solidFill>
                  <a:srgbClr val="000000"/>
                </a:solidFill>
                <a:latin typeface="Arial"/>
              </a:rPr>
              <a:t>w Obwodowej Komisji Wyborczej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" spc="-1" strike="noStrike">
                <a:solidFill>
                  <a:srgbClr val="000000"/>
                </a:solidFill>
                <a:latin typeface="Arial"/>
              </a:rPr>
              <a:t>1/ Przewodniczący OKW               - ………...……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" spc="-1" strike="noStrike">
                <a:solidFill>
                  <a:srgbClr val="000000"/>
                </a:solidFill>
                <a:latin typeface="Arial"/>
              </a:rPr>
              <a:t>2/ Zastępca Przewodniczącego   - ………......….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" spc="-1" strike="noStrike">
                <a:solidFill>
                  <a:srgbClr val="000000"/>
                </a:solidFill>
                <a:latin typeface="Arial"/>
              </a:rPr>
              <a:t>3/ Członkowie </a:t>
            </a:r>
            <a:r>
              <a:rPr b="1" lang="pl-PL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600" spc="-1" strike="noStrike">
                <a:solidFill>
                  <a:srgbClr val="000000"/>
                </a:solidFill>
                <a:latin typeface="Arial"/>
              </a:rPr>
              <a:t>- ……………………………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600" spc="-1" strike="noStrike">
                <a:solidFill>
                  <a:srgbClr val="000000"/>
                </a:solidFill>
                <a:latin typeface="Arial"/>
              </a:rPr>
              <a:t>- ……………………………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600" spc="-1" strike="noStrike">
                <a:solidFill>
                  <a:srgbClr val="000000"/>
                </a:solidFill>
                <a:latin typeface="Arial"/>
              </a:rPr>
              <a:t>- ……………………………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600" spc="-1" strike="noStrike">
                <a:solidFill>
                  <a:srgbClr val="000000"/>
                </a:solidFill>
                <a:latin typeface="Arial"/>
              </a:rPr>
              <a:t>- ……………………………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600" spc="-1" strike="noStrike">
                <a:solidFill>
                  <a:srgbClr val="000000"/>
                </a:solidFill>
                <a:latin typeface="Arial"/>
              </a:rPr>
              <a:t>- ……………………………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" spc="-1" strike="noStrike">
                <a:solidFill>
                  <a:srgbClr val="000000"/>
                </a:solidFill>
                <a:latin typeface="Arial"/>
              </a:rPr>
              <a:t>Przewodnicząc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" spc="-1" strike="noStrike">
                <a:solidFill>
                  <a:srgbClr val="000000"/>
                </a:solidFill>
                <a:latin typeface="Arial"/>
              </a:rPr>
              <a:t>Obwodowej Komisji Wyborczej nr …w …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" spc="-1" strike="noStrike">
                <a:solidFill>
                  <a:srgbClr val="000000"/>
                </a:solidFill>
                <a:latin typeface="Arial"/>
              </a:rPr>
              <a:t>………………</a:t>
            </a:r>
            <a:r>
              <a:rPr b="1" lang="pl-PL" sz="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rostokąt 6"/>
          <p:cNvSpPr/>
          <p:nvPr/>
        </p:nvSpPr>
        <p:spPr>
          <a:xfrm>
            <a:off x="252360" y="5037120"/>
            <a:ext cx="4535640" cy="119124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90181b"/>
                </a:solidFill>
                <a:latin typeface="Arial"/>
              </a:rPr>
              <a:t>Ustalona godzina rozpoczęcia pracy OKW w dniu głosowania podana jest do publicznej wiadomości w budynku lokalu wyborczego i w urzędzie gmi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1" name="Obraz 2" descr="clipart_of_15195_sm_2.jpg"/>
          <p:cNvPicPr/>
          <p:nvPr/>
        </p:nvPicPr>
        <p:blipFill>
          <a:blip r:embed="rId1"/>
          <a:stretch/>
        </p:blipFill>
        <p:spPr>
          <a:xfrm>
            <a:off x="250920" y="1614600"/>
            <a:ext cx="1700280" cy="1022400"/>
          </a:xfrm>
          <a:prstGeom prst="rect">
            <a:avLst/>
          </a:prstGeom>
          <a:ln w="0">
            <a:noFill/>
          </a:ln>
        </p:spPr>
      </p:pic>
      <p:sp>
        <p:nvSpPr>
          <p:cNvPr id="1412" name="pole tekstowe 5"/>
          <p:cNvSpPr/>
          <p:nvPr/>
        </p:nvSpPr>
        <p:spPr>
          <a:xfrm>
            <a:off x="2082960" y="1522440"/>
            <a:ext cx="5729040" cy="2498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II posiedzenie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dbywa się, jeśli poniższe czynności nie zostały ustalone na pierwszym posiedzeni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mówienie organizacji pracy przed i w dniu wyboró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stalenie godziny rozpoczęcia pracy OKW w dniu  głosowania.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osiedzenie to odbywa się nie później niż w przeddzień głosowan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ole tekstowe 1"/>
          <p:cNvSpPr/>
          <p:nvPr/>
        </p:nvSpPr>
        <p:spPr>
          <a:xfrm>
            <a:off x="1337400" y="493560"/>
            <a:ext cx="550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d032a"/>
                </a:solidFill>
                <a:latin typeface="Arial Black"/>
                <a:ea typeface="Arial"/>
              </a:rPr>
              <a:t>ZADANIA  OKW  PRZED DNIEM WYBORÓ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4" name="Obraz 8" descr="Logo - 3109 - 1 stron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595520"/>
          </a:xfrm>
          <a:prstGeom prst="rect">
            <a:avLst/>
          </a:prstGeom>
          <a:ln w="0">
            <a:noFill/>
          </a:ln>
        </p:spPr>
      </p:pic>
      <p:sp>
        <p:nvSpPr>
          <p:cNvPr id="1415" name="AutoShape 4"/>
          <p:cNvSpPr/>
          <p:nvPr/>
        </p:nvSpPr>
        <p:spPr>
          <a:xfrm>
            <a:off x="900000" y="-1871640"/>
            <a:ext cx="30672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AutoShape 6"/>
          <p:cNvSpPr/>
          <p:nvPr/>
        </p:nvSpPr>
        <p:spPr>
          <a:xfrm>
            <a:off x="155520" y="233280"/>
            <a:ext cx="987264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ole tekstowe 8"/>
          <p:cNvSpPr/>
          <p:nvPr/>
        </p:nvSpPr>
        <p:spPr>
          <a:xfrm>
            <a:off x="8516880" y="836640"/>
            <a:ext cx="576360" cy="368280"/>
          </a:xfrm>
          <a:prstGeom prst="rect">
            <a:avLst/>
          </a:prstGeom>
          <a:noFill/>
          <a:ln w="9360">
            <a:solidFill>
              <a:srgbClr val="9d0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ED09-4269-4CCB-B4E9-982E53EB5162}" type="slidenum">
              <a:rPr b="1" lang="pl-PL" sz="1800" spc="-1" strike="noStrike">
                <a:solidFill>
                  <a:srgbClr val="9d032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8" name="Obraz 6" descr=""/>
          <p:cNvPicPr/>
          <p:nvPr/>
        </p:nvPicPr>
        <p:blipFill>
          <a:blip r:embed="rId2"/>
          <a:stretch/>
        </p:blipFill>
        <p:spPr>
          <a:xfrm>
            <a:off x="7596360" y="6021360"/>
            <a:ext cx="1185840" cy="500040"/>
          </a:xfrm>
          <a:prstGeom prst="rect">
            <a:avLst/>
          </a:prstGeom>
          <a:ln w="0">
            <a:noFill/>
          </a:ln>
        </p:spPr>
      </p:pic>
      <p:sp>
        <p:nvSpPr>
          <p:cNvPr id="1419" name="pole tekstowe 5"/>
          <p:cNvSpPr/>
          <p:nvPr/>
        </p:nvSpPr>
        <p:spPr>
          <a:xfrm>
            <a:off x="801360" y="333360"/>
            <a:ext cx="606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d032a"/>
                </a:solidFill>
                <a:latin typeface="Arial Black"/>
              </a:rPr>
              <a:t>SZKOLE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d032a"/>
                </a:solidFill>
                <a:latin typeface="Arial Black"/>
              </a:rPr>
              <a:t>OBWODOWYCH KOMISJI WYBORCZ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rostokąt 7"/>
          <p:cNvSpPr/>
          <p:nvPr/>
        </p:nvSpPr>
        <p:spPr>
          <a:xfrm>
            <a:off x="34920" y="1413000"/>
            <a:ext cx="8964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rostokąt 1"/>
          <p:cNvSpPr/>
          <p:nvPr/>
        </p:nvSpPr>
        <p:spPr>
          <a:xfrm>
            <a:off x="179280" y="1413000"/>
            <a:ext cx="84981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 Black"/>
              </a:rPr>
              <a:t>Omówienie przekazanych materiałów szkoleniowych, w ty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 Black"/>
              </a:rPr>
              <a:t>1/  wyciąg z Kodeksu wyborczeg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 Black"/>
              </a:rPr>
              <a:t>2/</a:t>
            </a:r>
            <a:r>
              <a:rPr b="1" lang="pl-P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 Black"/>
              </a:rPr>
              <a:t>w</a:t>
            </a:r>
            <a:r>
              <a:rPr b="1" lang="pl-PL" sz="1800" spc="-1" strike="noStrike">
                <a:solidFill>
                  <a:srgbClr val="000000"/>
                </a:solidFill>
                <a:latin typeface="Arial Black"/>
                <a:ea typeface="Arial"/>
              </a:rPr>
              <a:t>ytyczne dla obwodowych komisji wyborczych dotyczące zadań i trybu przygotowania oraz przeprowadzenia głosowania             w obwodach głosowania utworzonych w kraju w wyborach do Sejmu Rzeczypospolitej Polskiej i do Senatu Rzeczypospolitej Polskiej zarządzonych na dzień 13 października 2019 r. </a:t>
            </a:r>
            <a:r>
              <a:rPr b="0" lang="pl-PL" sz="1800" spc="-1" strike="noStrike">
                <a:solidFill>
                  <a:srgbClr val="000000"/>
                </a:solidFill>
                <a:latin typeface="Arial Black"/>
                <a:ea typeface="Arial"/>
              </a:rPr>
              <a:t>będące załącznikiem do uchwały nr </a:t>
            </a:r>
            <a:r>
              <a:rPr b="0" lang="pl-PL" sz="1800" spc="-1" strike="noStrike">
                <a:solidFill>
                  <a:srgbClr val="ff0000"/>
                </a:solidFill>
                <a:latin typeface="Arial Black"/>
                <a:ea typeface="Arial"/>
              </a:rPr>
              <a:t>210/2019</a:t>
            </a:r>
            <a:r>
              <a:rPr b="1" lang="pl-PL" sz="18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 Black"/>
                <a:ea typeface="Arial"/>
              </a:rPr>
              <a:t>Państwowej Komisji Wyborczej z dnia 2 września 2019 r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rostokąt 9"/>
          <p:cNvSpPr/>
          <p:nvPr/>
        </p:nvSpPr>
        <p:spPr>
          <a:xfrm>
            <a:off x="395280" y="443700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 Black"/>
              </a:rPr>
              <a:t>Przekazane dla OKW wydrukowane materiały oraz inne uchwały Państwowej Komisji Wyborczej określające podstawę prawną funkcjonowania i zadania OKW są dostępne dla każdej zainteresowanej osoby na stronie internetowej Państwowej Komisji Wyborczej pod adres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66"/>
                </a:solidFill>
                <a:latin typeface="Arial Black"/>
              </a:rPr>
              <a:t>https://wybory.gov.pl/sejmsenat2019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 Black"/>
              </a:rPr>
              <a:t>w zakładce: </a:t>
            </a:r>
            <a:r>
              <a:rPr b="1" lang="pl-PL" sz="1800" spc="-1" strike="noStrike">
                <a:solidFill>
                  <a:srgbClr val="002060"/>
                </a:solidFill>
                <a:latin typeface="Arial Black"/>
              </a:rPr>
              <a:t>Akty praw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3" name="Obraz 8" descr="Logo - 3109 - 1 strona.jpg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1595520"/>
          </a:xfrm>
          <a:prstGeom prst="rect">
            <a:avLst/>
          </a:prstGeom>
          <a:ln w="0">
            <a:noFill/>
          </a:ln>
        </p:spPr>
      </p:pic>
      <p:sp>
        <p:nvSpPr>
          <p:cNvPr id="1424" name="AutoShape 4"/>
          <p:cNvSpPr/>
          <p:nvPr/>
        </p:nvSpPr>
        <p:spPr>
          <a:xfrm>
            <a:off x="307800" y="-1638360"/>
            <a:ext cx="30672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AutoShape 6"/>
          <p:cNvSpPr/>
          <p:nvPr/>
        </p:nvSpPr>
        <p:spPr>
          <a:xfrm>
            <a:off x="155520" y="233280"/>
            <a:ext cx="987264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ole tekstowe 8"/>
          <p:cNvSpPr/>
          <p:nvPr/>
        </p:nvSpPr>
        <p:spPr>
          <a:xfrm>
            <a:off x="8516880" y="836640"/>
            <a:ext cx="576360" cy="368280"/>
          </a:xfrm>
          <a:prstGeom prst="rect">
            <a:avLst/>
          </a:prstGeom>
          <a:noFill/>
          <a:ln w="9360">
            <a:solidFill>
              <a:srgbClr val="9d0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59AF-0F57-4708-82EC-FF32B2EF1A0F}" type="slidenum">
              <a:rPr b="1" lang="pl-PL" sz="1800" spc="-1" strike="noStrike">
                <a:solidFill>
                  <a:srgbClr val="9d032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7" name="Obraz 6" descr=""/>
          <p:cNvPicPr/>
          <p:nvPr/>
        </p:nvPicPr>
        <p:blipFill>
          <a:blip r:embed="rId2"/>
          <a:stretch/>
        </p:blipFill>
        <p:spPr>
          <a:xfrm>
            <a:off x="7524720" y="6093000"/>
            <a:ext cx="1185840" cy="500040"/>
          </a:xfrm>
          <a:prstGeom prst="rect">
            <a:avLst/>
          </a:prstGeom>
          <a:ln w="0">
            <a:noFill/>
          </a:ln>
        </p:spPr>
      </p:pic>
      <p:sp>
        <p:nvSpPr>
          <p:cNvPr id="1428" name="pole tekstowe 5"/>
          <p:cNvSpPr/>
          <p:nvPr/>
        </p:nvSpPr>
        <p:spPr>
          <a:xfrm>
            <a:off x="3070800" y="62064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d032a"/>
                </a:solidFill>
                <a:latin typeface="Arial Black"/>
              </a:rPr>
              <a:t>SZKOL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rostokąt 7"/>
          <p:cNvSpPr/>
          <p:nvPr/>
        </p:nvSpPr>
        <p:spPr>
          <a:xfrm>
            <a:off x="395280" y="11304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d032a"/>
                </a:solidFill>
                <a:latin typeface="Arial Black"/>
              </a:rPr>
              <a:t>OBWODOWYCH KOMISJI WYBORCZ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rostokąt 1"/>
          <p:cNvSpPr/>
          <p:nvPr/>
        </p:nvSpPr>
        <p:spPr>
          <a:xfrm>
            <a:off x="395280" y="1989000"/>
            <a:ext cx="835344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  <a:ea typeface="Arial"/>
              </a:rPr>
              <a:t>Część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Szkolenie szczegółowe w zakresie przygotow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i przeprowadzenia głosowania oraz  ustalenia wyników głosowania w obwodzie w wyborach do Sejmu RP i do Senatu zarządzonych na dzień 13 października 2019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zgodnie z wytycznymi Państwowej Komisji Wyborcz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rostokąt zaokrąglony 9"/>
          <p:cNvSpPr/>
          <p:nvPr/>
        </p:nvSpPr>
        <p:spPr>
          <a:xfrm>
            <a:off x="324000" y="2276640"/>
            <a:ext cx="8459640" cy="2952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5" name="Picture 2" descr="C:\Users\ppp\Desktop\19383.jpg"/>
          <p:cNvPicPr/>
          <p:nvPr/>
        </p:nvPicPr>
        <p:blipFill>
          <a:blip r:embed="rId1"/>
          <a:srcRect l="42840" t="47648" r="23141" b="28415"/>
          <a:stretch/>
        </p:blipFill>
        <p:spPr>
          <a:xfrm>
            <a:off x="4859280" y="5013360"/>
            <a:ext cx="2521080" cy="1773360"/>
          </a:xfrm>
          <a:prstGeom prst="rect">
            <a:avLst/>
          </a:prstGeom>
          <a:ln w="0">
            <a:noFill/>
          </a:ln>
        </p:spPr>
      </p:pic>
      <p:pic>
        <p:nvPicPr>
          <p:cNvPr id="1206" name="Obraz 8" descr="Logo - 3109 - 1 stron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595520"/>
          </a:xfrm>
          <a:prstGeom prst="rect">
            <a:avLst/>
          </a:prstGeom>
          <a:ln w="0">
            <a:noFill/>
          </a:ln>
        </p:spPr>
      </p:pic>
      <p:sp>
        <p:nvSpPr>
          <p:cNvPr id="1207" name="Prostokąt 6"/>
          <p:cNvSpPr/>
          <p:nvPr/>
        </p:nvSpPr>
        <p:spPr>
          <a:xfrm>
            <a:off x="108000" y="1125360"/>
            <a:ext cx="8497800" cy="39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Część II – szkolenie szczegółow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wg wytycznych PK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Zadania OKW </a:t>
            </a:r>
            <a:r>
              <a:rPr b="1" lang="pl-PL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do dnia głosowania</a:t>
            </a:r>
            <a:r>
              <a:rPr b="1" lang="pl-PL" sz="20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- w zakres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głosowania korespondencyjn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przygotowania lokalu wyborcz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odbioru kart do głosowania i materiałów wyborcz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Zadania OKW </a:t>
            </a:r>
            <a:r>
              <a:rPr b="1" lang="pl-PL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w dniu głosowania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- w zakres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8584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zeprowadzenia głosow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8584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ustalenia wyników głosow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8584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przekazania wyników głosowania i dokumentacji wyborcz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AutoShape 4"/>
          <p:cNvSpPr/>
          <p:nvPr/>
        </p:nvSpPr>
        <p:spPr>
          <a:xfrm>
            <a:off x="307800" y="-1638360"/>
            <a:ext cx="30672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AutoShape 6"/>
          <p:cNvSpPr/>
          <p:nvPr/>
        </p:nvSpPr>
        <p:spPr>
          <a:xfrm>
            <a:off x="0" y="189000"/>
            <a:ext cx="987264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ole tekstowe 5"/>
          <p:cNvSpPr/>
          <p:nvPr/>
        </p:nvSpPr>
        <p:spPr>
          <a:xfrm>
            <a:off x="2318040" y="509760"/>
            <a:ext cx="407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d032a"/>
                </a:solidFill>
                <a:latin typeface="Arial Black"/>
              </a:rPr>
              <a:t>PROGRAM SZKOL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ole tekstowe 8"/>
          <p:cNvSpPr/>
          <p:nvPr/>
        </p:nvSpPr>
        <p:spPr>
          <a:xfrm>
            <a:off x="8516880" y="836640"/>
            <a:ext cx="576360" cy="368280"/>
          </a:xfrm>
          <a:prstGeom prst="rect">
            <a:avLst/>
          </a:prstGeom>
          <a:noFill/>
          <a:ln w="9360">
            <a:solidFill>
              <a:srgbClr val="9d0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B646-0D32-4329-9EAA-6803D31541A7}" type="slidenum">
              <a:rPr b="1" lang="pl-PL" sz="1800" spc="-1" strike="noStrike">
                <a:solidFill>
                  <a:srgbClr val="9d032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2" name="Obraz 6" descr=""/>
          <p:cNvPicPr/>
          <p:nvPr/>
        </p:nvPicPr>
        <p:blipFill>
          <a:blip r:embed="rId3"/>
          <a:stretch/>
        </p:blipFill>
        <p:spPr>
          <a:xfrm>
            <a:off x="7885080" y="6313320"/>
            <a:ext cx="1185840" cy="5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3" name="Obraz 8" descr="Logo - 3109 - 1 stron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595520"/>
          </a:xfrm>
          <a:prstGeom prst="rect">
            <a:avLst/>
          </a:prstGeom>
          <a:ln w="0">
            <a:noFill/>
          </a:ln>
        </p:spPr>
      </p:pic>
      <p:sp>
        <p:nvSpPr>
          <p:cNvPr id="1214" name="Prostokąt 6"/>
          <p:cNvSpPr/>
          <p:nvPr/>
        </p:nvSpPr>
        <p:spPr>
          <a:xfrm>
            <a:off x="395280" y="1916280"/>
            <a:ext cx="792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Część III – posiedzenie OK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(Przebieg posiedzenia określony jest w § 3 Regulaminu OK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AutoShape 4"/>
          <p:cNvSpPr/>
          <p:nvPr/>
        </p:nvSpPr>
        <p:spPr>
          <a:xfrm>
            <a:off x="307800" y="-1638360"/>
            <a:ext cx="30672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AutoShape 6"/>
          <p:cNvSpPr/>
          <p:nvPr/>
        </p:nvSpPr>
        <p:spPr>
          <a:xfrm>
            <a:off x="0" y="189000"/>
            <a:ext cx="987264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ole tekstowe 5"/>
          <p:cNvSpPr/>
          <p:nvPr/>
        </p:nvSpPr>
        <p:spPr>
          <a:xfrm>
            <a:off x="2422800" y="655560"/>
            <a:ext cx="407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d032a"/>
                </a:solidFill>
                <a:latin typeface="Arial Black"/>
              </a:rPr>
              <a:t>PROGRAM SZKOL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ole tekstowe 8"/>
          <p:cNvSpPr/>
          <p:nvPr/>
        </p:nvSpPr>
        <p:spPr>
          <a:xfrm>
            <a:off x="8516880" y="836640"/>
            <a:ext cx="576360" cy="368280"/>
          </a:xfrm>
          <a:prstGeom prst="rect">
            <a:avLst/>
          </a:prstGeom>
          <a:noFill/>
          <a:ln w="9360">
            <a:solidFill>
              <a:srgbClr val="9d0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7D39-7A1E-4228-A5A9-2922DF000A3D}" type="slidenum">
              <a:rPr b="1" lang="pl-PL" sz="1800" spc="-1" strike="noStrike">
                <a:solidFill>
                  <a:srgbClr val="9d032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9" name="Obraz 6" descr=""/>
          <p:cNvPicPr/>
          <p:nvPr/>
        </p:nvPicPr>
        <p:blipFill>
          <a:blip r:embed="rId2"/>
          <a:stretch/>
        </p:blipFill>
        <p:spPr>
          <a:xfrm>
            <a:off x="7885080" y="6313320"/>
            <a:ext cx="1185840" cy="500400"/>
          </a:xfrm>
          <a:prstGeom prst="rect">
            <a:avLst/>
          </a:prstGeom>
          <a:ln w="0">
            <a:noFill/>
          </a:ln>
        </p:spPr>
      </p:pic>
      <p:pic>
        <p:nvPicPr>
          <p:cNvPr id="1220" name="Picture 2" descr="http://janowice-bestwina.pl/wp-content/uploads/2013/04/1.jpg"/>
          <p:cNvPicPr/>
          <p:nvPr/>
        </p:nvPicPr>
        <p:blipFill>
          <a:blip r:embed="rId3"/>
          <a:stretch/>
        </p:blipFill>
        <p:spPr>
          <a:xfrm>
            <a:off x="5292720" y="4005360"/>
            <a:ext cx="2448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1" name="Obraz 8" descr="Logo - 3109 - 1 stron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595520"/>
          </a:xfrm>
          <a:prstGeom prst="rect">
            <a:avLst/>
          </a:prstGeom>
          <a:ln w="0">
            <a:noFill/>
          </a:ln>
        </p:spPr>
      </p:pic>
      <p:sp>
        <p:nvSpPr>
          <p:cNvPr id="1222" name="Prostokąt 6"/>
          <p:cNvSpPr/>
          <p:nvPr/>
        </p:nvSpPr>
        <p:spPr>
          <a:xfrm>
            <a:off x="468360" y="141300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 Black"/>
                <a:ea typeface="Arial"/>
              </a:rPr>
              <a:t>Część I – szkolenie ogól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AutoShape 4"/>
          <p:cNvSpPr/>
          <p:nvPr/>
        </p:nvSpPr>
        <p:spPr>
          <a:xfrm>
            <a:off x="307800" y="-1638360"/>
            <a:ext cx="30672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AutoShape 6"/>
          <p:cNvSpPr/>
          <p:nvPr/>
        </p:nvSpPr>
        <p:spPr>
          <a:xfrm>
            <a:off x="1187280" y="189000"/>
            <a:ext cx="568836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ole tekstowe 8"/>
          <p:cNvSpPr/>
          <p:nvPr/>
        </p:nvSpPr>
        <p:spPr>
          <a:xfrm>
            <a:off x="8516880" y="836640"/>
            <a:ext cx="576360" cy="368280"/>
          </a:xfrm>
          <a:prstGeom prst="rect">
            <a:avLst/>
          </a:prstGeom>
          <a:noFill/>
          <a:ln w="9360">
            <a:solidFill>
              <a:srgbClr val="9d0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1E0F-F6BF-46DD-8144-050CAB457663}" type="slidenum">
              <a:rPr b="1" lang="pl-PL" sz="1800" spc="-1" strike="noStrike">
                <a:solidFill>
                  <a:srgbClr val="9d032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6" name="Obraz 6" descr=""/>
          <p:cNvPicPr/>
          <p:nvPr/>
        </p:nvPicPr>
        <p:blipFill>
          <a:blip r:embed="rId2"/>
          <a:stretch/>
        </p:blipFill>
        <p:spPr>
          <a:xfrm>
            <a:off x="7885080" y="6313320"/>
            <a:ext cx="1185840" cy="500400"/>
          </a:xfrm>
          <a:prstGeom prst="rect">
            <a:avLst/>
          </a:prstGeom>
          <a:ln w="0">
            <a:noFill/>
          </a:ln>
        </p:spPr>
      </p:pic>
      <p:pic>
        <p:nvPicPr>
          <p:cNvPr id="1227" name="Obraz 7" descr=""/>
          <p:cNvPicPr/>
          <p:nvPr/>
        </p:nvPicPr>
        <p:blipFill>
          <a:blip r:embed="rId3"/>
          <a:stretch/>
        </p:blipFill>
        <p:spPr>
          <a:xfrm>
            <a:off x="2843280" y="3852720"/>
            <a:ext cx="2892240" cy="2168640"/>
          </a:xfrm>
          <a:prstGeom prst="rect">
            <a:avLst/>
          </a:prstGeom>
          <a:ln w="0">
            <a:noFill/>
          </a:ln>
        </p:spPr>
      </p:pic>
      <p:sp>
        <p:nvSpPr>
          <p:cNvPr id="1228" name="pole tekstowe 5"/>
          <p:cNvSpPr/>
          <p:nvPr/>
        </p:nvSpPr>
        <p:spPr>
          <a:xfrm>
            <a:off x="1547640" y="2665440"/>
            <a:ext cx="57596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 Black"/>
              </a:rPr>
              <a:t>PODSTAWA PRAW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 Black"/>
              </a:rPr>
              <a:t>określająca funkcjonowanie i zadania OK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9" name="Obraz 8" descr="Logo - 3109 - 1 stron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595520"/>
          </a:xfrm>
          <a:prstGeom prst="rect">
            <a:avLst/>
          </a:prstGeom>
          <a:ln w="0">
            <a:noFill/>
          </a:ln>
        </p:spPr>
      </p:pic>
      <p:sp>
        <p:nvSpPr>
          <p:cNvPr id="1230" name="AutoShape 6"/>
          <p:cNvSpPr/>
          <p:nvPr/>
        </p:nvSpPr>
        <p:spPr>
          <a:xfrm>
            <a:off x="2050920" y="333360"/>
            <a:ext cx="46087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ole tekstowe 8"/>
          <p:cNvSpPr/>
          <p:nvPr/>
        </p:nvSpPr>
        <p:spPr>
          <a:xfrm>
            <a:off x="8516880" y="836640"/>
            <a:ext cx="576360" cy="368280"/>
          </a:xfrm>
          <a:prstGeom prst="rect">
            <a:avLst/>
          </a:prstGeom>
          <a:noFill/>
          <a:ln w="9360">
            <a:solidFill>
              <a:srgbClr val="9d0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B9C8-BF59-4D74-95AF-E377A331DC10}" type="slidenum">
              <a:rPr b="1" lang="pl-PL" sz="1800" spc="-1" strike="noStrike">
                <a:solidFill>
                  <a:srgbClr val="9d032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2" name="Obraz 6" descr=""/>
          <p:cNvPicPr/>
          <p:nvPr/>
        </p:nvPicPr>
        <p:blipFill>
          <a:blip r:embed="rId2"/>
          <a:stretch/>
        </p:blipFill>
        <p:spPr>
          <a:xfrm>
            <a:off x="7885080" y="6313320"/>
            <a:ext cx="1185840" cy="500400"/>
          </a:xfrm>
          <a:prstGeom prst="rect">
            <a:avLst/>
          </a:prstGeom>
          <a:ln w="0">
            <a:noFill/>
          </a:ln>
        </p:spPr>
      </p:pic>
      <p:sp>
        <p:nvSpPr>
          <p:cNvPr id="1233" name="pole tekstowe 1"/>
          <p:cNvSpPr/>
          <p:nvPr/>
        </p:nvSpPr>
        <p:spPr>
          <a:xfrm>
            <a:off x="330120" y="1671480"/>
            <a:ext cx="8713800" cy="48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Arial"/>
                <a:ea typeface="Arial"/>
              </a:rPr>
              <a:t>Ustawa z dnia 5 stycznia 2011 r. — Kodeks wyborczy (Dz. U. z 2019r. poz. 684 i 1504)</a:t>
            </a:r>
            <a:r>
              <a:rPr b="1" lang="pl-PL" sz="1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CHWAŁA nr 11/2019 PAŃSTWOWEJ KOMISJI WYBORCZEJ  z dnia 27 lutego 2019 r.  w sprawie powoływania obwodowych komisji wyborczych w obwodach głosowania utworzonych w kraju, w wyborach do Sejmu Rzeczypospolitej Polskiej i do Senatu Rzeczypospolitej Polskiej, Prezydenta Rzeczypospolitej Polskiej oraz do Parlamentu Europejskiego (M.P. poz. 267) - dalej „uchwała nr 11/2019 PKW” zmieniona uchwałą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 nr 79/2019 z dnia 5 sierpnia 2019 r. (M.P. poz. 771 ) – w zakresie zmiany załącznika – wzoru zgłoszenia kandydatów - dalej „uchwała nr 79/2019 PKW”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Arial"/>
                <a:ea typeface="Arial"/>
              </a:rPr>
              <a:t>Uchwała nr 139/2019 Państwowej Komisji Wyborczej z dnia 22 sierpnia 2019 r. 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  <a:ea typeface="Arial"/>
              </a:rPr>
              <a:t>w sprawie regulaminów okręgowych i obwodowych komisji wyborczych powołanych do przeprowadzenia wyborów do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Sejmu Rzeczypospolitej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olskiej i do Senatu Rzeczypospolitej Polskiej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  <a:ea typeface="Arial"/>
              </a:rPr>
              <a:t> (M. P. poz. 813)</a:t>
            </a:r>
            <a:r>
              <a:rPr b="1" lang="pl-PL" sz="1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ole tekstowe 5"/>
          <p:cNvSpPr/>
          <p:nvPr/>
        </p:nvSpPr>
        <p:spPr>
          <a:xfrm>
            <a:off x="2050920" y="603360"/>
            <a:ext cx="50371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9d032a"/>
                </a:solidFill>
                <a:latin typeface="Arial Black"/>
              </a:rPr>
              <a:t>PODSTAWA PRAW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9d032a"/>
                </a:solidFill>
                <a:latin typeface="Arial Black"/>
              </a:rPr>
              <a:t>określająca funkcjonowanie OK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5" name="Obraz 1" descr=""/>
          <p:cNvPicPr/>
          <p:nvPr/>
        </p:nvPicPr>
        <p:blipFill>
          <a:blip r:embed="rId3"/>
          <a:stretch/>
        </p:blipFill>
        <p:spPr>
          <a:xfrm>
            <a:off x="544680" y="43956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6" name="Obraz 8" descr="Logo - 3109 - 1 stron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1237" name="AutoShape 6"/>
          <p:cNvSpPr/>
          <p:nvPr/>
        </p:nvSpPr>
        <p:spPr>
          <a:xfrm>
            <a:off x="155520" y="233280"/>
            <a:ext cx="987264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ole tekstowe 8"/>
          <p:cNvSpPr/>
          <p:nvPr/>
        </p:nvSpPr>
        <p:spPr>
          <a:xfrm>
            <a:off x="8516880" y="836640"/>
            <a:ext cx="576360" cy="368280"/>
          </a:xfrm>
          <a:prstGeom prst="rect">
            <a:avLst/>
          </a:prstGeom>
          <a:noFill/>
          <a:ln w="9360">
            <a:solidFill>
              <a:srgbClr val="9d0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333F-5B36-40EB-8A94-B933945FBE9F}" type="slidenum">
              <a:rPr b="1" lang="pl-PL" sz="1800" spc="-1" strike="noStrike">
                <a:solidFill>
                  <a:srgbClr val="9d032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9" name="Obraz 6" descr=""/>
          <p:cNvPicPr/>
          <p:nvPr/>
        </p:nvPicPr>
        <p:blipFill>
          <a:blip r:embed="rId2"/>
          <a:stretch/>
        </p:blipFill>
        <p:spPr>
          <a:xfrm>
            <a:off x="7885080" y="6313320"/>
            <a:ext cx="1185840" cy="500400"/>
          </a:xfrm>
          <a:prstGeom prst="rect">
            <a:avLst/>
          </a:prstGeom>
          <a:ln w="0">
            <a:noFill/>
          </a:ln>
        </p:spPr>
      </p:pic>
      <p:sp>
        <p:nvSpPr>
          <p:cNvPr id="1240" name="pole tekstowe 5"/>
          <p:cNvSpPr/>
          <p:nvPr/>
        </p:nvSpPr>
        <p:spPr>
          <a:xfrm>
            <a:off x="2226600" y="620640"/>
            <a:ext cx="47635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9d032a"/>
                </a:solidFill>
                <a:latin typeface="Arial Black"/>
              </a:rPr>
              <a:t>PODSTAWA PRAW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9d032a"/>
                </a:solidFill>
                <a:latin typeface="Arial Black"/>
              </a:rPr>
              <a:t>określająca funkcjonowanie i zadania OK</a:t>
            </a:r>
            <a:r>
              <a:rPr b="0" lang="pl-PL" sz="1800" spc="-1" strike="noStrike">
                <a:solidFill>
                  <a:srgbClr val="ca4b05"/>
                </a:solidFill>
                <a:latin typeface="Arial Black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rostokąt 1"/>
          <p:cNvSpPr/>
          <p:nvPr/>
        </p:nvSpPr>
        <p:spPr>
          <a:xfrm>
            <a:off x="395280" y="1700280"/>
            <a:ext cx="8424720" cy="48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Wytyczne dla obwodowych komisji wyborczych dotyczące zadań i trybu przygotowania oraz przeprowadzenia głosowania             w obwodach głosowania utworzonych w kraju w wyborach do Sejmu Rzeczypospolitej Polskiej i do Senatu Rzeczypospolitej Polskiej zarządzonych na dzień 13 października 2019 r.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będące załącznikiem do uchwały nr 210/2019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Państwowej Komisji Wyborczej z dnia 2 września 2019 r. </a:t>
            </a:r>
            <a:r>
              <a:rPr b="0" lang="pl-PL" sz="2000" spc="-1" strike="noStrike">
                <a:solidFill>
                  <a:srgbClr val="ff0000"/>
                </a:solidFill>
                <a:latin typeface="Arial"/>
                <a:ea typeface="Arial"/>
              </a:rPr>
              <a:t>(M.P. poz. …….)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zwane dalej „Wytycznymi PKW”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Uchwała nr 6/2019 Państwowej Komisji Wyborczej z dnia            27 lutego 2019 r.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w sprawie należności pieniężnych przysługujących członkom komisji wyborczych w wyborach do Sejmu Rzeczypospolitej Polskiej i do Senatu Rzeczypospolitej Polskiej, Prezydenta Rzeczypospolitej Polskiej i Parlamentu Europejskiego oraz sposobu dokumentowania dni zwolnienia od pracy (M. P. poz. 261)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2" name="Obraz 3" descr="Rozvod v paragrafech - starý zákon o rodině"/>
          <p:cNvPicPr/>
          <p:nvPr/>
        </p:nvPicPr>
        <p:blipFill>
          <a:blip r:embed="rId1"/>
          <a:srcRect l="8355" t="15918" r="8112" b="11425"/>
          <a:stretch/>
        </p:blipFill>
        <p:spPr>
          <a:xfrm>
            <a:off x="1187280" y="403200"/>
            <a:ext cx="1297080" cy="1274760"/>
          </a:xfrm>
          <a:prstGeom prst="rect">
            <a:avLst/>
          </a:prstGeom>
          <a:ln w="0">
            <a:noFill/>
          </a:ln>
        </p:spPr>
      </p:pic>
      <p:sp>
        <p:nvSpPr>
          <p:cNvPr id="1243" name="Prostokąt 5"/>
          <p:cNvSpPr/>
          <p:nvPr/>
        </p:nvSpPr>
        <p:spPr>
          <a:xfrm>
            <a:off x="250920" y="1682640"/>
            <a:ext cx="8642160" cy="45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ts val="25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chwała nr 120/2019 Państwowej Komisji Wyborczej z dnia 19 sierpnia 2019 r. w sprawie wzorów protokołów głosowania i protokołów z wyborów stosowanych w wyborach do Sejmu Rzeczypospolitej Polskiej i do Senatu Rzeczypospolitej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lskiej (M.P. poz. 83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lnSpc>
                <a:spcPts val="25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chwała nr 86/2019 Państwowej Komisji Wyborczej z dnia 12 sierpnia 2019 r. w sprawie wzorów informacji o sposobie głosowania i warunkach ważności głosu w wyborach do Sejmu Rzeczypospolitej Polskiej i do Senatu Rzeczypospolitej Polskiej (M.P. poz. 784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lnSpc>
                <a:spcPts val="25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chwała Państwowej Komisji Wyborczej z dnia 30 lipca 2018 r. w sprawie wzoru zaświadczenia dla męża zaufania (M.P. poz. 82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lnSpc>
                <a:spcPts val="25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chwała Państwowej Komisji Wyborczej z dnia 30 lipca 2018 r. w sprawie wzoru zaświadczenia dla obserwatora społecznego (M.P. poz. 79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ole tekstowe 3"/>
          <p:cNvSpPr/>
          <p:nvPr/>
        </p:nvSpPr>
        <p:spPr>
          <a:xfrm>
            <a:off x="2411280" y="681120"/>
            <a:ext cx="518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d032a"/>
                </a:solidFill>
                <a:latin typeface="Arial Black"/>
              </a:rPr>
              <a:t>Podstawa praw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9d032a"/>
                </a:solidFill>
                <a:latin typeface="Arial Black"/>
              </a:rPr>
              <a:t>określająca sposób realizacji zada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6T10:10:29Z</dcterms:created>
  <dc:creator>Krajowe Biuro Wyborcze w Tarnobrzegu</dc:creator>
  <dc:description/>
  <dc:language>en-US</dc:language>
  <cp:lastModifiedBy>Elzbieta Koziarska</cp:lastModifiedBy>
  <cp:lastPrinted>2018-05-15T10:39:02Z</cp:lastPrinted>
  <dcterms:modified xsi:type="dcterms:W3CDTF">2019-09-24T14:13:07Z</dcterms:modified>
  <cp:revision>3593</cp:revision>
  <dc:subject/>
  <dc:title>Slajd 1</dc:title>
</cp:coreProperties>
</file>