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9.wmf" ContentType="image/x-wmf"/>
  <Override PartName="/ppt/media/image41.png" ContentType="image/png"/>
  <Override PartName="/ppt/media/image32.wmf" ContentType="image/x-wmf"/>
  <Override PartName="/ppt/media/image33.wmf" ContentType="image/x-wmf"/>
  <Override PartName="/ppt/media/image34.jpeg" ContentType="image/jpeg"/>
  <Override PartName="/ppt/media/image13.wmf" ContentType="image/x-wmf"/>
  <Override PartName="/ppt/media/image39.jpeg" ContentType="image/jpeg"/>
  <Override PartName="/ppt/media/image44.png" ContentType="image/png"/>
  <Override PartName="/ppt/media/image42.png" ContentType="image/png"/>
  <Override PartName="/ppt/media/image30.wmf" ContentType="image/x-wmf"/>
  <Override PartName="/ppt/media/image43.png" ContentType="image/png"/>
  <Override PartName="/ppt/media/image38.jpeg" ContentType="image/jpeg"/>
  <Override PartName="/ppt/media/image31.wmf" ContentType="image/x-wmf"/>
  <Override PartName="/ppt/media/image29.wmf" ContentType="image/x-wmf"/>
  <Override PartName="/ppt/media/image8.wmf" ContentType="image/x-wmf"/>
  <Override PartName="/ppt/media/image40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20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2600" cy="3722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ftr" idx="21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 type="sldNum" idx="22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5BF3-D2A4-4F77-82FF-AD79FEBE6A2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ymbol zastępczy numeru slajd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81F2-6984-4CB1-8F03-130BF591673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ymbol zastępczy stopki 4"/>
          <p:cNvSpPr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F1062D-7AC3-4DB4-8970-FD4F5999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C98376-BBAA-4C18-8FFB-9D296335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94644C-639B-4180-A045-8ACF98C4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056B6F-D69E-4E8B-8791-05E6BBF2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AC6D81-6C7B-4152-9D89-D7E51314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779C19-4ED0-4395-8D2B-F80230F8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4C0E4D-5642-4828-8286-10C27BDB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0299A7-0128-4073-9DF4-9FCEE01B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B49712-A9A7-4C20-BD4A-4B1DF812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D88992-7612-4396-8EB4-35217D44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2D6E3E-550C-42FF-B4DB-DBD158C39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394978-7CDC-415C-90FD-3B4E26C9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6C40B-7712-41BD-86E5-EEEF1594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B4221-2725-4E5B-87BF-FA21A713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20948-D605-4C13-A67E-47342C51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B3879-6D47-401B-A98D-5DB9EBEB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5ADD4-070A-45D1-9008-8B80B71E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CA2BB-E505-4685-9B0F-0B1156EB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D7AEF-992D-4F03-B26C-108E7DC4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6877D-5523-49C3-A579-B0BB618E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FDAAA-B63C-472D-BA19-52B177F1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5C56B-E1D4-4C35-8B85-78B21455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19DB2-044A-44E9-9694-A7392367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BDEB9-349A-4EC1-AD44-1CBF1C78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317C9-C667-4B41-8E63-1EAC8FA4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1E491-220D-40BA-B74B-D5873D1E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F320F9-D404-4172-9842-5BA2C162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D8863-16F3-4D58-B175-64AA6022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18FA41-4512-43E0-95E5-62D48663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5EB928-11D2-4FC1-A791-DC367C84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0BF60C-AC66-4426-A51C-3BF7505D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030828-042C-43BA-9352-11446339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12C86D-B59C-4F9B-A110-D434856A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98368-198D-4249-B494-7579B2A2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92A41F-4FA2-4DC3-9884-FCED4082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219217-1B12-46FD-8239-591890BF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9E26BA-BFB7-4F85-9B54-3F4C2385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460FC1-7B44-4F9D-8AE1-A08E6B88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C9EDD8-2F24-437E-8456-577F9133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085C2C-D420-48D9-B72E-E2A2DA37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FEF69F-50BA-40A2-9C17-F96FAD7C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563851-9724-424B-A895-4962C9BB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6A458A-3455-4550-940E-89138635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6A0719-0FF1-4833-A830-8D5AD07B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2377C1-3B7B-4283-BFF2-87371E1E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D113DF-3CEB-42B3-BE8E-1D761871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74E517-AE24-4F14-8BA1-13612BE4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EB9B85-46DF-413D-AE3A-2DC8231E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2A576C-B173-4A68-9FDB-3469BE8F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E2AC3B-AE17-41FB-986D-8019E398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053491-C640-405F-B826-91B85CCA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588576-BDBB-455F-BFD6-A42EB296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4D8213-1686-4E10-B49C-2F9819A2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71E711-B398-4968-AD6E-04161A64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54A7C9-871C-4C7E-B3EE-82D82C9E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BFF9A7-3390-43B9-BDC8-BA68ABCF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C80F85-384C-4AF2-94EC-76F4E762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846048-FCF9-4BDB-8C1D-E0DFE3F5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35144C-B30F-47CC-991E-157C0C03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E0F6C5-126D-45C6-A005-D4261D9B6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raz 8" descr="Logo - 3109 - 1 stron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" name="Obraz 6" descr=""/>
          <p:cNvPicPr/>
          <p:nvPr/>
        </p:nvPicPr>
        <p:blipFill>
          <a:blip r:embed="rId3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4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4143-0C2C-4704-99AD-80EB9F1E9BE4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9a9a9b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B335-F17A-416D-8CB3-1392439D1BC8}" type="datetime">
              <a:rPr b="0" lang="pl-PL" sz="1200" spc="-1" strike="noStrike">
                <a:solidFill>
                  <a:srgbClr val="9a9a9b"/>
                </a:solidFill>
                <a:latin typeface="Open Sans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9a9a9b"/>
                </a:solidFill>
                <a:latin typeface="Open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9a9a9b"/>
                </a:solidFill>
                <a:latin typeface="Open Sans"/>
              </a:rPr>
              <a:t>opracowanie: D.BIAŁOWĄS_KBW OLSZT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1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58595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525D-5017-4501-B07D-DC4C75C95C7B}" type="slidenum">
              <a:rPr b="0" lang="pl-PL" sz="1800" spc="-1" strike="noStrike">
                <a:solidFill>
                  <a:srgbClr val="58595b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raz 8" descr="Logo - 3109 - 1 stron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pic>
        <p:nvPicPr>
          <p:cNvPr id="82" name="Obraz 6" descr=""/>
          <p:cNvPicPr/>
          <p:nvPr/>
        </p:nvPicPr>
        <p:blipFill>
          <a:blip r:embed="rId3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83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17C5-97E0-4E72-98B3-1C6BD67EB39C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az 8" descr="Logo - 3109 - 1 strona.jpg"/>
          <p:cNvPicPr/>
          <p:nvPr/>
        </p:nvPicPr>
        <p:blipFill>
          <a:blip r:embed="rId4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6"/>
          <p:cNvSpPr/>
          <p:nvPr/>
        </p:nvSpPr>
        <p:spPr>
          <a:xfrm>
            <a:off x="155520" y="233280"/>
            <a:ext cx="98726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az 12" descr=""/>
          <p:cNvPicPr/>
          <p:nvPr/>
        </p:nvPicPr>
        <p:blipFill>
          <a:blip r:embed="rId5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58595b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D6E6-2B58-4EE3-95E2-4BCC6C1FA74C}" type="slidenum">
              <a:rPr b="0" lang="pl-PL" sz="1800" spc="-1" strike="noStrike">
                <a:solidFill>
                  <a:srgbClr val="58595b"/>
                </a:solidFill>
                <a:latin typeface="Open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58595b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8B21-170C-4500-A5A5-48EFEAFE4A0C}" type="slidenum">
              <a:rPr b="0" lang="pl-PL" sz="1800" spc="-1" strike="noStrike">
                <a:solidFill>
                  <a:srgbClr val="58595b"/>
                </a:solidFill>
                <a:latin typeface="Open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58595b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B68A-A283-4D05-A607-A6A5C212629B}" type="slidenum">
              <a:rPr b="0" lang="pl-PL" sz="1800" spc="-1" strike="noStrike">
                <a:solidFill>
                  <a:srgbClr val="58595b"/>
                </a:solidFill>
                <a:latin typeface="Open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rójkąt prostokątny 12"/>
          <p:cNvSpPr/>
          <p:nvPr/>
        </p:nvSpPr>
        <p:spPr>
          <a:xfrm rot="10800000">
            <a:off x="1042920" y="-11520"/>
            <a:ext cx="8105760" cy="6869160"/>
          </a:xfrm>
          <a:custGeom>
            <a:avLst/>
            <a:gdLst/>
            <a:ahLst/>
            <a:rect l="l" t="t" r="r" b="b"/>
            <a:pathLst>
              <a:path w="8105223" h="6869157">
                <a:moveTo>
                  <a:pt x="4831" y="6869157"/>
                </a:moveTo>
                <a:cubicBezTo>
                  <a:pt x="5625" y="4579678"/>
                  <a:pt x="-726" y="2290200"/>
                  <a:pt x="68" y="721"/>
                </a:cubicBezTo>
                <a:lnTo>
                  <a:pt x="419698" y="0"/>
                </a:lnTo>
                <a:lnTo>
                  <a:pt x="8105223" y="6869157"/>
                </a:lnTo>
                <a:lnTo>
                  <a:pt x="4831" y="6869157"/>
                </a:lnTo>
                <a:close/>
              </a:path>
            </a:pathLst>
          </a:custGeom>
          <a:solidFill>
            <a:srgbClr val="9d03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Obraz 6" descr=""/>
          <p:cNvPicPr/>
          <p:nvPr/>
        </p:nvPicPr>
        <p:blipFill>
          <a:blip r:embed="rId2"/>
          <a:stretch/>
        </p:blipFill>
        <p:spPr>
          <a:xfrm>
            <a:off x="3938760" y="3162240"/>
            <a:ext cx="1266480" cy="533520"/>
          </a:xfrm>
          <a:prstGeom prst="rect">
            <a:avLst/>
          </a:prstGeom>
          <a:ln cap="sq" w="203040">
            <a:solidFill>
              <a:srgbClr val="ffffff"/>
            </a:solidFill>
            <a:miter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wmf"/><Relationship Id="rId3" Type="http://schemas.openxmlformats.org/officeDocument/2006/relationships/image" Target="../media/image35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5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5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5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Obraz 8" descr="Logo - 3109 - 1 stro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532" name="AutoShape 5"/>
          <p:cNvSpPr/>
          <p:nvPr/>
        </p:nvSpPr>
        <p:spPr>
          <a:xfrm>
            <a:off x="155520" y="-433440"/>
            <a:ext cx="771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Obraz 6" descr=""/>
          <p:cNvPicPr/>
          <p:nvPr/>
        </p:nvPicPr>
        <p:blipFill>
          <a:blip r:embed="rId2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534" name="Prostokąt 2"/>
          <p:cNvSpPr/>
          <p:nvPr/>
        </p:nvSpPr>
        <p:spPr>
          <a:xfrm>
            <a:off x="392040" y="6083280"/>
            <a:ext cx="6481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9d032a"/>
                </a:solidFill>
                <a:latin typeface="Arial"/>
                <a:ea typeface="Arial"/>
              </a:rPr>
              <a:t>Opracowani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9d032a"/>
                </a:solidFill>
                <a:latin typeface="Arial"/>
                <a:ea typeface="Arial"/>
              </a:rPr>
              <a:t>© Krajowe Biuro Wyborcz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Łącznik prostoliniowy 5"/>
          <p:cNvSpPr/>
          <p:nvPr/>
        </p:nvSpPr>
        <p:spPr>
          <a:xfrm>
            <a:off x="395280" y="3213000"/>
            <a:ext cx="8424720" cy="0"/>
          </a:xfrm>
          <a:prstGeom prst="line">
            <a:avLst/>
          </a:prstGeom>
          <a:ln w="284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rostokąt 1"/>
          <p:cNvSpPr/>
          <p:nvPr/>
        </p:nvSpPr>
        <p:spPr>
          <a:xfrm>
            <a:off x="177840" y="3227400"/>
            <a:ext cx="8640720" cy="27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Black"/>
                <a:ea typeface="Arial"/>
              </a:rPr>
              <a:t>Szkol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Black"/>
                <a:ea typeface="Arial"/>
              </a:rPr>
              <a:t>członków obwodowych komisji wyborcz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00000"/>
                </a:solidFill>
                <a:latin typeface="Arial Black"/>
                <a:ea typeface="Arial"/>
              </a:rPr>
              <a:t>Przykłady oddania gło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00000"/>
                </a:solidFill>
                <a:latin typeface="Arial Black"/>
                <a:ea typeface="Arial"/>
              </a:rPr>
              <a:t>ważnego i nieważne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d032a"/>
                </a:solidFill>
                <a:latin typeface="Arial"/>
                <a:ea typeface="Arial"/>
              </a:rPr>
              <a:t>wrzesień 2019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pole tekstowe 8"/>
          <p:cNvGrpSpPr/>
          <p:nvPr/>
        </p:nvGrpSpPr>
        <p:grpSpPr>
          <a:xfrm>
            <a:off x="-12600" y="1060560"/>
            <a:ext cx="8523360" cy="2097000"/>
            <a:chOff x="-12600" y="1060560"/>
            <a:chExt cx="8523360" cy="2097000"/>
          </a:xfrm>
        </p:grpSpPr>
        <p:pic>
          <p:nvPicPr>
            <p:cNvPr id="538" name="pole tekstowe 8" descr=""/>
            <p:cNvPicPr/>
            <p:nvPr/>
          </p:nvPicPr>
          <p:blipFill>
            <a:blip r:embed="rId3"/>
            <a:stretch/>
          </p:blipFill>
          <p:spPr>
            <a:xfrm>
              <a:off x="-12600" y="1060560"/>
              <a:ext cx="8523360" cy="20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0" y="1079640"/>
              <a:ext cx="84978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200" spc="-1" strike="noStrike">
                  <a:solidFill>
                    <a:srgbClr val="90181b"/>
                  </a:solidFill>
                  <a:latin typeface="Arial Black"/>
                  <a:ea typeface="Arial"/>
                </a:rPr>
                <a:t>Wybor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200" spc="-1" strike="noStrike">
                  <a:solidFill>
                    <a:srgbClr val="90181b"/>
                  </a:solidFill>
                  <a:latin typeface="Arial Black"/>
                  <a:ea typeface="Arial"/>
                </a:rPr>
                <a:t>do Sejmu Rzeczypospolitej Polskie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200" spc="-1" strike="noStrike">
                  <a:solidFill>
                    <a:srgbClr val="90181b"/>
                  </a:solidFill>
                  <a:latin typeface="Arial Black"/>
                  <a:ea typeface="Arial"/>
                </a:rPr>
                <a:t>i do Senatu Rzeczypospolitej Polskiej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200" spc="-1" strike="noStrike">
                  <a:solidFill>
                    <a:srgbClr val="90181b"/>
                  </a:solidFill>
                  <a:latin typeface="Arial Black"/>
                  <a:ea typeface="Arial"/>
                </a:rPr>
                <a:t>13 października 2019 r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ole tekstowe 2"/>
          <p:cNvSpPr/>
          <p:nvPr/>
        </p:nvSpPr>
        <p:spPr>
          <a:xfrm>
            <a:off x="1042920" y="49212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Arial Black"/>
              </a:rPr>
              <a:t>CZY ODDANY GŁOS JEST WAŻ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ole tekstowe 6"/>
          <p:cNvSpPr/>
          <p:nvPr/>
        </p:nvSpPr>
        <p:spPr>
          <a:xfrm>
            <a:off x="324000" y="487512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Dwie linie przecinają się 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smo odręczne 9" descr=""/>
          <p:cNvPicPr/>
          <p:nvPr/>
        </p:nvPicPr>
        <p:blipFill>
          <a:blip r:embed="rId1"/>
          <a:stretch/>
        </p:blipFill>
        <p:spPr>
          <a:xfrm>
            <a:off x="841320" y="1550880"/>
            <a:ext cx="2819520" cy="3122640"/>
          </a:xfrm>
          <a:prstGeom prst="rect">
            <a:avLst/>
          </a:prstGeom>
          <a:ln w="0">
            <a:noFill/>
          </a:ln>
        </p:spPr>
      </p:pic>
      <p:pic>
        <p:nvPicPr>
          <p:cNvPr id="592" name="Pismo odręczne 11" descr=""/>
          <p:cNvPicPr/>
          <p:nvPr/>
        </p:nvPicPr>
        <p:blipFill>
          <a:blip r:embed="rId2"/>
          <a:stretch/>
        </p:blipFill>
        <p:spPr>
          <a:xfrm>
            <a:off x="2209680" y="1468440"/>
            <a:ext cx="182088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1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1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ole tekstowe 2"/>
          <p:cNvSpPr/>
          <p:nvPr/>
        </p:nvSpPr>
        <p:spPr>
          <a:xfrm>
            <a:off x="900000" y="47628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Arial Black"/>
              </a:rPr>
              <a:t>CZY ODDANY GŁOS JEST WAŻ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ole tekstowe 6"/>
          <p:cNvSpPr/>
          <p:nvPr/>
        </p:nvSpPr>
        <p:spPr>
          <a:xfrm>
            <a:off x="179280" y="4761000"/>
            <a:ext cx="842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Trzy linie są ze sobą stycz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smo odręczne 22" descr=""/>
          <p:cNvPicPr/>
          <p:nvPr/>
        </p:nvPicPr>
        <p:blipFill>
          <a:blip r:embed="rId1"/>
          <a:stretch/>
        </p:blipFill>
        <p:spPr>
          <a:xfrm>
            <a:off x="2195640" y="2205000"/>
            <a:ext cx="1258920" cy="874800"/>
          </a:xfrm>
          <a:prstGeom prst="rect">
            <a:avLst/>
          </a:prstGeom>
          <a:ln w="0">
            <a:noFill/>
          </a:ln>
        </p:spPr>
      </p:pic>
      <p:pic>
        <p:nvPicPr>
          <p:cNvPr id="598" name="Pismo odręczne 24" descr=""/>
          <p:cNvPicPr/>
          <p:nvPr/>
        </p:nvPicPr>
        <p:blipFill>
          <a:blip r:embed="rId2"/>
          <a:stretch/>
        </p:blipFill>
        <p:spPr>
          <a:xfrm>
            <a:off x="2206800" y="1916280"/>
            <a:ext cx="15620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1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1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ole tekstowe 2"/>
          <p:cNvSpPr/>
          <p:nvPr/>
        </p:nvSpPr>
        <p:spPr>
          <a:xfrm>
            <a:off x="900000" y="47628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Arial Black"/>
              </a:rPr>
              <a:t>CZY ODDANY GŁOS JEST WAŻ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ole tekstowe 6" descr=""/>
          <p:cNvPicPr/>
          <p:nvPr/>
        </p:nvPicPr>
        <p:blipFill>
          <a:blip r:embed="rId1"/>
          <a:stretch/>
        </p:blipFill>
        <p:spPr>
          <a:xfrm>
            <a:off x="176040" y="4694400"/>
            <a:ext cx="8425080" cy="1182600"/>
          </a:xfrm>
          <a:prstGeom prst="rect">
            <a:avLst/>
          </a:prstGeom>
          <a:ln w="0">
            <a:noFill/>
          </a:ln>
        </p:spPr>
      </p:pic>
      <p:pic>
        <p:nvPicPr>
          <p:cNvPr id="603" name="Pismo odręczne 9" descr=""/>
          <p:cNvPicPr/>
          <p:nvPr/>
        </p:nvPicPr>
        <p:blipFill>
          <a:blip r:embed="rId2"/>
          <a:stretch/>
        </p:blipFill>
        <p:spPr>
          <a:xfrm>
            <a:off x="85680" y="1992240"/>
            <a:ext cx="4996080" cy="2125800"/>
          </a:xfrm>
          <a:prstGeom prst="rect">
            <a:avLst/>
          </a:prstGeom>
          <a:ln w="0">
            <a:noFill/>
          </a:ln>
        </p:spPr>
      </p:pic>
      <p:pic>
        <p:nvPicPr>
          <p:cNvPr id="604" name="Pismo odręczne 11" descr=""/>
          <p:cNvPicPr/>
          <p:nvPr/>
        </p:nvPicPr>
        <p:blipFill>
          <a:blip r:embed="rId3"/>
          <a:stretch/>
        </p:blipFill>
        <p:spPr>
          <a:xfrm>
            <a:off x="1203480" y="2382840"/>
            <a:ext cx="10792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1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1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ole tekstowe 2"/>
          <p:cNvSpPr/>
          <p:nvPr/>
        </p:nvSpPr>
        <p:spPr>
          <a:xfrm>
            <a:off x="1077840" y="49356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Arial Black"/>
              </a:rPr>
              <a:t>CZY ODDANY GŁOS JEST WAŻ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Co najmniej dwie linie przecinają się 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smo odręczne 24" descr=""/>
          <p:cNvPicPr/>
          <p:nvPr/>
        </p:nvPicPr>
        <p:blipFill>
          <a:blip r:embed="rId1"/>
          <a:stretch/>
        </p:blipFill>
        <p:spPr>
          <a:xfrm>
            <a:off x="1278000" y="1476360"/>
            <a:ext cx="2897280" cy="1596960"/>
          </a:xfrm>
          <a:prstGeom prst="rect">
            <a:avLst/>
          </a:prstGeom>
          <a:ln w="0">
            <a:noFill/>
          </a:ln>
        </p:spPr>
      </p:pic>
      <p:pic>
        <p:nvPicPr>
          <p:cNvPr id="610" name="Pismo odręczne 28" descr=""/>
          <p:cNvPicPr/>
          <p:nvPr/>
        </p:nvPicPr>
        <p:blipFill>
          <a:blip r:embed="rId2"/>
          <a:stretch/>
        </p:blipFill>
        <p:spPr>
          <a:xfrm>
            <a:off x="768240" y="1587600"/>
            <a:ext cx="2614680" cy="2836800"/>
          </a:xfrm>
          <a:prstGeom prst="rect">
            <a:avLst/>
          </a:prstGeom>
          <a:ln w="0">
            <a:noFill/>
          </a:ln>
        </p:spPr>
      </p:pic>
      <p:pic>
        <p:nvPicPr>
          <p:cNvPr id="611" name="Pismo odręczne 30" descr=""/>
          <p:cNvPicPr/>
          <p:nvPr/>
        </p:nvPicPr>
        <p:blipFill>
          <a:blip r:embed="rId3"/>
          <a:stretch/>
        </p:blipFill>
        <p:spPr>
          <a:xfrm>
            <a:off x="1204920" y="1542960"/>
            <a:ext cx="213984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1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1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ole tekstowe 2"/>
          <p:cNvSpPr/>
          <p:nvPr/>
        </p:nvSpPr>
        <p:spPr>
          <a:xfrm>
            <a:off x="1042920" y="52056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Arial Black"/>
              </a:rPr>
              <a:t>CZY ODDANY GŁOS JEST WAŻ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Dwie li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Dowolny kształt 14"/>
          <p:cNvSpPr/>
          <p:nvPr/>
        </p:nvSpPr>
        <p:spPr>
          <a:xfrm>
            <a:off x="1308240" y="1284120"/>
            <a:ext cx="2973240" cy="3230640"/>
          </a:xfrm>
          <a:custGeom>
            <a:avLst/>
            <a:gdLst/>
            <a:ahLst/>
            <a:rect l="l" t="t" r="r" b="b"/>
            <a:pathLst>
              <a:path w="2974172" h="3229337">
                <a:moveTo>
                  <a:pt x="706056" y="1481559"/>
                </a:moveTo>
                <a:cubicBezTo>
                  <a:pt x="671332" y="1477701"/>
                  <a:pt x="636822" y="1469985"/>
                  <a:pt x="601884" y="1469985"/>
                </a:cubicBezTo>
                <a:cubicBezTo>
                  <a:pt x="510774" y="1469985"/>
                  <a:pt x="496474" y="1476081"/>
                  <a:pt x="428264" y="1493134"/>
                </a:cubicBezTo>
                <a:cubicBezTo>
                  <a:pt x="409686" y="1505519"/>
                  <a:pt x="383586" y="1519639"/>
                  <a:pt x="370390" y="1539433"/>
                </a:cubicBezTo>
                <a:cubicBezTo>
                  <a:pt x="314336" y="1623516"/>
                  <a:pt x="377166" y="1555808"/>
                  <a:pt x="324091" y="1608881"/>
                </a:cubicBezTo>
                <a:cubicBezTo>
                  <a:pt x="320233" y="1620456"/>
                  <a:pt x="320139" y="1634078"/>
                  <a:pt x="312517" y="1643605"/>
                </a:cubicBezTo>
                <a:cubicBezTo>
                  <a:pt x="303827" y="1654468"/>
                  <a:pt x="288656" y="1658064"/>
                  <a:pt x="277793" y="1666754"/>
                </a:cubicBezTo>
                <a:cubicBezTo>
                  <a:pt x="269271" y="1673571"/>
                  <a:pt x="261629" y="1681520"/>
                  <a:pt x="254643" y="1689904"/>
                </a:cubicBezTo>
                <a:cubicBezTo>
                  <a:pt x="242293" y="1704724"/>
                  <a:pt x="232622" y="1721684"/>
                  <a:pt x="219919" y="1736202"/>
                </a:cubicBezTo>
                <a:cubicBezTo>
                  <a:pt x="205547" y="1752627"/>
                  <a:pt x="194325" y="1775599"/>
                  <a:pt x="173620" y="1782501"/>
                </a:cubicBezTo>
                <a:lnTo>
                  <a:pt x="104172" y="1805651"/>
                </a:lnTo>
                <a:lnTo>
                  <a:pt x="69448" y="1817225"/>
                </a:lnTo>
                <a:cubicBezTo>
                  <a:pt x="61732" y="1848091"/>
                  <a:pt x="60528" y="1881366"/>
                  <a:pt x="46299" y="1909823"/>
                </a:cubicBezTo>
                <a:cubicBezTo>
                  <a:pt x="38583" y="1925256"/>
                  <a:pt x="28606" y="1939752"/>
                  <a:pt x="23150" y="1956121"/>
                </a:cubicBezTo>
                <a:cubicBezTo>
                  <a:pt x="13089" y="1986304"/>
                  <a:pt x="0" y="2048719"/>
                  <a:pt x="0" y="2048719"/>
                </a:cubicBezTo>
                <a:cubicBezTo>
                  <a:pt x="10387" y="2111040"/>
                  <a:pt x="12880" y="2187003"/>
                  <a:pt x="46299" y="2245488"/>
                </a:cubicBezTo>
                <a:cubicBezTo>
                  <a:pt x="51713" y="2254963"/>
                  <a:pt x="61732" y="2260921"/>
                  <a:pt x="69448" y="2268638"/>
                </a:cubicBezTo>
                <a:cubicBezTo>
                  <a:pt x="115129" y="2405678"/>
                  <a:pt x="66469" y="2270612"/>
                  <a:pt x="127322" y="2407534"/>
                </a:cubicBezTo>
                <a:cubicBezTo>
                  <a:pt x="132277" y="2418683"/>
                  <a:pt x="127983" y="2436802"/>
                  <a:pt x="138896" y="2442258"/>
                </a:cubicBezTo>
                <a:cubicBezTo>
                  <a:pt x="163298" y="2454459"/>
                  <a:pt x="192911" y="2449975"/>
                  <a:pt x="219919" y="2453833"/>
                </a:cubicBezTo>
                <a:cubicBezTo>
                  <a:pt x="223777" y="2476982"/>
                  <a:pt x="221962" y="2501835"/>
                  <a:pt x="231494" y="2523281"/>
                </a:cubicBezTo>
                <a:cubicBezTo>
                  <a:pt x="238142" y="2538239"/>
                  <a:pt x="255565" y="2545577"/>
                  <a:pt x="266218" y="2558005"/>
                </a:cubicBezTo>
                <a:cubicBezTo>
                  <a:pt x="278773" y="2572652"/>
                  <a:pt x="289729" y="2588606"/>
                  <a:pt x="300942" y="2604304"/>
                </a:cubicBezTo>
                <a:cubicBezTo>
                  <a:pt x="320997" y="2632382"/>
                  <a:pt x="321430" y="2641529"/>
                  <a:pt x="347241" y="2662177"/>
                </a:cubicBezTo>
                <a:cubicBezTo>
                  <a:pt x="358104" y="2670867"/>
                  <a:pt x="371568" y="2676084"/>
                  <a:pt x="381965" y="2685326"/>
                </a:cubicBezTo>
                <a:cubicBezTo>
                  <a:pt x="406434" y="2707076"/>
                  <a:pt x="451413" y="2754775"/>
                  <a:pt x="451413" y="2754775"/>
                </a:cubicBezTo>
                <a:cubicBezTo>
                  <a:pt x="452168" y="2757796"/>
                  <a:pt x="468526" y="2828251"/>
                  <a:pt x="474562" y="2835797"/>
                </a:cubicBezTo>
                <a:cubicBezTo>
                  <a:pt x="483252" y="2846660"/>
                  <a:pt x="497711" y="2851230"/>
                  <a:pt x="509286" y="2858947"/>
                </a:cubicBezTo>
                <a:cubicBezTo>
                  <a:pt x="537039" y="2942204"/>
                  <a:pt x="509286" y="2838233"/>
                  <a:pt x="509286" y="2939969"/>
                </a:cubicBezTo>
                <a:cubicBezTo>
                  <a:pt x="509286" y="2955877"/>
                  <a:pt x="512968" y="2972456"/>
                  <a:pt x="520861" y="2986268"/>
                </a:cubicBezTo>
                <a:cubicBezTo>
                  <a:pt x="538472" y="3017087"/>
                  <a:pt x="586931" y="3039800"/>
                  <a:pt x="613458" y="3055716"/>
                </a:cubicBezTo>
                <a:cubicBezTo>
                  <a:pt x="648030" y="3098931"/>
                  <a:pt x="667625" y="3132107"/>
                  <a:pt x="717631" y="3159888"/>
                </a:cubicBezTo>
                <a:cubicBezTo>
                  <a:pt x="731537" y="3167613"/>
                  <a:pt x="748496" y="3167605"/>
                  <a:pt x="763929" y="3171463"/>
                </a:cubicBezTo>
                <a:cubicBezTo>
                  <a:pt x="771646" y="3179180"/>
                  <a:pt x="776586" y="3191615"/>
                  <a:pt x="787079" y="3194613"/>
                </a:cubicBezTo>
                <a:cubicBezTo>
                  <a:pt x="832210" y="3207508"/>
                  <a:pt x="879949" y="3208557"/>
                  <a:pt x="925975" y="3217762"/>
                </a:cubicBezTo>
                <a:lnTo>
                  <a:pt x="983848" y="3229337"/>
                </a:lnTo>
                <a:cubicBezTo>
                  <a:pt x="1030147" y="3225479"/>
                  <a:pt x="1076752" y="3224332"/>
                  <a:pt x="1122745" y="3217762"/>
                </a:cubicBezTo>
                <a:cubicBezTo>
                  <a:pt x="1157959" y="3212732"/>
                  <a:pt x="1191955" y="3201168"/>
                  <a:pt x="1226917" y="3194613"/>
                </a:cubicBezTo>
                <a:cubicBezTo>
                  <a:pt x="1253731" y="3189585"/>
                  <a:pt x="1280975" y="3187186"/>
                  <a:pt x="1307939" y="3183038"/>
                </a:cubicBezTo>
                <a:cubicBezTo>
                  <a:pt x="1331135" y="3179469"/>
                  <a:pt x="1354238" y="3175321"/>
                  <a:pt x="1377388" y="3171463"/>
                </a:cubicBezTo>
                <a:cubicBezTo>
                  <a:pt x="1396679" y="3163747"/>
                  <a:pt x="1415403" y="3154424"/>
                  <a:pt x="1435261" y="3148314"/>
                </a:cubicBezTo>
                <a:cubicBezTo>
                  <a:pt x="1465670" y="3138957"/>
                  <a:pt x="1499401" y="3139392"/>
                  <a:pt x="1527858" y="3125164"/>
                </a:cubicBezTo>
                <a:cubicBezTo>
                  <a:pt x="1656760" y="3060714"/>
                  <a:pt x="1494379" y="3137718"/>
                  <a:pt x="1620456" y="3090440"/>
                </a:cubicBezTo>
                <a:cubicBezTo>
                  <a:pt x="1636612" y="3084382"/>
                  <a:pt x="1650539" y="3073188"/>
                  <a:pt x="1666755" y="3067291"/>
                </a:cubicBezTo>
                <a:cubicBezTo>
                  <a:pt x="1693152" y="3057692"/>
                  <a:pt x="1721805" y="3054837"/>
                  <a:pt x="1747777" y="3044142"/>
                </a:cubicBezTo>
                <a:cubicBezTo>
                  <a:pt x="1948642" y="2961433"/>
                  <a:pt x="1795533" y="3003265"/>
                  <a:pt x="1909823" y="2974694"/>
                </a:cubicBezTo>
                <a:cubicBezTo>
                  <a:pt x="1925256" y="2963119"/>
                  <a:pt x="1938867" y="2948596"/>
                  <a:pt x="1956122" y="2939969"/>
                </a:cubicBezTo>
                <a:cubicBezTo>
                  <a:pt x="1970350" y="2932855"/>
                  <a:pt x="1987183" y="2932966"/>
                  <a:pt x="2002420" y="2928395"/>
                </a:cubicBezTo>
                <a:cubicBezTo>
                  <a:pt x="2025793" y="2921383"/>
                  <a:pt x="2050043" y="2916158"/>
                  <a:pt x="2071869" y="2905245"/>
                </a:cubicBezTo>
                <a:cubicBezTo>
                  <a:pt x="2086575" y="2897892"/>
                  <a:pt x="2131854" y="2872524"/>
                  <a:pt x="2152891" y="2870521"/>
                </a:cubicBezTo>
                <a:cubicBezTo>
                  <a:pt x="2222133" y="2863927"/>
                  <a:pt x="2291788" y="2862805"/>
                  <a:pt x="2361236" y="2858947"/>
                </a:cubicBezTo>
                <a:cubicBezTo>
                  <a:pt x="2385241" y="2854946"/>
                  <a:pt x="2449356" y="2846157"/>
                  <a:pt x="2476983" y="2835797"/>
                </a:cubicBezTo>
                <a:cubicBezTo>
                  <a:pt x="2493139" y="2829739"/>
                  <a:pt x="2507848" y="2820364"/>
                  <a:pt x="2523281" y="2812648"/>
                </a:cubicBezTo>
                <a:cubicBezTo>
                  <a:pt x="2530998" y="2801073"/>
                  <a:pt x="2540210" y="2790367"/>
                  <a:pt x="2546431" y="2777924"/>
                </a:cubicBezTo>
                <a:cubicBezTo>
                  <a:pt x="2551887" y="2767011"/>
                  <a:pt x="2550914" y="2753128"/>
                  <a:pt x="2558005" y="2743200"/>
                </a:cubicBezTo>
                <a:cubicBezTo>
                  <a:pt x="2571369" y="2724490"/>
                  <a:pt x="2644314" y="2659533"/>
                  <a:pt x="2662177" y="2650602"/>
                </a:cubicBezTo>
                <a:cubicBezTo>
                  <a:pt x="2679773" y="2641804"/>
                  <a:pt x="2700760" y="2642886"/>
                  <a:pt x="2720051" y="2639028"/>
                </a:cubicBezTo>
                <a:cubicBezTo>
                  <a:pt x="2739342" y="2631311"/>
                  <a:pt x="2764402" y="2631653"/>
                  <a:pt x="2777924" y="2615878"/>
                </a:cubicBezTo>
                <a:cubicBezTo>
                  <a:pt x="2790727" y="2600941"/>
                  <a:pt x="2785075" y="2577174"/>
                  <a:pt x="2789499" y="2558005"/>
                </a:cubicBezTo>
                <a:cubicBezTo>
                  <a:pt x="2796653" y="2527004"/>
                  <a:pt x="2804932" y="2496273"/>
                  <a:pt x="2812648" y="2465407"/>
                </a:cubicBezTo>
                <a:cubicBezTo>
                  <a:pt x="2816506" y="2407534"/>
                  <a:pt x="2822076" y="2349749"/>
                  <a:pt x="2824223" y="2291787"/>
                </a:cubicBezTo>
                <a:cubicBezTo>
                  <a:pt x="2829794" y="2141370"/>
                  <a:pt x="2827600" y="1990672"/>
                  <a:pt x="2835798" y="1840375"/>
                </a:cubicBezTo>
                <a:cubicBezTo>
                  <a:pt x="2839186" y="1778255"/>
                  <a:pt x="2851535" y="1716949"/>
                  <a:pt x="2858947" y="1655180"/>
                </a:cubicBezTo>
                <a:cubicBezTo>
                  <a:pt x="2863110" y="1620491"/>
                  <a:pt x="2859474" y="1584152"/>
                  <a:pt x="2870522" y="1551007"/>
                </a:cubicBezTo>
                <a:cubicBezTo>
                  <a:pt x="2886891" y="1501900"/>
                  <a:pt x="2939970" y="1412111"/>
                  <a:pt x="2939970" y="1412111"/>
                </a:cubicBezTo>
                <a:cubicBezTo>
                  <a:pt x="2974172" y="1206903"/>
                  <a:pt x="2968279" y="1301653"/>
                  <a:pt x="2835798" y="914400"/>
                </a:cubicBezTo>
                <a:cubicBezTo>
                  <a:pt x="2831849" y="902856"/>
                  <a:pt x="2812649" y="906683"/>
                  <a:pt x="2801074" y="902825"/>
                </a:cubicBezTo>
                <a:cubicBezTo>
                  <a:pt x="2748055" y="823299"/>
                  <a:pt x="2815542" y="912084"/>
                  <a:pt x="2731626" y="844952"/>
                </a:cubicBezTo>
                <a:cubicBezTo>
                  <a:pt x="2706062" y="824501"/>
                  <a:pt x="2662177" y="775504"/>
                  <a:pt x="2662177" y="775504"/>
                </a:cubicBezTo>
                <a:cubicBezTo>
                  <a:pt x="2653814" y="750415"/>
                  <a:pt x="2643801" y="714916"/>
                  <a:pt x="2627453" y="694481"/>
                </a:cubicBezTo>
                <a:cubicBezTo>
                  <a:pt x="2607002" y="668917"/>
                  <a:pt x="2558005" y="625033"/>
                  <a:pt x="2558005" y="625033"/>
                </a:cubicBezTo>
                <a:cubicBezTo>
                  <a:pt x="2530763" y="516056"/>
                  <a:pt x="2566035" y="640647"/>
                  <a:pt x="2476983" y="451413"/>
                </a:cubicBezTo>
                <a:cubicBezTo>
                  <a:pt x="2466593" y="429334"/>
                  <a:pt x="2464746" y="403790"/>
                  <a:pt x="2453833" y="381964"/>
                </a:cubicBezTo>
                <a:cubicBezTo>
                  <a:pt x="2426829" y="327956"/>
                  <a:pt x="2420198" y="338843"/>
                  <a:pt x="2372810" y="312516"/>
                </a:cubicBezTo>
                <a:cubicBezTo>
                  <a:pt x="2290810" y="266960"/>
                  <a:pt x="2343690" y="287376"/>
                  <a:pt x="2280213" y="266218"/>
                </a:cubicBezTo>
                <a:cubicBezTo>
                  <a:pt x="2284071" y="216061"/>
                  <a:pt x="2294926" y="165954"/>
                  <a:pt x="2291788" y="115747"/>
                </a:cubicBezTo>
                <a:cubicBezTo>
                  <a:pt x="2290920" y="101863"/>
                  <a:pt x="2280913" y="87569"/>
                  <a:pt x="2268638" y="81023"/>
                </a:cubicBezTo>
                <a:cubicBezTo>
                  <a:pt x="2265314" y="79250"/>
                  <a:pt x="2122349" y="17885"/>
                  <a:pt x="2071869" y="11575"/>
                </a:cubicBezTo>
                <a:cubicBezTo>
                  <a:pt x="2025768" y="5813"/>
                  <a:pt x="1979271" y="3858"/>
                  <a:pt x="1932972" y="0"/>
                </a:cubicBezTo>
                <a:cubicBezTo>
                  <a:pt x="1773766" y="39803"/>
                  <a:pt x="1906610" y="10036"/>
                  <a:pt x="1539433" y="23149"/>
                </a:cubicBezTo>
                <a:lnTo>
                  <a:pt x="1238491" y="34724"/>
                </a:lnTo>
                <a:cubicBezTo>
                  <a:pt x="1137797" y="85071"/>
                  <a:pt x="1253665" y="34004"/>
                  <a:pt x="1076446" y="69448"/>
                </a:cubicBezTo>
                <a:cubicBezTo>
                  <a:pt x="979625" y="88812"/>
                  <a:pt x="1056195" y="91769"/>
                  <a:pt x="972274" y="115747"/>
                </a:cubicBezTo>
                <a:cubicBezTo>
                  <a:pt x="934442" y="126556"/>
                  <a:pt x="893854" y="126453"/>
                  <a:pt x="856527" y="138896"/>
                </a:cubicBezTo>
                <a:lnTo>
                  <a:pt x="821803" y="150471"/>
                </a:lnTo>
                <a:cubicBezTo>
                  <a:pt x="703995" y="244715"/>
                  <a:pt x="833097" y="150610"/>
                  <a:pt x="648183" y="243068"/>
                </a:cubicBezTo>
                <a:cubicBezTo>
                  <a:pt x="630928" y="251695"/>
                  <a:pt x="618820" y="268554"/>
                  <a:pt x="601884" y="277792"/>
                </a:cubicBezTo>
                <a:cubicBezTo>
                  <a:pt x="576088" y="291862"/>
                  <a:pt x="547142" y="299375"/>
                  <a:pt x="520861" y="312516"/>
                </a:cubicBezTo>
                <a:cubicBezTo>
                  <a:pt x="508419" y="318737"/>
                  <a:pt x="499461" y="331669"/>
                  <a:pt x="486137" y="335666"/>
                </a:cubicBezTo>
                <a:cubicBezTo>
                  <a:pt x="460006" y="343505"/>
                  <a:pt x="432122" y="343382"/>
                  <a:pt x="405114" y="347240"/>
                </a:cubicBezTo>
                <a:cubicBezTo>
                  <a:pt x="397398" y="354957"/>
                  <a:pt x="388513" y="361660"/>
                  <a:pt x="381965" y="370390"/>
                </a:cubicBezTo>
                <a:cubicBezTo>
                  <a:pt x="365272" y="392648"/>
                  <a:pt x="357924" y="423145"/>
                  <a:pt x="335666" y="439838"/>
                </a:cubicBezTo>
                <a:lnTo>
                  <a:pt x="289367" y="474562"/>
                </a:lnTo>
                <a:cubicBezTo>
                  <a:pt x="281651" y="489995"/>
                  <a:pt x="273226" y="505094"/>
                  <a:pt x="266218" y="520861"/>
                </a:cubicBezTo>
                <a:cubicBezTo>
                  <a:pt x="257780" y="539847"/>
                  <a:pt x="255290" y="561931"/>
                  <a:pt x="243069" y="578734"/>
                </a:cubicBezTo>
                <a:cubicBezTo>
                  <a:pt x="223813" y="605211"/>
                  <a:pt x="195370" y="623713"/>
                  <a:pt x="173620" y="648182"/>
                </a:cubicBezTo>
                <a:cubicBezTo>
                  <a:pt x="164378" y="658579"/>
                  <a:pt x="156121" y="670194"/>
                  <a:pt x="150471" y="682906"/>
                </a:cubicBezTo>
                <a:cubicBezTo>
                  <a:pt x="140561" y="705204"/>
                  <a:pt x="127322" y="752354"/>
                  <a:pt x="127322" y="752354"/>
                </a:cubicBezTo>
                <a:cubicBezTo>
                  <a:pt x="131180" y="825660"/>
                  <a:pt x="132250" y="899167"/>
                  <a:pt x="138896" y="972273"/>
                </a:cubicBezTo>
                <a:cubicBezTo>
                  <a:pt x="140001" y="984424"/>
                  <a:pt x="147119" y="995266"/>
                  <a:pt x="150471" y="1006997"/>
                </a:cubicBezTo>
                <a:cubicBezTo>
                  <a:pt x="154841" y="1022293"/>
                  <a:pt x="158188" y="1037863"/>
                  <a:pt x="162046" y="1053296"/>
                </a:cubicBezTo>
                <a:cubicBezTo>
                  <a:pt x="158188" y="1076445"/>
                  <a:pt x="149405" y="1099300"/>
                  <a:pt x="150471" y="1122744"/>
                </a:cubicBezTo>
                <a:cubicBezTo>
                  <a:pt x="156054" y="1245568"/>
                  <a:pt x="163527" y="1267570"/>
                  <a:pt x="185195" y="1354238"/>
                </a:cubicBezTo>
                <a:cubicBezTo>
                  <a:pt x="192942" y="1540149"/>
                  <a:pt x="207737" y="1601561"/>
                  <a:pt x="185195" y="1759352"/>
                </a:cubicBezTo>
                <a:cubicBezTo>
                  <a:pt x="183470" y="1771430"/>
                  <a:pt x="177478" y="1782501"/>
                  <a:pt x="173620" y="1794076"/>
                </a:cubicBezTo>
                <a:cubicBezTo>
                  <a:pt x="177478" y="1813367"/>
                  <a:pt x="182896" y="1832411"/>
                  <a:pt x="185195" y="1851949"/>
                </a:cubicBezTo>
                <a:cubicBezTo>
                  <a:pt x="202836" y="2001896"/>
                  <a:pt x="163259" y="1957334"/>
                  <a:pt x="208345" y="2002420"/>
                </a:cubicBezTo>
              </a:path>
            </a:pathLst>
          </a:custGeom>
          <a:noFill/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1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1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ole tekstowe 2"/>
          <p:cNvSpPr/>
          <p:nvPr/>
        </p:nvSpPr>
        <p:spPr>
          <a:xfrm>
            <a:off x="1116000" y="47628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Arial Black"/>
              </a:rPr>
              <a:t>CZY ODDANY GŁOS JEST WAŻ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Dwie linie 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Dowolny kształt 8"/>
          <p:cNvSpPr/>
          <p:nvPr/>
        </p:nvSpPr>
        <p:spPr>
          <a:xfrm>
            <a:off x="1496880" y="1574640"/>
            <a:ext cx="2283120" cy="2627640"/>
          </a:xfrm>
          <a:custGeom>
            <a:avLst/>
            <a:gdLst/>
            <a:ahLst/>
            <a:rect l="l" t="t" r="r" b="b"/>
            <a:pathLst>
              <a:path w="2281556" h="2627453">
                <a:moveTo>
                  <a:pt x="1257280" y="92597"/>
                </a:moveTo>
                <a:cubicBezTo>
                  <a:pt x="1253422" y="81022"/>
                  <a:pt x="1253327" y="67400"/>
                  <a:pt x="1245705" y="57873"/>
                </a:cubicBezTo>
                <a:cubicBezTo>
                  <a:pt x="1237015" y="47010"/>
                  <a:pt x="1223767" y="40204"/>
                  <a:pt x="1210981" y="34724"/>
                </a:cubicBezTo>
                <a:cubicBezTo>
                  <a:pt x="1196359" y="28458"/>
                  <a:pt x="1180348" y="25914"/>
                  <a:pt x="1164682" y="23149"/>
                </a:cubicBezTo>
                <a:cubicBezTo>
                  <a:pt x="1114707" y="14330"/>
                  <a:pt x="1064368" y="7716"/>
                  <a:pt x="1014211" y="0"/>
                </a:cubicBezTo>
                <a:cubicBezTo>
                  <a:pt x="983345" y="11575"/>
                  <a:pt x="951624" y="21083"/>
                  <a:pt x="921614" y="34724"/>
                </a:cubicBezTo>
                <a:cubicBezTo>
                  <a:pt x="908950" y="40480"/>
                  <a:pt x="899554" y="52117"/>
                  <a:pt x="886890" y="57873"/>
                </a:cubicBezTo>
                <a:cubicBezTo>
                  <a:pt x="856880" y="71514"/>
                  <a:pt x="825378" y="81626"/>
                  <a:pt x="794292" y="92597"/>
                </a:cubicBezTo>
                <a:cubicBezTo>
                  <a:pt x="759776" y="104779"/>
                  <a:pt x="690120" y="127321"/>
                  <a:pt x="690120" y="127321"/>
                </a:cubicBezTo>
                <a:cubicBezTo>
                  <a:pt x="586287" y="231154"/>
                  <a:pt x="698730" y="134591"/>
                  <a:pt x="597523" y="185195"/>
                </a:cubicBezTo>
                <a:cubicBezTo>
                  <a:pt x="457375" y="255270"/>
                  <a:pt x="622707" y="196091"/>
                  <a:pt x="516500" y="231494"/>
                </a:cubicBezTo>
                <a:cubicBezTo>
                  <a:pt x="512642" y="243069"/>
                  <a:pt x="515838" y="260762"/>
                  <a:pt x="504925" y="266218"/>
                </a:cubicBezTo>
                <a:cubicBezTo>
                  <a:pt x="480523" y="278419"/>
                  <a:pt x="450599" y="272172"/>
                  <a:pt x="423902" y="277792"/>
                </a:cubicBezTo>
                <a:cubicBezTo>
                  <a:pt x="377202" y="287623"/>
                  <a:pt x="331305" y="300941"/>
                  <a:pt x="285006" y="312516"/>
                </a:cubicBezTo>
                <a:cubicBezTo>
                  <a:pt x="273618" y="318210"/>
                  <a:pt x="214887" y="345185"/>
                  <a:pt x="203983" y="358815"/>
                </a:cubicBezTo>
                <a:cubicBezTo>
                  <a:pt x="196361" y="368342"/>
                  <a:pt x="198462" y="382946"/>
                  <a:pt x="192409" y="393539"/>
                </a:cubicBezTo>
                <a:cubicBezTo>
                  <a:pt x="161659" y="447353"/>
                  <a:pt x="153851" y="442138"/>
                  <a:pt x="99811" y="474562"/>
                </a:cubicBezTo>
                <a:cubicBezTo>
                  <a:pt x="68000" y="522279"/>
                  <a:pt x="58742" y="530468"/>
                  <a:pt x="41938" y="601884"/>
                </a:cubicBezTo>
                <a:cubicBezTo>
                  <a:pt x="0" y="780120"/>
                  <a:pt x="60042" y="646699"/>
                  <a:pt x="7214" y="752354"/>
                </a:cubicBezTo>
                <a:cubicBezTo>
                  <a:pt x="11072" y="806369"/>
                  <a:pt x="13886" y="860469"/>
                  <a:pt x="18789" y="914400"/>
                </a:cubicBezTo>
                <a:cubicBezTo>
                  <a:pt x="21605" y="945378"/>
                  <a:pt x="27977" y="975983"/>
                  <a:pt x="30363" y="1006997"/>
                </a:cubicBezTo>
                <a:cubicBezTo>
                  <a:pt x="39555" y="1126498"/>
                  <a:pt x="43277" y="1246397"/>
                  <a:pt x="53513" y="1365813"/>
                </a:cubicBezTo>
                <a:cubicBezTo>
                  <a:pt x="54872" y="1381662"/>
                  <a:pt x="61636" y="1396582"/>
                  <a:pt x="65087" y="1412111"/>
                </a:cubicBezTo>
                <a:cubicBezTo>
                  <a:pt x="69355" y="1431316"/>
                  <a:pt x="69754" y="1451564"/>
                  <a:pt x="76662" y="1469985"/>
                </a:cubicBezTo>
                <a:cubicBezTo>
                  <a:pt x="81546" y="1483010"/>
                  <a:pt x="92095" y="1493134"/>
                  <a:pt x="99811" y="1504709"/>
                </a:cubicBezTo>
                <a:cubicBezTo>
                  <a:pt x="92095" y="1589590"/>
                  <a:pt x="39780" y="1682514"/>
                  <a:pt x="76662" y="1759352"/>
                </a:cubicBezTo>
                <a:cubicBezTo>
                  <a:pt x="122961" y="1855808"/>
                  <a:pt x="169872" y="1951972"/>
                  <a:pt x="215558" y="2048719"/>
                </a:cubicBezTo>
                <a:cubicBezTo>
                  <a:pt x="235465" y="2090874"/>
                  <a:pt x="245461" y="2138745"/>
                  <a:pt x="273432" y="2176040"/>
                </a:cubicBezTo>
                <a:cubicBezTo>
                  <a:pt x="285007" y="2191473"/>
                  <a:pt x="297799" y="2206064"/>
                  <a:pt x="308156" y="2222339"/>
                </a:cubicBezTo>
                <a:cubicBezTo>
                  <a:pt x="331953" y="2259734"/>
                  <a:pt x="342252" y="2299997"/>
                  <a:pt x="377604" y="2326511"/>
                </a:cubicBezTo>
                <a:cubicBezTo>
                  <a:pt x="438262" y="2372004"/>
                  <a:pt x="450377" y="2374472"/>
                  <a:pt x="516500" y="2407534"/>
                </a:cubicBezTo>
                <a:cubicBezTo>
                  <a:pt x="528075" y="2422967"/>
                  <a:pt x="534202" y="2444755"/>
                  <a:pt x="551224" y="2453833"/>
                </a:cubicBezTo>
                <a:cubicBezTo>
                  <a:pt x="594286" y="2476799"/>
                  <a:pt x="642264" y="2490562"/>
                  <a:pt x="690120" y="2500132"/>
                </a:cubicBezTo>
                <a:cubicBezTo>
                  <a:pt x="771007" y="2516308"/>
                  <a:pt x="728588" y="2508472"/>
                  <a:pt x="817442" y="2523281"/>
                </a:cubicBezTo>
                <a:cubicBezTo>
                  <a:pt x="825158" y="2538714"/>
                  <a:pt x="829545" y="2556325"/>
                  <a:pt x="840591" y="2569580"/>
                </a:cubicBezTo>
                <a:cubicBezTo>
                  <a:pt x="856442" y="2588602"/>
                  <a:pt x="887574" y="2597886"/>
                  <a:pt x="910039" y="2604304"/>
                </a:cubicBezTo>
                <a:cubicBezTo>
                  <a:pt x="977812" y="2623667"/>
                  <a:pt x="979858" y="2618230"/>
                  <a:pt x="1072085" y="2627453"/>
                </a:cubicBezTo>
                <a:cubicBezTo>
                  <a:pt x="1180115" y="2623595"/>
                  <a:pt x="1288287" y="2622621"/>
                  <a:pt x="1396176" y="2615878"/>
                </a:cubicBezTo>
                <a:cubicBezTo>
                  <a:pt x="1463329" y="2611681"/>
                  <a:pt x="1423784" y="2598878"/>
                  <a:pt x="1488773" y="2581154"/>
                </a:cubicBezTo>
                <a:cubicBezTo>
                  <a:pt x="1515094" y="2573976"/>
                  <a:pt x="1542788" y="2573438"/>
                  <a:pt x="1569796" y="2569580"/>
                </a:cubicBezTo>
                <a:cubicBezTo>
                  <a:pt x="1573654" y="2554147"/>
                  <a:pt x="1568292" y="2532336"/>
                  <a:pt x="1581371" y="2523281"/>
                </a:cubicBezTo>
                <a:cubicBezTo>
                  <a:pt x="1622610" y="2494731"/>
                  <a:pt x="1674315" y="2485512"/>
                  <a:pt x="1720267" y="2465408"/>
                </a:cubicBezTo>
                <a:cubicBezTo>
                  <a:pt x="1736075" y="2458492"/>
                  <a:pt x="1751585" y="2450819"/>
                  <a:pt x="1766566" y="2442258"/>
                </a:cubicBezTo>
                <a:cubicBezTo>
                  <a:pt x="1778644" y="2435356"/>
                  <a:pt x="1788504" y="2424589"/>
                  <a:pt x="1801290" y="2419109"/>
                </a:cubicBezTo>
                <a:cubicBezTo>
                  <a:pt x="1842798" y="2401320"/>
                  <a:pt x="1886171" y="2388243"/>
                  <a:pt x="1928611" y="2372810"/>
                </a:cubicBezTo>
                <a:cubicBezTo>
                  <a:pt x="2003457" y="2310439"/>
                  <a:pt x="2009912" y="2300881"/>
                  <a:pt x="2102232" y="2245489"/>
                </a:cubicBezTo>
                <a:cubicBezTo>
                  <a:pt x="2124425" y="2232173"/>
                  <a:pt x="2149208" y="2223606"/>
                  <a:pt x="2171680" y="2210765"/>
                </a:cubicBezTo>
                <a:cubicBezTo>
                  <a:pt x="2203283" y="2192706"/>
                  <a:pt x="2233411" y="2172182"/>
                  <a:pt x="2264277" y="2152891"/>
                </a:cubicBezTo>
                <a:cubicBezTo>
                  <a:pt x="2278706" y="1950894"/>
                  <a:pt x="2281556" y="2007119"/>
                  <a:pt x="2264277" y="1782501"/>
                </a:cubicBezTo>
                <a:cubicBezTo>
                  <a:pt x="2256796" y="1685252"/>
                  <a:pt x="2263155" y="1710810"/>
                  <a:pt x="2229553" y="1643605"/>
                </a:cubicBezTo>
                <a:cubicBezTo>
                  <a:pt x="2208176" y="1536721"/>
                  <a:pt x="2232994" y="1634417"/>
                  <a:pt x="2183254" y="1516284"/>
                </a:cubicBezTo>
                <a:cubicBezTo>
                  <a:pt x="2162400" y="1466756"/>
                  <a:pt x="2158373" y="1408232"/>
                  <a:pt x="2125381" y="1365813"/>
                </a:cubicBezTo>
                <a:cubicBezTo>
                  <a:pt x="2083252" y="1311647"/>
                  <a:pt x="2020916" y="1309161"/>
                  <a:pt x="1963335" y="1296365"/>
                </a:cubicBezTo>
                <a:cubicBezTo>
                  <a:pt x="1947806" y="1292914"/>
                  <a:pt x="1932470" y="1288648"/>
                  <a:pt x="1917037" y="1284790"/>
                </a:cubicBezTo>
                <a:cubicBezTo>
                  <a:pt x="1892777" y="1236270"/>
                  <a:pt x="1890443" y="1234808"/>
                  <a:pt x="1870738" y="1180618"/>
                </a:cubicBezTo>
                <a:cubicBezTo>
                  <a:pt x="1862399" y="1157686"/>
                  <a:pt x="1861582" y="1131160"/>
                  <a:pt x="1847589" y="1111170"/>
                </a:cubicBezTo>
                <a:cubicBezTo>
                  <a:pt x="1833422" y="1090931"/>
                  <a:pt x="1809006" y="1080304"/>
                  <a:pt x="1789715" y="1064871"/>
                </a:cubicBezTo>
                <a:cubicBezTo>
                  <a:pt x="1778140" y="1034005"/>
                  <a:pt x="1766257" y="1003253"/>
                  <a:pt x="1754991" y="972273"/>
                </a:cubicBezTo>
                <a:cubicBezTo>
                  <a:pt x="1739413" y="929434"/>
                  <a:pt x="1739249" y="906019"/>
                  <a:pt x="1697118" y="868101"/>
                </a:cubicBezTo>
                <a:cubicBezTo>
                  <a:pt x="1639762" y="816481"/>
                  <a:pt x="1570664" y="779243"/>
                  <a:pt x="1511923" y="729205"/>
                </a:cubicBezTo>
                <a:cubicBezTo>
                  <a:pt x="1466233" y="690284"/>
                  <a:pt x="1417893" y="651824"/>
                  <a:pt x="1384601" y="601884"/>
                </a:cubicBezTo>
                <a:cubicBezTo>
                  <a:pt x="1353736" y="555584"/>
                  <a:pt x="1373027" y="574875"/>
                  <a:pt x="1326728" y="544010"/>
                </a:cubicBezTo>
                <a:cubicBezTo>
                  <a:pt x="1279460" y="473110"/>
                  <a:pt x="1328373" y="529126"/>
                  <a:pt x="1199406" y="486137"/>
                </a:cubicBezTo>
                <a:cubicBezTo>
                  <a:pt x="1165557" y="474854"/>
                  <a:pt x="1149557" y="442820"/>
                  <a:pt x="1129958" y="416689"/>
                </a:cubicBezTo>
                <a:cubicBezTo>
                  <a:pt x="1126100" y="385823"/>
                  <a:pt x="1133816" y="351099"/>
                  <a:pt x="1118383" y="324091"/>
                </a:cubicBezTo>
                <a:cubicBezTo>
                  <a:pt x="1100735" y="293207"/>
                  <a:pt x="1060993" y="281229"/>
                  <a:pt x="1037361" y="254643"/>
                </a:cubicBezTo>
                <a:cubicBezTo>
                  <a:pt x="1029255" y="245524"/>
                  <a:pt x="1036451" y="225844"/>
                  <a:pt x="1025786" y="219919"/>
                </a:cubicBezTo>
                <a:cubicBezTo>
                  <a:pt x="997974" y="204468"/>
                  <a:pt x="962729" y="208586"/>
                  <a:pt x="933189" y="196770"/>
                </a:cubicBezTo>
                <a:cubicBezTo>
                  <a:pt x="913898" y="189053"/>
                  <a:pt x="895527" y="178433"/>
                  <a:pt x="875315" y="173620"/>
                </a:cubicBezTo>
                <a:cubicBezTo>
                  <a:pt x="756081" y="145231"/>
                  <a:pt x="704633" y="140710"/>
                  <a:pt x="597523" y="127321"/>
                </a:cubicBezTo>
                <a:cubicBezTo>
                  <a:pt x="558941" y="108030"/>
                  <a:pt x="524763" y="73030"/>
                  <a:pt x="481776" y="69448"/>
                </a:cubicBezTo>
                <a:lnTo>
                  <a:pt x="342880" y="57873"/>
                </a:lnTo>
              </a:path>
            </a:pathLst>
          </a:custGeom>
          <a:noFill/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1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1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ole tekstowe 2"/>
          <p:cNvSpPr/>
          <p:nvPr/>
        </p:nvSpPr>
        <p:spPr>
          <a:xfrm>
            <a:off x="1030320" y="4716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Arial Black"/>
              </a:rPr>
              <a:t>CZY ODDANY GŁOS JEST WAŻ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ole tekstowe 6"/>
          <p:cNvSpPr/>
          <p:nvPr/>
        </p:nvSpPr>
        <p:spPr>
          <a:xfrm>
            <a:off x="1332000" y="476100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smo odręczne 9" descr=""/>
          <p:cNvPicPr/>
          <p:nvPr/>
        </p:nvPicPr>
        <p:blipFill>
          <a:blip r:embed="rId1"/>
          <a:stretch/>
        </p:blipFill>
        <p:spPr>
          <a:xfrm>
            <a:off x="1014480" y="1227240"/>
            <a:ext cx="335268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1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1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ole tekstowe 2"/>
          <p:cNvSpPr/>
          <p:nvPr/>
        </p:nvSpPr>
        <p:spPr>
          <a:xfrm>
            <a:off x="900000" y="47628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Arial Black"/>
              </a:rPr>
              <a:t>CZY ODDANY GŁOS JEST WAŻ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Elipsa 7"/>
          <p:cNvSpPr/>
          <p:nvPr/>
        </p:nvSpPr>
        <p:spPr>
          <a:xfrm>
            <a:off x="1835280" y="1916280"/>
            <a:ext cx="1800000" cy="2520720"/>
          </a:xfrm>
          <a:prstGeom prst="ellipse">
            <a:avLst/>
          </a:prstGeom>
          <a:noFill/>
          <a:ln w="7632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1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1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ole tekstowe 2"/>
          <p:cNvSpPr/>
          <p:nvPr/>
        </p:nvSpPr>
        <p:spPr>
          <a:xfrm>
            <a:off x="900000" y="47628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Arial Black"/>
              </a:rPr>
              <a:t>CZY ODDANY GŁOS JEST WAŻ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smo odręczne 4" descr=""/>
          <p:cNvPicPr/>
          <p:nvPr/>
        </p:nvPicPr>
        <p:blipFill>
          <a:blip r:embed="rId1"/>
          <a:stretch/>
        </p:blipFill>
        <p:spPr>
          <a:xfrm>
            <a:off x="1620720" y="2557440"/>
            <a:ext cx="871560" cy="882720"/>
          </a:xfrm>
          <a:prstGeom prst="rect">
            <a:avLst/>
          </a:prstGeom>
          <a:ln w="0">
            <a:noFill/>
          </a:ln>
        </p:spPr>
      </p:pic>
      <p:pic>
        <p:nvPicPr>
          <p:cNvPr id="637" name="Pismo odręczne 8" descr=""/>
          <p:cNvPicPr/>
          <p:nvPr/>
        </p:nvPicPr>
        <p:blipFill>
          <a:blip r:embed="rId2"/>
          <a:stretch/>
        </p:blipFill>
        <p:spPr>
          <a:xfrm>
            <a:off x="-1521000" y="2370240"/>
            <a:ext cx="38160" cy="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1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1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ole tekstowe 2"/>
          <p:cNvSpPr/>
          <p:nvPr/>
        </p:nvSpPr>
        <p:spPr>
          <a:xfrm>
            <a:off x="900000" y="47628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Arial Black"/>
              </a:rPr>
              <a:t>CZY ODDANY GŁOS JEST WAŻ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smo odręczne 3" descr=""/>
          <p:cNvPicPr/>
          <p:nvPr/>
        </p:nvPicPr>
        <p:blipFill>
          <a:blip r:embed="rId1"/>
          <a:stretch/>
        </p:blipFill>
        <p:spPr>
          <a:xfrm>
            <a:off x="1936800" y="3132000"/>
            <a:ext cx="144360" cy="1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1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1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ole tekstowe 1"/>
          <p:cNvSpPr/>
          <p:nvPr/>
        </p:nvSpPr>
        <p:spPr>
          <a:xfrm>
            <a:off x="108000" y="1773360"/>
            <a:ext cx="8856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rt. 5 ust. 12 Kodeksu wyborcz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Ilekroć w kodeksie jest mowa 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 Black"/>
                <a:ea typeface="Arial"/>
              </a:rPr>
              <a:t>znaku „</a:t>
            </a:r>
            <a:r>
              <a:rPr b="1" lang="pl-PL" sz="4000" spc="-1" strike="noStrike">
                <a:solidFill>
                  <a:srgbClr val="0000ff"/>
                </a:solidFill>
                <a:latin typeface="Arial Black"/>
                <a:ea typeface="Arial"/>
              </a:rPr>
              <a:t>X</a:t>
            </a:r>
            <a:r>
              <a:rPr b="1" lang="pl-PL" sz="4000" spc="-1" strike="noStrike">
                <a:solidFill>
                  <a:srgbClr val="c00000"/>
                </a:solidFill>
                <a:latin typeface="Arial Black"/>
                <a:ea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ole tekstowe 2"/>
          <p:cNvSpPr/>
          <p:nvPr/>
        </p:nvSpPr>
        <p:spPr>
          <a:xfrm>
            <a:off x="2411280" y="62280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Arial Black"/>
              </a:rPr>
              <a:t>DEFINICJA ZNAKU „</a:t>
            </a:r>
            <a:r>
              <a:rPr b="0" lang="pl-PL" sz="24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0" lang="pl-PL" sz="2400" spc="-1" strike="noStrike">
                <a:solidFill>
                  <a:srgbClr val="c00000"/>
                </a:solidFill>
                <a:latin typeface="Arial Black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rostokąt 1"/>
          <p:cNvSpPr/>
          <p:nvPr/>
        </p:nvSpPr>
        <p:spPr>
          <a:xfrm>
            <a:off x="250920" y="4221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00000"/>
                </a:solidFill>
                <a:latin typeface="Arial Black"/>
                <a:ea typeface="Arial"/>
              </a:rPr>
              <a:t>– </a:t>
            </a:r>
            <a:r>
              <a:rPr b="1" lang="pl-PL" sz="2800" spc="-1" strike="noStrike">
                <a:solidFill>
                  <a:srgbClr val="c00000"/>
                </a:solidFill>
                <a:latin typeface="Arial Black"/>
                <a:ea typeface="Arial"/>
              </a:rPr>
              <a:t>rozumie się przez to co najmniej dwie linie, które przecinają się 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ole tekstowe 2"/>
          <p:cNvSpPr/>
          <p:nvPr/>
        </p:nvSpPr>
        <p:spPr>
          <a:xfrm>
            <a:off x="900000" y="47628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Arial Black"/>
              </a:rPr>
              <a:t>CZY ODDANY GŁOS JEST WAŻ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smo odręczne 34" descr=""/>
          <p:cNvPicPr/>
          <p:nvPr/>
        </p:nvPicPr>
        <p:blipFill>
          <a:blip r:embed="rId1"/>
          <a:stretch/>
        </p:blipFill>
        <p:spPr>
          <a:xfrm>
            <a:off x="1322280" y="2335320"/>
            <a:ext cx="1208160" cy="344520"/>
          </a:xfrm>
          <a:prstGeom prst="rect">
            <a:avLst/>
          </a:prstGeom>
          <a:ln w="0">
            <a:noFill/>
          </a:ln>
        </p:spPr>
      </p:pic>
      <p:pic>
        <p:nvPicPr>
          <p:cNvPr id="648" name="Pismo odręczne 35" descr=""/>
          <p:cNvPicPr/>
          <p:nvPr/>
        </p:nvPicPr>
        <p:blipFill>
          <a:blip r:embed="rId2"/>
          <a:stretch/>
        </p:blipFill>
        <p:spPr>
          <a:xfrm>
            <a:off x="1333440" y="2602080"/>
            <a:ext cx="316080" cy="1118880"/>
          </a:xfrm>
          <a:prstGeom prst="rect">
            <a:avLst/>
          </a:prstGeom>
          <a:ln w="0">
            <a:noFill/>
          </a:ln>
        </p:spPr>
      </p:pic>
      <p:pic>
        <p:nvPicPr>
          <p:cNvPr id="649" name="Pismo odręczne 36" descr=""/>
          <p:cNvPicPr/>
          <p:nvPr/>
        </p:nvPicPr>
        <p:blipFill>
          <a:blip r:embed="rId3"/>
          <a:stretch/>
        </p:blipFill>
        <p:spPr>
          <a:xfrm>
            <a:off x="1616040" y="2935440"/>
            <a:ext cx="581040" cy="765000"/>
          </a:xfrm>
          <a:prstGeom prst="rect">
            <a:avLst/>
          </a:prstGeom>
          <a:ln w="0">
            <a:noFill/>
          </a:ln>
        </p:spPr>
      </p:pic>
      <p:pic>
        <p:nvPicPr>
          <p:cNvPr id="650" name="Pismo odręczne 40" descr=""/>
          <p:cNvPicPr/>
          <p:nvPr/>
        </p:nvPicPr>
        <p:blipFill>
          <a:blip r:embed="rId4"/>
          <a:stretch/>
        </p:blipFill>
        <p:spPr>
          <a:xfrm>
            <a:off x="2330280" y="3006720"/>
            <a:ext cx="49860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1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1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Obraz 3" descr=""/>
          <p:cNvPicPr/>
          <p:nvPr/>
        </p:nvPicPr>
        <p:blipFill>
          <a:blip r:embed="rId1"/>
          <a:srcRect l="39155" t="8625" r="13282" b="24178"/>
          <a:stretch/>
        </p:blipFill>
        <p:spPr>
          <a:xfrm>
            <a:off x="395280" y="990720"/>
            <a:ext cx="3745080" cy="5533920"/>
          </a:xfrm>
          <a:prstGeom prst="rect">
            <a:avLst/>
          </a:prstGeom>
          <a:ln w="0">
            <a:noFill/>
          </a:ln>
        </p:spPr>
      </p:pic>
      <p:sp>
        <p:nvSpPr>
          <p:cNvPr id="652" name="Prostokąt 4"/>
          <p:cNvSpPr/>
          <p:nvPr/>
        </p:nvSpPr>
        <p:spPr>
          <a:xfrm>
            <a:off x="250920" y="981000"/>
            <a:ext cx="3960720" cy="561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ole tekstowe 17"/>
          <p:cNvSpPr/>
          <p:nvPr/>
        </p:nvSpPr>
        <p:spPr>
          <a:xfrm>
            <a:off x="4859280" y="25322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cc00"/>
                </a:solidFill>
                <a:latin typeface="Arial Black"/>
              </a:rPr>
              <a:t>GŁOS WAŻ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ole tekstowe 18"/>
          <p:cNvSpPr/>
          <p:nvPr/>
        </p:nvSpPr>
        <p:spPr>
          <a:xfrm>
            <a:off x="4500720" y="3573360"/>
            <a:ext cx="453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cc00"/>
                </a:solidFill>
                <a:latin typeface="Arial"/>
                <a:ea typeface="Arial"/>
              </a:rPr>
              <a:t>Co najmniej dwie linie przecinają się w obrębie kratki, głos oddany tylko na jednego kandydata lista nr 1, poz. 0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ole tekstowe 21"/>
          <p:cNvSpPr/>
          <p:nvPr/>
        </p:nvSpPr>
        <p:spPr>
          <a:xfrm>
            <a:off x="4932360" y="14907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Karta nie zawiera nazwisk skreślonych kandyda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ole tekstowe 2"/>
          <p:cNvSpPr/>
          <p:nvPr/>
        </p:nvSpPr>
        <p:spPr>
          <a:xfrm>
            <a:off x="2394000" y="32868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 Black"/>
              </a:rPr>
              <a:t>Wybory do Sejmu 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smo odręczne 6" descr=""/>
          <p:cNvPicPr/>
          <p:nvPr/>
        </p:nvPicPr>
        <p:blipFill>
          <a:blip r:embed="rId2"/>
          <a:srcRect l="53987" t="0" r="0" b="0"/>
          <a:stretch/>
        </p:blipFill>
        <p:spPr>
          <a:xfrm>
            <a:off x="592200" y="1706400"/>
            <a:ext cx="307800" cy="282600"/>
          </a:xfrm>
          <a:prstGeom prst="rect">
            <a:avLst/>
          </a:prstGeom>
          <a:ln w="0">
            <a:noFill/>
          </a:ln>
        </p:spPr>
      </p:pic>
      <p:sp>
        <p:nvSpPr>
          <p:cNvPr id="658" name="Prostokąt 12"/>
          <p:cNvSpPr/>
          <p:nvPr/>
        </p:nvSpPr>
        <p:spPr>
          <a:xfrm>
            <a:off x="2390400" y="119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rostokąt 13"/>
          <p:cNvSpPr/>
          <p:nvPr/>
        </p:nvSpPr>
        <p:spPr>
          <a:xfrm>
            <a:off x="1237680" y="119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rostokąt 14"/>
          <p:cNvSpPr/>
          <p:nvPr/>
        </p:nvSpPr>
        <p:spPr>
          <a:xfrm>
            <a:off x="3495240" y="119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rostokąt 15"/>
          <p:cNvSpPr/>
          <p:nvPr/>
        </p:nvSpPr>
        <p:spPr>
          <a:xfrm>
            <a:off x="1235160" y="3492360"/>
            <a:ext cx="2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rostokąt 16"/>
          <p:cNvSpPr/>
          <p:nvPr/>
        </p:nvSpPr>
        <p:spPr>
          <a:xfrm>
            <a:off x="2340000" y="3492360"/>
            <a:ext cx="3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rostokąt 20"/>
          <p:cNvSpPr/>
          <p:nvPr/>
        </p:nvSpPr>
        <p:spPr>
          <a:xfrm flipH="1">
            <a:off x="3419640" y="342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Obraz 3" descr=""/>
          <p:cNvPicPr/>
          <p:nvPr/>
        </p:nvPicPr>
        <p:blipFill>
          <a:blip r:embed="rId1"/>
          <a:srcRect l="39155" t="8625" r="13282" b="24178"/>
          <a:stretch/>
        </p:blipFill>
        <p:spPr>
          <a:xfrm>
            <a:off x="108000" y="990720"/>
            <a:ext cx="3743280" cy="5533920"/>
          </a:xfrm>
          <a:prstGeom prst="rect">
            <a:avLst/>
          </a:prstGeom>
          <a:ln w="0">
            <a:noFill/>
          </a:ln>
        </p:spPr>
      </p:pic>
      <p:sp>
        <p:nvSpPr>
          <p:cNvPr id="665" name="Prostokąt 4"/>
          <p:cNvSpPr/>
          <p:nvPr/>
        </p:nvSpPr>
        <p:spPr>
          <a:xfrm>
            <a:off x="108000" y="981000"/>
            <a:ext cx="3960720" cy="561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ole tekstowe 17"/>
          <p:cNvSpPr/>
          <p:nvPr/>
        </p:nvSpPr>
        <p:spPr>
          <a:xfrm>
            <a:off x="4603680" y="155736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cc00"/>
                </a:solidFill>
                <a:latin typeface="Arial Black"/>
              </a:rPr>
              <a:t>GŁOS WAŻ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ole tekstowe 21"/>
          <p:cNvSpPr/>
          <p:nvPr/>
        </p:nvSpPr>
        <p:spPr>
          <a:xfrm>
            <a:off x="4572000" y="90792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Karta nie zawiera nazwisk skreślonych kandyda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ole tekstowe 2"/>
          <p:cNvSpPr/>
          <p:nvPr/>
        </p:nvSpPr>
        <p:spPr>
          <a:xfrm>
            <a:off x="2340000" y="29196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 Black"/>
              </a:rPr>
              <a:t>Wybory do Sejmu 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smo odręczne 6" descr=""/>
          <p:cNvPicPr/>
          <p:nvPr/>
        </p:nvPicPr>
        <p:blipFill>
          <a:blip r:embed="rId2"/>
          <a:srcRect l="53987" t="0" r="0" b="0"/>
          <a:stretch/>
        </p:blipFill>
        <p:spPr>
          <a:xfrm>
            <a:off x="1403280" y="1413000"/>
            <a:ext cx="308160" cy="282600"/>
          </a:xfrm>
          <a:prstGeom prst="rect">
            <a:avLst/>
          </a:prstGeom>
          <a:ln w="0">
            <a:noFill/>
          </a:ln>
        </p:spPr>
      </p:pic>
      <p:sp>
        <p:nvSpPr>
          <p:cNvPr id="670" name="Prostokąt 12"/>
          <p:cNvSpPr/>
          <p:nvPr/>
        </p:nvSpPr>
        <p:spPr>
          <a:xfrm>
            <a:off x="2053800" y="112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rostokąt 13"/>
          <p:cNvSpPr/>
          <p:nvPr/>
        </p:nvSpPr>
        <p:spPr>
          <a:xfrm>
            <a:off x="974160" y="10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rostokąt 14"/>
          <p:cNvSpPr/>
          <p:nvPr/>
        </p:nvSpPr>
        <p:spPr>
          <a:xfrm>
            <a:off x="3279240" y="10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rostokąt 15"/>
          <p:cNvSpPr/>
          <p:nvPr/>
        </p:nvSpPr>
        <p:spPr>
          <a:xfrm>
            <a:off x="971640" y="3419640"/>
            <a:ext cx="2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rostokąt 16"/>
          <p:cNvSpPr/>
          <p:nvPr/>
        </p:nvSpPr>
        <p:spPr>
          <a:xfrm>
            <a:off x="2124000" y="3429000"/>
            <a:ext cx="3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rostokąt 20"/>
          <p:cNvSpPr/>
          <p:nvPr/>
        </p:nvSpPr>
        <p:spPr>
          <a:xfrm flipH="1">
            <a:off x="3203640" y="3419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ole tekstowe 14"/>
          <p:cNvSpPr/>
          <p:nvPr/>
        </p:nvSpPr>
        <p:spPr>
          <a:xfrm>
            <a:off x="4211640" y="2133720"/>
            <a:ext cx="482436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just">
              <a:lnSpc>
                <a:spcPct val="100000"/>
              </a:lnSpc>
              <a:spcAft>
                <a:spcPts val="601"/>
              </a:spcAft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cc00"/>
                </a:solidFill>
                <a:latin typeface="Arial"/>
                <a:ea typeface="Arial"/>
              </a:rPr>
              <a:t>Wyborca postawił znak „</a:t>
            </a:r>
            <a:r>
              <a:rPr b="1" lang="pl-PL" sz="2000" spc="-1" strike="noStrike">
                <a:solidFill>
                  <a:srgbClr val="0000ff"/>
                </a:solidFill>
                <a:latin typeface="Arial"/>
                <a:ea typeface="Arial"/>
              </a:rPr>
              <a:t>X</a:t>
            </a:r>
            <a:r>
              <a:rPr b="1" lang="pl-PL" sz="2000" spc="-1" strike="noStrike">
                <a:solidFill>
                  <a:srgbClr val="00cc00"/>
                </a:solidFill>
                <a:latin typeface="Arial"/>
                <a:ea typeface="Arial"/>
              </a:rPr>
              <a:t>” w obrębie kratki, w postaci co najmniej dwóch przecinających się linii, </a:t>
            </a:r>
            <a:r>
              <a:rPr b="1" lang="pl-PL" sz="20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na jednej liście</a:t>
            </a:r>
            <a:r>
              <a:rPr b="1" lang="pl-PL" sz="2000" spc="-1" strike="noStrike">
                <a:solidFill>
                  <a:srgbClr val="00cc00"/>
                </a:solidFill>
                <a:latin typeface="Arial"/>
                <a:ea typeface="Arial"/>
              </a:rPr>
              <a:t> nr 2 przy nazwisku dwóch kandydatów poz. 02 i poz. 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lnSpc>
                <a:spcPct val="100000"/>
              </a:lnSpc>
              <a:spcAft>
                <a:spcPts val="601"/>
              </a:spcAft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cc00"/>
                </a:solidFill>
                <a:latin typeface="Arial"/>
              </a:rPr>
              <a:t>Głos taki traktuje się jako oddany na tego kandydata spośród tych, przy których postawiono znak „</a:t>
            </a: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pl-PL" sz="2000" spc="-1" strike="noStrike">
                <a:solidFill>
                  <a:srgbClr val="00cc00"/>
                </a:solidFill>
                <a:latin typeface="Arial"/>
              </a:rPr>
              <a:t>”, którego nazwisko jest umieszczone wyżej na tej liście (tj.</a:t>
            </a:r>
            <a:r>
              <a:rPr b="1" lang="pl-PL" sz="2000" spc="-1" strike="noStrike">
                <a:solidFill>
                  <a:srgbClr val="00cc00"/>
                </a:solidFill>
                <a:latin typeface="Arial"/>
                <a:ea typeface="Arial"/>
              </a:rPr>
              <a:t> który ma niższy nume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lnSpc>
                <a:spcPct val="100000"/>
              </a:lnSpc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cc00"/>
                </a:solidFill>
                <a:latin typeface="Arial"/>
                <a:ea typeface="Arial"/>
              </a:rPr>
              <a:t>Głos oddano na kandydata lista nr 2, poz. 0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smo odręczne 6" descr=""/>
          <p:cNvPicPr/>
          <p:nvPr/>
        </p:nvPicPr>
        <p:blipFill>
          <a:blip r:embed="rId3"/>
          <a:stretch/>
        </p:blipFill>
        <p:spPr>
          <a:xfrm>
            <a:off x="1187280" y="1700280"/>
            <a:ext cx="497160" cy="20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Obraz 3" descr=""/>
          <p:cNvPicPr/>
          <p:nvPr/>
        </p:nvPicPr>
        <p:blipFill>
          <a:blip r:embed="rId1"/>
          <a:srcRect l="39155" t="8625" r="13282" b="24178"/>
          <a:stretch/>
        </p:blipFill>
        <p:spPr>
          <a:xfrm>
            <a:off x="108000" y="990720"/>
            <a:ext cx="3743280" cy="5533920"/>
          </a:xfrm>
          <a:prstGeom prst="rect">
            <a:avLst/>
          </a:prstGeom>
          <a:ln w="0">
            <a:noFill/>
          </a:ln>
        </p:spPr>
      </p:pic>
      <p:sp>
        <p:nvSpPr>
          <p:cNvPr id="679" name="Prostokąt 4"/>
          <p:cNvSpPr/>
          <p:nvPr/>
        </p:nvSpPr>
        <p:spPr>
          <a:xfrm>
            <a:off x="108000" y="981000"/>
            <a:ext cx="3960720" cy="561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ole tekstowe 17"/>
          <p:cNvSpPr/>
          <p:nvPr/>
        </p:nvSpPr>
        <p:spPr>
          <a:xfrm>
            <a:off x="4610160" y="18446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cc00"/>
                </a:solidFill>
                <a:latin typeface="Arial Black"/>
              </a:rPr>
              <a:t>GŁOS WAŻ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ole tekstowe 21"/>
          <p:cNvSpPr/>
          <p:nvPr/>
        </p:nvSpPr>
        <p:spPr>
          <a:xfrm>
            <a:off x="4641840" y="99072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Karta nie zawiera nazwisk skreślonych kandyda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ole tekstowe 2"/>
          <p:cNvSpPr/>
          <p:nvPr/>
        </p:nvSpPr>
        <p:spPr>
          <a:xfrm>
            <a:off x="2340000" y="29196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 Black"/>
              </a:rPr>
              <a:t>Wybory do Sejmu 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smo odręczne 6" descr=""/>
          <p:cNvPicPr/>
          <p:nvPr/>
        </p:nvPicPr>
        <p:blipFill>
          <a:blip r:embed="rId2"/>
          <a:srcRect l="53987" t="0" r="0" b="0"/>
          <a:stretch/>
        </p:blipFill>
        <p:spPr>
          <a:xfrm>
            <a:off x="2484360" y="2421000"/>
            <a:ext cx="308160" cy="216000"/>
          </a:xfrm>
          <a:prstGeom prst="rect">
            <a:avLst/>
          </a:prstGeom>
          <a:ln w="0">
            <a:noFill/>
          </a:ln>
        </p:spPr>
      </p:pic>
      <p:sp>
        <p:nvSpPr>
          <p:cNvPr id="684" name="Prostokąt 12"/>
          <p:cNvSpPr/>
          <p:nvPr/>
        </p:nvSpPr>
        <p:spPr>
          <a:xfrm>
            <a:off x="2053800" y="112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rostokąt 13"/>
          <p:cNvSpPr/>
          <p:nvPr/>
        </p:nvSpPr>
        <p:spPr>
          <a:xfrm>
            <a:off x="974160" y="10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rostokąt 14"/>
          <p:cNvSpPr/>
          <p:nvPr/>
        </p:nvSpPr>
        <p:spPr>
          <a:xfrm>
            <a:off x="3279240" y="10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rostokąt 15"/>
          <p:cNvSpPr/>
          <p:nvPr/>
        </p:nvSpPr>
        <p:spPr>
          <a:xfrm>
            <a:off x="971640" y="3419640"/>
            <a:ext cx="2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rostokąt 16"/>
          <p:cNvSpPr/>
          <p:nvPr/>
        </p:nvSpPr>
        <p:spPr>
          <a:xfrm>
            <a:off x="2124000" y="3429000"/>
            <a:ext cx="3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rostokąt 20"/>
          <p:cNvSpPr/>
          <p:nvPr/>
        </p:nvSpPr>
        <p:spPr>
          <a:xfrm flipH="1">
            <a:off x="3203640" y="3419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ole tekstowe 18"/>
          <p:cNvSpPr/>
          <p:nvPr/>
        </p:nvSpPr>
        <p:spPr>
          <a:xfrm>
            <a:off x="4140360" y="2781360"/>
            <a:ext cx="4859280" cy="32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just">
              <a:lnSpc>
                <a:spcPct val="100000"/>
              </a:lnSpc>
              <a:spcAft>
                <a:spcPts val="601"/>
              </a:spcAft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cc00"/>
                </a:solidFill>
                <a:latin typeface="Arial"/>
                <a:ea typeface="Arial"/>
              </a:rPr>
              <a:t>Znak postawiony przy nazwisku kandydata z listy nr 2, </a:t>
            </a:r>
            <a:r>
              <a:rPr b="1" lang="pl-PL" sz="2000" spc="-1" strike="noStrike" u="sng">
                <a:solidFill>
                  <a:srgbClr val="00cc00"/>
                </a:solidFill>
                <a:uFillTx/>
                <a:latin typeface="Arial"/>
                <a:ea typeface="Arial"/>
              </a:rPr>
              <a:t>poz. 01 nie spełnia wymogów uznania za znak „</a:t>
            </a:r>
            <a:r>
              <a:rPr b="1" lang="pl-PL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X</a:t>
            </a:r>
            <a:r>
              <a:rPr b="1" lang="pl-PL" sz="2000" spc="-1" strike="noStrike" u="sng">
                <a:solidFill>
                  <a:srgbClr val="00cc00"/>
                </a:solidFill>
                <a:uFillTx/>
                <a:latin typeface="Arial"/>
                <a:ea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lnSpc>
                <a:spcPct val="100000"/>
              </a:lnSpc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cc00"/>
                </a:solidFill>
                <a:latin typeface="Arial"/>
                <a:ea typeface="Arial"/>
              </a:rPr>
              <a:t>Głos oddano na kandydata lista nr 3, poz.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lnSpc>
                <a:spcPct val="100000"/>
              </a:lnSpc>
              <a:spcAft>
                <a:spcPts val="601"/>
              </a:spcAft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cc00"/>
                </a:solidFill>
                <a:latin typeface="Arial"/>
                <a:ea typeface="Arial"/>
              </a:rPr>
              <a:t>Wyborca postawił znak w obrębie kratki, w postaci co najmniej dwóch przecinających się linii, tylko przy nazwisku jednego kandy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smo odręczne 13" descr=""/>
          <p:cNvPicPr/>
          <p:nvPr/>
        </p:nvPicPr>
        <p:blipFill>
          <a:blip r:embed="rId3"/>
          <a:srcRect l="0" t="67729" r="79100" b="0"/>
          <a:stretch/>
        </p:blipFill>
        <p:spPr>
          <a:xfrm>
            <a:off x="1403280" y="1341360"/>
            <a:ext cx="407880" cy="2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Obraz 3" descr=""/>
          <p:cNvPicPr/>
          <p:nvPr/>
        </p:nvPicPr>
        <p:blipFill>
          <a:blip r:embed="rId1"/>
          <a:srcRect l="39155" t="8625" r="13282" b="24178"/>
          <a:stretch/>
        </p:blipFill>
        <p:spPr>
          <a:xfrm>
            <a:off x="108000" y="990720"/>
            <a:ext cx="3743280" cy="5533920"/>
          </a:xfrm>
          <a:prstGeom prst="rect">
            <a:avLst/>
          </a:prstGeom>
          <a:ln w="0">
            <a:noFill/>
          </a:ln>
        </p:spPr>
      </p:pic>
      <p:sp>
        <p:nvSpPr>
          <p:cNvPr id="693" name="Prostokąt 4"/>
          <p:cNvSpPr/>
          <p:nvPr/>
        </p:nvSpPr>
        <p:spPr>
          <a:xfrm>
            <a:off x="108000" y="981000"/>
            <a:ext cx="3960720" cy="561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ole tekstowe 17"/>
          <p:cNvSpPr/>
          <p:nvPr/>
        </p:nvSpPr>
        <p:spPr>
          <a:xfrm>
            <a:off x="4575240" y="17701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cc00"/>
                </a:solidFill>
                <a:latin typeface="Arial Black"/>
              </a:rPr>
              <a:t>GŁOS WAŻ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ole tekstowe 21"/>
          <p:cNvSpPr/>
          <p:nvPr/>
        </p:nvSpPr>
        <p:spPr>
          <a:xfrm>
            <a:off x="4572000" y="90792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Karta nie zawiera nazwisk skreślonych kandyda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ole tekstowe 2"/>
          <p:cNvSpPr/>
          <p:nvPr/>
        </p:nvSpPr>
        <p:spPr>
          <a:xfrm>
            <a:off x="2340000" y="29196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 Black"/>
              </a:rPr>
              <a:t>Wybory do Sejmu 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smo odręczne 6" descr=""/>
          <p:cNvPicPr/>
          <p:nvPr/>
        </p:nvPicPr>
        <p:blipFill>
          <a:blip r:embed="rId2"/>
          <a:srcRect l="53987" t="0" r="0" b="0"/>
          <a:stretch/>
        </p:blipFill>
        <p:spPr>
          <a:xfrm>
            <a:off x="1403280" y="1413000"/>
            <a:ext cx="308160" cy="282600"/>
          </a:xfrm>
          <a:prstGeom prst="rect">
            <a:avLst/>
          </a:prstGeom>
          <a:ln w="0">
            <a:noFill/>
          </a:ln>
        </p:spPr>
      </p:pic>
      <p:sp>
        <p:nvSpPr>
          <p:cNvPr id="698" name="Prostokąt 12"/>
          <p:cNvSpPr/>
          <p:nvPr/>
        </p:nvSpPr>
        <p:spPr>
          <a:xfrm>
            <a:off x="2053800" y="112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rostokąt 13"/>
          <p:cNvSpPr/>
          <p:nvPr/>
        </p:nvSpPr>
        <p:spPr>
          <a:xfrm>
            <a:off x="974160" y="1114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rostokąt 14"/>
          <p:cNvSpPr/>
          <p:nvPr/>
        </p:nvSpPr>
        <p:spPr>
          <a:xfrm>
            <a:off x="3279240" y="10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rostokąt 15"/>
          <p:cNvSpPr/>
          <p:nvPr/>
        </p:nvSpPr>
        <p:spPr>
          <a:xfrm>
            <a:off x="971640" y="3419640"/>
            <a:ext cx="2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rostokąt 16"/>
          <p:cNvSpPr/>
          <p:nvPr/>
        </p:nvSpPr>
        <p:spPr>
          <a:xfrm>
            <a:off x="2124000" y="3429000"/>
            <a:ext cx="3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rostokąt 20"/>
          <p:cNvSpPr/>
          <p:nvPr/>
        </p:nvSpPr>
        <p:spPr>
          <a:xfrm flipH="1">
            <a:off x="3203640" y="3419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smo odręczne 9" descr=""/>
          <p:cNvPicPr/>
          <p:nvPr/>
        </p:nvPicPr>
        <p:blipFill>
          <a:blip r:embed="rId3"/>
          <a:stretch/>
        </p:blipFill>
        <p:spPr>
          <a:xfrm>
            <a:off x="2556000" y="2349360"/>
            <a:ext cx="1366560" cy="206640"/>
          </a:xfrm>
          <a:prstGeom prst="rect">
            <a:avLst/>
          </a:prstGeom>
          <a:ln w="0">
            <a:noFill/>
          </a:ln>
        </p:spPr>
      </p:pic>
      <p:sp>
        <p:nvSpPr>
          <p:cNvPr id="705" name="pole tekstowe 20"/>
          <p:cNvSpPr/>
          <p:nvPr/>
        </p:nvSpPr>
        <p:spPr>
          <a:xfrm>
            <a:off x="4211640" y="2644920"/>
            <a:ext cx="4859280" cy="32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just">
              <a:lnSpc>
                <a:spcPct val="100000"/>
              </a:lnSpc>
              <a:spcAft>
                <a:spcPts val="601"/>
              </a:spcAft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cc00"/>
                </a:solidFill>
                <a:latin typeface="Arial"/>
                <a:ea typeface="Arial"/>
              </a:rPr>
              <a:t>Wyborca postawił znak w obrębie kratki, w postaci co najmniej dwóch przecinających się linii, tylko przy nazwisku jednego kandy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lnSpc>
                <a:spcPct val="100000"/>
              </a:lnSpc>
              <a:spcAft>
                <a:spcPts val="601"/>
              </a:spcAft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cc00"/>
                </a:solidFill>
                <a:latin typeface="Arial"/>
                <a:ea typeface="Arial"/>
              </a:rPr>
              <a:t>Znak postawiony przy nazwisku kandydata z listy nr 3, </a:t>
            </a:r>
            <a:r>
              <a:rPr b="1" lang="pl-PL" sz="2000" spc="-1" strike="noStrike" u="sng">
                <a:solidFill>
                  <a:srgbClr val="00cc00"/>
                </a:solidFill>
                <a:uFillTx/>
                <a:latin typeface="Arial"/>
                <a:ea typeface="Arial"/>
              </a:rPr>
              <a:t>poz. 09 nie spełnia wymogów uznania za znak „</a:t>
            </a:r>
            <a:r>
              <a:rPr b="1" lang="pl-PL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X</a:t>
            </a:r>
            <a:r>
              <a:rPr b="1" lang="pl-PL" sz="2000" spc="-1" strike="noStrike" u="sng">
                <a:solidFill>
                  <a:srgbClr val="00cc00"/>
                </a:solidFill>
                <a:uFillTx/>
                <a:latin typeface="Arial"/>
                <a:ea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lnSpc>
                <a:spcPct val="100000"/>
              </a:lnSpc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cc00"/>
                </a:solidFill>
                <a:latin typeface="Arial"/>
                <a:ea typeface="Arial"/>
              </a:rPr>
              <a:t>Głos oddano na kandydata lista nr 2, poz. 0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Obraz 3" descr=""/>
          <p:cNvPicPr/>
          <p:nvPr/>
        </p:nvPicPr>
        <p:blipFill>
          <a:blip r:embed="rId1"/>
          <a:srcRect l="39155" t="8625" r="13282" b="24178"/>
          <a:stretch/>
        </p:blipFill>
        <p:spPr>
          <a:xfrm>
            <a:off x="108000" y="990720"/>
            <a:ext cx="3743280" cy="5533920"/>
          </a:xfrm>
          <a:prstGeom prst="rect">
            <a:avLst/>
          </a:prstGeom>
          <a:ln w="0">
            <a:noFill/>
          </a:ln>
        </p:spPr>
      </p:pic>
      <p:sp>
        <p:nvSpPr>
          <p:cNvPr id="707" name="Prostokąt 4"/>
          <p:cNvSpPr/>
          <p:nvPr/>
        </p:nvSpPr>
        <p:spPr>
          <a:xfrm>
            <a:off x="108000" y="981000"/>
            <a:ext cx="3960720" cy="561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ole tekstowe 17"/>
          <p:cNvSpPr/>
          <p:nvPr/>
        </p:nvSpPr>
        <p:spPr>
          <a:xfrm>
            <a:off x="4643280" y="21034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cc00"/>
                </a:solidFill>
                <a:latin typeface="Arial Black"/>
              </a:rPr>
              <a:t>GŁOS WAŻ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ole tekstowe 2"/>
          <p:cNvSpPr/>
          <p:nvPr/>
        </p:nvSpPr>
        <p:spPr>
          <a:xfrm>
            <a:off x="2363760" y="29988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 Black"/>
              </a:rPr>
              <a:t>Wybory do Sejmu 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rostokąt 12"/>
          <p:cNvSpPr/>
          <p:nvPr/>
        </p:nvSpPr>
        <p:spPr>
          <a:xfrm>
            <a:off x="2053800" y="112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rostokąt 13"/>
          <p:cNvSpPr/>
          <p:nvPr/>
        </p:nvSpPr>
        <p:spPr>
          <a:xfrm>
            <a:off x="974160" y="1114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rostokąt 14"/>
          <p:cNvSpPr/>
          <p:nvPr/>
        </p:nvSpPr>
        <p:spPr>
          <a:xfrm>
            <a:off x="3279240" y="10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rostokąt 15"/>
          <p:cNvSpPr/>
          <p:nvPr/>
        </p:nvSpPr>
        <p:spPr>
          <a:xfrm>
            <a:off x="971640" y="3419640"/>
            <a:ext cx="2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rostokąt 16"/>
          <p:cNvSpPr/>
          <p:nvPr/>
        </p:nvSpPr>
        <p:spPr>
          <a:xfrm>
            <a:off x="2124000" y="3429000"/>
            <a:ext cx="3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rostokąt 20"/>
          <p:cNvSpPr/>
          <p:nvPr/>
        </p:nvSpPr>
        <p:spPr>
          <a:xfrm flipH="1">
            <a:off x="3203640" y="3419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rostokąt 12"/>
          <p:cNvSpPr/>
          <p:nvPr/>
        </p:nvSpPr>
        <p:spPr>
          <a:xfrm>
            <a:off x="473040" y="3860640"/>
            <a:ext cx="127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ff0000"/>
                </a:solidFill>
                <a:latin typeface="Arial"/>
              </a:rPr>
              <a:t>Kandydat skreślo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smo odręczne 6" descr=""/>
          <p:cNvPicPr/>
          <p:nvPr/>
        </p:nvPicPr>
        <p:blipFill>
          <a:blip r:embed="rId2"/>
          <a:srcRect l="28987" t="0" r="0" b="0"/>
          <a:stretch/>
        </p:blipFill>
        <p:spPr>
          <a:xfrm>
            <a:off x="136440" y="3789360"/>
            <a:ext cx="474840" cy="281160"/>
          </a:xfrm>
          <a:prstGeom prst="rect">
            <a:avLst/>
          </a:prstGeom>
          <a:ln w="0">
            <a:noFill/>
          </a:ln>
        </p:spPr>
      </p:pic>
      <p:sp>
        <p:nvSpPr>
          <p:cNvPr id="718" name="pole tekstowe 21"/>
          <p:cNvSpPr/>
          <p:nvPr/>
        </p:nvSpPr>
        <p:spPr>
          <a:xfrm>
            <a:off x="4319640" y="96048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Karta zawiera nazwisko skreślonego kandydata po wydruku kart do głosow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ole tekstowe 22"/>
          <p:cNvSpPr/>
          <p:nvPr/>
        </p:nvSpPr>
        <p:spPr>
          <a:xfrm>
            <a:off x="4284720" y="2938320"/>
            <a:ext cx="4680000" cy="29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just">
              <a:lnSpc>
                <a:spcPct val="100000"/>
              </a:lnSpc>
              <a:spcAft>
                <a:spcPts val="601"/>
              </a:spcAft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cc00"/>
                </a:solidFill>
                <a:latin typeface="Arial"/>
                <a:ea typeface="Arial"/>
              </a:rPr>
              <a:t>Wyborca postawił znak w obrębie kratki, w postaci co najmniej dwóch przecinających się linii, </a:t>
            </a:r>
            <a:r>
              <a:rPr b="1" lang="pl-PL" sz="20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wyłącznie przy nazwisku skreślonego kandydata</a:t>
            </a:r>
            <a:r>
              <a:rPr b="1" lang="pl-PL" sz="2000" spc="-1" strike="noStrike">
                <a:solidFill>
                  <a:srgbClr val="00cc00"/>
                </a:solidFill>
                <a:latin typeface="Arial"/>
                <a:ea typeface="Arial"/>
              </a:rPr>
              <a:t> z listy nr 4, </a:t>
            </a:r>
            <a:r>
              <a:rPr b="1" lang="pl-PL" sz="2000" spc="-1" strike="noStrike" u="sng">
                <a:solidFill>
                  <a:srgbClr val="00cc00"/>
                </a:solidFill>
                <a:uFillTx/>
                <a:latin typeface="Arial"/>
                <a:ea typeface="Arial"/>
              </a:rPr>
              <a:t>poz. 0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lnSpc>
                <a:spcPct val="100000"/>
              </a:lnSpc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cc00"/>
                </a:solidFill>
                <a:latin typeface="Arial"/>
                <a:ea typeface="Arial"/>
              </a:rPr>
              <a:t> </a:t>
            </a:r>
            <a:r>
              <a:rPr b="1" lang="pl-PL" sz="2000" spc="-1" strike="noStrike">
                <a:solidFill>
                  <a:srgbClr val="00cc00"/>
                </a:solidFill>
                <a:latin typeface="Arial"/>
              </a:rPr>
              <a:t>Głos taki traktuje się jako </a:t>
            </a:r>
            <a:r>
              <a:rPr b="1" lang="pl-PL" sz="2000" spc="-1" strike="noStrike">
                <a:solidFill>
                  <a:srgbClr val="008000"/>
                </a:solidFill>
                <a:latin typeface="Arial"/>
              </a:rPr>
              <a:t>głos oddany na listę</a:t>
            </a:r>
            <a:r>
              <a:rPr b="1" lang="pl-PL" sz="2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cc00"/>
                </a:solidFill>
                <a:uFillTx/>
                <a:latin typeface="Arial"/>
              </a:rPr>
              <a:t>bez wskazania pierwszeństwa do uzyskania mandatu</a:t>
            </a:r>
            <a:r>
              <a:rPr b="1" lang="pl-PL" sz="2000" spc="-1" strike="noStrike">
                <a:solidFill>
                  <a:srgbClr val="00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Obraz 3" descr=""/>
          <p:cNvPicPr/>
          <p:nvPr/>
        </p:nvPicPr>
        <p:blipFill>
          <a:blip r:embed="rId1"/>
          <a:srcRect l="39155" t="8625" r="13282" b="24178"/>
          <a:stretch/>
        </p:blipFill>
        <p:spPr>
          <a:xfrm>
            <a:off x="108000" y="990720"/>
            <a:ext cx="3743280" cy="5533920"/>
          </a:xfrm>
          <a:prstGeom prst="rect">
            <a:avLst/>
          </a:prstGeom>
          <a:ln w="0">
            <a:noFill/>
          </a:ln>
        </p:spPr>
      </p:pic>
      <p:sp>
        <p:nvSpPr>
          <p:cNvPr id="721" name="Prostokąt 4"/>
          <p:cNvSpPr/>
          <p:nvPr/>
        </p:nvSpPr>
        <p:spPr>
          <a:xfrm>
            <a:off x="108000" y="981000"/>
            <a:ext cx="3960720" cy="561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ole tekstowe 17"/>
          <p:cNvSpPr/>
          <p:nvPr/>
        </p:nvSpPr>
        <p:spPr>
          <a:xfrm>
            <a:off x="4789440" y="200016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cc00"/>
                </a:solidFill>
                <a:latin typeface="Arial Black"/>
              </a:rPr>
              <a:t>GŁOS WAŻ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ole tekstowe 2"/>
          <p:cNvSpPr/>
          <p:nvPr/>
        </p:nvSpPr>
        <p:spPr>
          <a:xfrm>
            <a:off x="2363760" y="30312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 Black"/>
              </a:rPr>
              <a:t>Wybory do Sejmu 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rostokąt 12"/>
          <p:cNvSpPr/>
          <p:nvPr/>
        </p:nvSpPr>
        <p:spPr>
          <a:xfrm>
            <a:off x="2053800" y="112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rostokąt 13"/>
          <p:cNvSpPr/>
          <p:nvPr/>
        </p:nvSpPr>
        <p:spPr>
          <a:xfrm>
            <a:off x="974160" y="1114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rostokąt 14"/>
          <p:cNvSpPr/>
          <p:nvPr/>
        </p:nvSpPr>
        <p:spPr>
          <a:xfrm>
            <a:off x="3279240" y="10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rostokąt 15"/>
          <p:cNvSpPr/>
          <p:nvPr/>
        </p:nvSpPr>
        <p:spPr>
          <a:xfrm>
            <a:off x="971640" y="3419640"/>
            <a:ext cx="2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rostokąt 16"/>
          <p:cNvSpPr/>
          <p:nvPr/>
        </p:nvSpPr>
        <p:spPr>
          <a:xfrm>
            <a:off x="2124000" y="3429000"/>
            <a:ext cx="3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rostokąt 20"/>
          <p:cNvSpPr/>
          <p:nvPr/>
        </p:nvSpPr>
        <p:spPr>
          <a:xfrm flipH="1">
            <a:off x="3203640" y="3419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rostokąt 12"/>
          <p:cNvSpPr/>
          <p:nvPr/>
        </p:nvSpPr>
        <p:spPr>
          <a:xfrm>
            <a:off x="473040" y="3860640"/>
            <a:ext cx="127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ff0000"/>
                </a:solidFill>
                <a:latin typeface="Arial"/>
              </a:rPr>
              <a:t>Kandydat skreślo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smo odręczne 6" descr=""/>
          <p:cNvPicPr/>
          <p:nvPr/>
        </p:nvPicPr>
        <p:blipFill>
          <a:blip r:embed="rId2"/>
          <a:srcRect l="28987" t="0" r="0" b="0"/>
          <a:stretch/>
        </p:blipFill>
        <p:spPr>
          <a:xfrm>
            <a:off x="250920" y="3716280"/>
            <a:ext cx="322200" cy="314280"/>
          </a:xfrm>
          <a:prstGeom prst="rect">
            <a:avLst/>
          </a:prstGeom>
          <a:ln w="0">
            <a:noFill/>
          </a:ln>
        </p:spPr>
      </p:pic>
      <p:sp>
        <p:nvSpPr>
          <p:cNvPr id="732" name="pole tekstowe 21"/>
          <p:cNvSpPr/>
          <p:nvPr/>
        </p:nvSpPr>
        <p:spPr>
          <a:xfrm>
            <a:off x="4275000" y="84780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Karta zawiera nazwisko skreślonego kandydata po wydruku kart do głosow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smo odręczne 6" descr=""/>
          <p:cNvPicPr/>
          <p:nvPr/>
        </p:nvPicPr>
        <p:blipFill>
          <a:blip r:embed="rId3"/>
          <a:srcRect l="28987" t="0" r="0" b="0"/>
          <a:stretch/>
        </p:blipFill>
        <p:spPr>
          <a:xfrm>
            <a:off x="136440" y="4437000"/>
            <a:ext cx="474840" cy="281160"/>
          </a:xfrm>
          <a:prstGeom prst="rect">
            <a:avLst/>
          </a:prstGeom>
          <a:ln w="0">
            <a:noFill/>
          </a:ln>
        </p:spPr>
      </p:pic>
      <p:sp>
        <p:nvSpPr>
          <p:cNvPr id="734" name="pole tekstowe 20"/>
          <p:cNvSpPr/>
          <p:nvPr/>
        </p:nvSpPr>
        <p:spPr>
          <a:xfrm>
            <a:off x="4284720" y="2852640"/>
            <a:ext cx="4680000" cy="29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just">
              <a:lnSpc>
                <a:spcPct val="100000"/>
              </a:lnSpc>
              <a:spcAft>
                <a:spcPts val="601"/>
              </a:spcAft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cc00"/>
                </a:solidFill>
                <a:latin typeface="Arial"/>
                <a:ea typeface="Arial"/>
              </a:rPr>
              <a:t>Wyborca postawił znak w obrębie kratki, w postaci co najmniej dwóch przecinających się linii, </a:t>
            </a:r>
            <a:r>
              <a:rPr b="1" lang="pl-PL" sz="2000" spc="-1" strike="noStrike" u="sng">
                <a:solidFill>
                  <a:srgbClr val="00cc00"/>
                </a:solidFill>
                <a:uFillTx/>
                <a:latin typeface="Arial"/>
              </a:rPr>
              <a:t>przy nazwisku skreślonego kandydata z jednej listy oraz przy nazwisku innego kandydata z tej samej listy</a:t>
            </a:r>
            <a:r>
              <a:rPr b="1" lang="pl-PL" sz="2000" spc="-1" strike="noStrike">
                <a:solidFill>
                  <a:srgbClr val="00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lnSpc>
                <a:spcPct val="100000"/>
              </a:lnSpc>
              <a:spcAft>
                <a:spcPts val="601"/>
              </a:spcAft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cc00"/>
                </a:solidFill>
                <a:latin typeface="Arial"/>
              </a:rPr>
              <a:t>Głos taki traktuje się jako oddany na nieskreślonego kandydata, lista nr 4, poz. 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Obraz 3" descr=""/>
          <p:cNvPicPr/>
          <p:nvPr/>
        </p:nvPicPr>
        <p:blipFill>
          <a:blip r:embed="rId1"/>
          <a:srcRect l="39155" t="8625" r="13282" b="24178"/>
          <a:stretch/>
        </p:blipFill>
        <p:spPr>
          <a:xfrm>
            <a:off x="108000" y="990720"/>
            <a:ext cx="3743280" cy="5533920"/>
          </a:xfrm>
          <a:prstGeom prst="rect">
            <a:avLst/>
          </a:prstGeom>
          <a:ln w="0">
            <a:noFill/>
          </a:ln>
        </p:spPr>
      </p:pic>
      <p:sp>
        <p:nvSpPr>
          <p:cNvPr id="736" name="Prostokąt 4"/>
          <p:cNvSpPr/>
          <p:nvPr/>
        </p:nvSpPr>
        <p:spPr>
          <a:xfrm>
            <a:off x="108000" y="981000"/>
            <a:ext cx="3960720" cy="561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ole tekstowe 17"/>
          <p:cNvSpPr/>
          <p:nvPr/>
        </p:nvSpPr>
        <p:spPr>
          <a:xfrm>
            <a:off x="4603680" y="191916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cc00"/>
                </a:solidFill>
                <a:latin typeface="Arial Black"/>
              </a:rPr>
              <a:t>GŁOS WAŻ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ole tekstowe 2"/>
          <p:cNvSpPr/>
          <p:nvPr/>
        </p:nvSpPr>
        <p:spPr>
          <a:xfrm>
            <a:off x="2281320" y="37620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 Black"/>
              </a:rPr>
              <a:t>Wybory do Sejmu 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rostokąt 12"/>
          <p:cNvSpPr/>
          <p:nvPr/>
        </p:nvSpPr>
        <p:spPr>
          <a:xfrm>
            <a:off x="2053800" y="112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rostokąt 13"/>
          <p:cNvSpPr/>
          <p:nvPr/>
        </p:nvSpPr>
        <p:spPr>
          <a:xfrm>
            <a:off x="974160" y="1114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rostokąt 14"/>
          <p:cNvSpPr/>
          <p:nvPr/>
        </p:nvSpPr>
        <p:spPr>
          <a:xfrm>
            <a:off x="3279240" y="10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rostokąt 15"/>
          <p:cNvSpPr/>
          <p:nvPr/>
        </p:nvSpPr>
        <p:spPr>
          <a:xfrm>
            <a:off x="971640" y="3419640"/>
            <a:ext cx="2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rostokąt 16"/>
          <p:cNvSpPr/>
          <p:nvPr/>
        </p:nvSpPr>
        <p:spPr>
          <a:xfrm>
            <a:off x="2124000" y="3429000"/>
            <a:ext cx="3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rostokąt 20"/>
          <p:cNvSpPr/>
          <p:nvPr/>
        </p:nvSpPr>
        <p:spPr>
          <a:xfrm flipH="1">
            <a:off x="3203640" y="3419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rostokąt 12"/>
          <p:cNvSpPr/>
          <p:nvPr/>
        </p:nvSpPr>
        <p:spPr>
          <a:xfrm>
            <a:off x="473040" y="3860640"/>
            <a:ext cx="127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ff0000"/>
                </a:solidFill>
                <a:latin typeface="Arial"/>
              </a:rPr>
              <a:t>Kandydat skreślo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smo odręczne 6" descr=""/>
          <p:cNvPicPr/>
          <p:nvPr/>
        </p:nvPicPr>
        <p:blipFill>
          <a:blip r:embed="rId2"/>
          <a:srcRect l="28987" t="0" r="0" b="0"/>
          <a:stretch/>
        </p:blipFill>
        <p:spPr>
          <a:xfrm>
            <a:off x="138240" y="3757680"/>
            <a:ext cx="474480" cy="280800"/>
          </a:xfrm>
          <a:prstGeom prst="rect">
            <a:avLst/>
          </a:prstGeom>
          <a:ln w="0">
            <a:noFill/>
          </a:ln>
        </p:spPr>
      </p:pic>
      <p:sp>
        <p:nvSpPr>
          <p:cNvPr id="747" name="pole tekstowe 21"/>
          <p:cNvSpPr/>
          <p:nvPr/>
        </p:nvSpPr>
        <p:spPr>
          <a:xfrm>
            <a:off x="4211640" y="84924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Karta zawiera nazwisko skreślonego kandydata po wydruku kart do głosow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smo odręczne 6" descr=""/>
          <p:cNvPicPr/>
          <p:nvPr/>
        </p:nvPicPr>
        <p:blipFill>
          <a:blip r:embed="rId3"/>
          <a:srcRect l="28987" t="0" r="0" b="0"/>
          <a:stretch/>
        </p:blipFill>
        <p:spPr>
          <a:xfrm>
            <a:off x="1258920" y="4437000"/>
            <a:ext cx="474480" cy="281160"/>
          </a:xfrm>
          <a:prstGeom prst="rect">
            <a:avLst/>
          </a:prstGeom>
          <a:ln w="0">
            <a:noFill/>
          </a:ln>
        </p:spPr>
      </p:pic>
      <p:sp>
        <p:nvSpPr>
          <p:cNvPr id="749" name="pole tekstowe 22"/>
          <p:cNvSpPr/>
          <p:nvPr/>
        </p:nvSpPr>
        <p:spPr>
          <a:xfrm>
            <a:off x="4211640" y="2846520"/>
            <a:ext cx="4681440" cy="32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601"/>
              </a:spcAft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cc00"/>
                </a:solidFill>
                <a:latin typeface="Arial"/>
                <a:ea typeface="Arial"/>
              </a:rPr>
              <a:t>Wyborca postawił znak w obrębie kratki, w postaci co najmniej dwóch przecinających się linii, </a:t>
            </a:r>
            <a:r>
              <a:rPr b="1" lang="pl-PL" sz="2000" spc="-1" strike="noStrike" u="sng">
                <a:solidFill>
                  <a:srgbClr val="00cc00"/>
                </a:solidFill>
                <a:uFillTx/>
                <a:latin typeface="Arial"/>
              </a:rPr>
              <a:t>przy nazwisku kandydata skreślonego z jednej listy i przy nazwisku kandydata z innej (</a:t>
            </a:r>
            <a:r>
              <a:rPr b="1" lang="pl-PL" sz="2000" spc="-1" strike="noStrike" u="sng">
                <a:solidFill>
                  <a:srgbClr val="008000"/>
                </a:solidFill>
                <a:uFillTx/>
                <a:latin typeface="Arial"/>
              </a:rPr>
              <a:t>ale tylko jednej</a:t>
            </a:r>
            <a:r>
              <a:rPr b="1" lang="pl-PL" sz="2000" spc="-1" strike="noStrike" u="sng">
                <a:solidFill>
                  <a:srgbClr val="00cc00"/>
                </a:solidFill>
                <a:uFillTx/>
                <a:latin typeface="Arial"/>
              </a:rPr>
              <a:t>) listy</a:t>
            </a:r>
            <a:r>
              <a:rPr b="0" lang="pl-PL" sz="2000" spc="-1" strike="noStrike">
                <a:solidFill>
                  <a:srgbClr val="00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601"/>
              </a:spcAft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cc00"/>
                </a:solidFill>
                <a:latin typeface="Arial"/>
              </a:rPr>
              <a:t>Głos taki traktuje się jako oddany na nieskreślonego kandydata z tej innej listy, lista nr 5, poz. 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Obraz 3" descr=""/>
          <p:cNvPicPr/>
          <p:nvPr/>
        </p:nvPicPr>
        <p:blipFill>
          <a:blip r:embed="rId1"/>
          <a:srcRect l="39155" t="8625" r="13282" b="24178"/>
          <a:stretch/>
        </p:blipFill>
        <p:spPr>
          <a:xfrm>
            <a:off x="108000" y="990720"/>
            <a:ext cx="3743280" cy="5533920"/>
          </a:xfrm>
          <a:prstGeom prst="rect">
            <a:avLst/>
          </a:prstGeom>
          <a:ln w="0">
            <a:noFill/>
          </a:ln>
        </p:spPr>
      </p:pic>
      <p:sp>
        <p:nvSpPr>
          <p:cNvPr id="751" name="Prostokąt 4"/>
          <p:cNvSpPr/>
          <p:nvPr/>
        </p:nvSpPr>
        <p:spPr>
          <a:xfrm>
            <a:off x="108000" y="981000"/>
            <a:ext cx="3960720" cy="561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ole tekstowe 17"/>
          <p:cNvSpPr/>
          <p:nvPr/>
        </p:nvSpPr>
        <p:spPr>
          <a:xfrm>
            <a:off x="4770360" y="19540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cc00"/>
                </a:solidFill>
                <a:latin typeface="Arial Black"/>
              </a:rPr>
              <a:t>GŁOS WAŻ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ole tekstowe 2"/>
          <p:cNvSpPr/>
          <p:nvPr/>
        </p:nvSpPr>
        <p:spPr>
          <a:xfrm>
            <a:off x="2281320" y="37620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 Black"/>
              </a:rPr>
              <a:t>Wybory do Sejmu 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rostokąt 12"/>
          <p:cNvSpPr/>
          <p:nvPr/>
        </p:nvSpPr>
        <p:spPr>
          <a:xfrm>
            <a:off x="2053800" y="112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rostokąt 13"/>
          <p:cNvSpPr/>
          <p:nvPr/>
        </p:nvSpPr>
        <p:spPr>
          <a:xfrm>
            <a:off x="974160" y="1114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rostokąt 14"/>
          <p:cNvSpPr/>
          <p:nvPr/>
        </p:nvSpPr>
        <p:spPr>
          <a:xfrm>
            <a:off x="3279240" y="10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rostokąt 15"/>
          <p:cNvSpPr/>
          <p:nvPr/>
        </p:nvSpPr>
        <p:spPr>
          <a:xfrm>
            <a:off x="971640" y="3419640"/>
            <a:ext cx="2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rostokąt 16"/>
          <p:cNvSpPr/>
          <p:nvPr/>
        </p:nvSpPr>
        <p:spPr>
          <a:xfrm>
            <a:off x="2124000" y="3429000"/>
            <a:ext cx="3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rostokąt 20"/>
          <p:cNvSpPr/>
          <p:nvPr/>
        </p:nvSpPr>
        <p:spPr>
          <a:xfrm flipH="1">
            <a:off x="3203640" y="3419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smo odręczne 6" descr=""/>
          <p:cNvPicPr/>
          <p:nvPr/>
        </p:nvPicPr>
        <p:blipFill>
          <a:blip r:embed="rId2"/>
          <a:srcRect l="28987" t="0" r="0" b="0"/>
          <a:stretch/>
        </p:blipFill>
        <p:spPr>
          <a:xfrm>
            <a:off x="2340000" y="2249640"/>
            <a:ext cx="474480" cy="280800"/>
          </a:xfrm>
          <a:prstGeom prst="rect">
            <a:avLst/>
          </a:prstGeom>
          <a:ln w="0">
            <a:noFill/>
          </a:ln>
        </p:spPr>
      </p:pic>
      <p:pic>
        <p:nvPicPr>
          <p:cNvPr id="761" name="Pismo odręczne 6" descr=""/>
          <p:cNvPicPr/>
          <p:nvPr/>
        </p:nvPicPr>
        <p:blipFill>
          <a:blip r:embed="rId3"/>
          <a:srcRect l="28987" t="0" r="0" b="0"/>
          <a:stretch/>
        </p:blipFill>
        <p:spPr>
          <a:xfrm>
            <a:off x="2340000" y="4351320"/>
            <a:ext cx="474480" cy="281160"/>
          </a:xfrm>
          <a:prstGeom prst="rect">
            <a:avLst/>
          </a:prstGeom>
          <a:ln w="0">
            <a:noFill/>
          </a:ln>
        </p:spPr>
      </p:pic>
      <p:sp>
        <p:nvSpPr>
          <p:cNvPr id="762" name="Prostokąt 12"/>
          <p:cNvSpPr/>
          <p:nvPr/>
        </p:nvSpPr>
        <p:spPr>
          <a:xfrm>
            <a:off x="2700360" y="3630600"/>
            <a:ext cx="121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ff0000"/>
                </a:solidFill>
                <a:latin typeface="Arial"/>
              </a:rPr>
              <a:t>Unieważniona lis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ole tekstowe 21"/>
          <p:cNvSpPr/>
          <p:nvPr/>
        </p:nvSpPr>
        <p:spPr>
          <a:xfrm>
            <a:off x="4368960" y="9129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Karta zawiera unieważnioną listę nr 6 - po wydruku k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ole tekstowe 24"/>
          <p:cNvSpPr/>
          <p:nvPr/>
        </p:nvSpPr>
        <p:spPr>
          <a:xfrm>
            <a:off x="4140360" y="2774880"/>
            <a:ext cx="4932360" cy="29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601"/>
              </a:spcAft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cc00"/>
                </a:solidFill>
                <a:latin typeface="Arial"/>
                <a:ea typeface="Arial"/>
              </a:rPr>
              <a:t>Wyborca postawił znak „</a:t>
            </a:r>
            <a:r>
              <a:rPr b="1" lang="pl-PL" sz="2000" spc="-1" strike="noStrike">
                <a:solidFill>
                  <a:srgbClr val="0000ff"/>
                </a:solidFill>
                <a:latin typeface="Arial"/>
                <a:ea typeface="Arial"/>
              </a:rPr>
              <a:t>X</a:t>
            </a:r>
            <a:r>
              <a:rPr b="1" lang="pl-PL" sz="2000" spc="-1" strike="noStrike">
                <a:solidFill>
                  <a:srgbClr val="00cc00"/>
                </a:solidFill>
                <a:latin typeface="Arial"/>
                <a:ea typeface="Arial"/>
              </a:rPr>
              <a:t>” w obrębie kratki, </a:t>
            </a:r>
            <a:r>
              <a:rPr b="1" lang="pl-PL" sz="2000" spc="-1" strike="noStrike" u="sng">
                <a:solidFill>
                  <a:srgbClr val="00cc00"/>
                </a:solidFill>
                <a:uFillTx/>
                <a:latin typeface="Arial"/>
              </a:rPr>
              <a:t>przy nazwisku kandydata z unieważnionej listy i przy nazwisku kandydata z innej (</a:t>
            </a:r>
            <a:r>
              <a:rPr b="1" lang="pl-PL" sz="2000" spc="-1" strike="noStrike" u="sng">
                <a:solidFill>
                  <a:srgbClr val="008000"/>
                </a:solidFill>
                <a:uFillTx/>
                <a:latin typeface="Arial"/>
              </a:rPr>
              <a:t>ale tylko jednej</a:t>
            </a:r>
            <a:r>
              <a:rPr b="1" lang="pl-PL" sz="2000" spc="-1" strike="noStrike" u="sng">
                <a:solidFill>
                  <a:srgbClr val="00cc00"/>
                </a:solidFill>
                <a:uFillTx/>
                <a:latin typeface="Arial"/>
              </a:rPr>
              <a:t>) listy</a:t>
            </a:r>
            <a:r>
              <a:rPr b="1" lang="pl-PL" sz="2000" spc="-1" strike="noStrike">
                <a:solidFill>
                  <a:srgbClr val="00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601"/>
              </a:spcAft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cc00"/>
                </a:solidFill>
                <a:latin typeface="Arial"/>
              </a:rPr>
              <a:t>Głos taki traktuje się jako oddany na kandydata z listy, której rejestracja nie została unieważniona, lista nr 3 poz. 0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Obraz 3" descr=""/>
          <p:cNvPicPr/>
          <p:nvPr/>
        </p:nvPicPr>
        <p:blipFill>
          <a:blip r:embed="rId1"/>
          <a:srcRect l="39155" t="8625" r="13282" b="24178"/>
          <a:stretch/>
        </p:blipFill>
        <p:spPr>
          <a:xfrm>
            <a:off x="108000" y="990720"/>
            <a:ext cx="3743280" cy="5533920"/>
          </a:xfrm>
          <a:prstGeom prst="rect">
            <a:avLst/>
          </a:prstGeom>
          <a:ln w="0">
            <a:noFill/>
          </a:ln>
        </p:spPr>
      </p:pic>
      <p:sp>
        <p:nvSpPr>
          <p:cNvPr id="766" name="Prostokąt 4"/>
          <p:cNvSpPr/>
          <p:nvPr/>
        </p:nvSpPr>
        <p:spPr>
          <a:xfrm>
            <a:off x="108000" y="981000"/>
            <a:ext cx="3960720" cy="561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ole tekstowe 2"/>
          <p:cNvSpPr/>
          <p:nvPr/>
        </p:nvSpPr>
        <p:spPr>
          <a:xfrm>
            <a:off x="2340000" y="37800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 Black"/>
              </a:rPr>
              <a:t>Wybory do Sejmu 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rostokąt 12"/>
          <p:cNvSpPr/>
          <p:nvPr/>
        </p:nvSpPr>
        <p:spPr>
          <a:xfrm>
            <a:off x="2053800" y="112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rostokąt 13"/>
          <p:cNvSpPr/>
          <p:nvPr/>
        </p:nvSpPr>
        <p:spPr>
          <a:xfrm>
            <a:off x="974160" y="1114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rostokąt 14"/>
          <p:cNvSpPr/>
          <p:nvPr/>
        </p:nvSpPr>
        <p:spPr>
          <a:xfrm>
            <a:off x="3279240" y="10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rostokąt 15"/>
          <p:cNvSpPr/>
          <p:nvPr/>
        </p:nvSpPr>
        <p:spPr>
          <a:xfrm>
            <a:off x="971640" y="3419640"/>
            <a:ext cx="2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rostokąt 16"/>
          <p:cNvSpPr/>
          <p:nvPr/>
        </p:nvSpPr>
        <p:spPr>
          <a:xfrm>
            <a:off x="2124000" y="3429000"/>
            <a:ext cx="3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rostokąt 20"/>
          <p:cNvSpPr/>
          <p:nvPr/>
        </p:nvSpPr>
        <p:spPr>
          <a:xfrm flipH="1">
            <a:off x="3203640" y="3419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smo odręczne 6" descr=""/>
          <p:cNvPicPr/>
          <p:nvPr/>
        </p:nvPicPr>
        <p:blipFill>
          <a:blip r:embed="rId2"/>
          <a:srcRect l="28987" t="0" r="0" b="0"/>
          <a:stretch/>
        </p:blipFill>
        <p:spPr>
          <a:xfrm>
            <a:off x="2340000" y="2276640"/>
            <a:ext cx="474480" cy="280800"/>
          </a:xfrm>
          <a:prstGeom prst="rect">
            <a:avLst/>
          </a:prstGeom>
          <a:ln w="0">
            <a:noFill/>
          </a:ln>
        </p:spPr>
      </p:pic>
      <p:pic>
        <p:nvPicPr>
          <p:cNvPr id="775" name="Pismo odręczne 6" descr=""/>
          <p:cNvPicPr/>
          <p:nvPr/>
        </p:nvPicPr>
        <p:blipFill>
          <a:blip r:embed="rId3"/>
          <a:srcRect l="28987" t="0" r="0" b="0"/>
          <a:stretch/>
        </p:blipFill>
        <p:spPr>
          <a:xfrm>
            <a:off x="2340000" y="4443480"/>
            <a:ext cx="474480" cy="280800"/>
          </a:xfrm>
          <a:prstGeom prst="rect">
            <a:avLst/>
          </a:prstGeom>
          <a:ln w="0">
            <a:noFill/>
          </a:ln>
        </p:spPr>
      </p:pic>
      <p:sp>
        <p:nvSpPr>
          <p:cNvPr id="776" name="Prostokąt 12"/>
          <p:cNvSpPr/>
          <p:nvPr/>
        </p:nvSpPr>
        <p:spPr>
          <a:xfrm>
            <a:off x="2700360" y="3630600"/>
            <a:ext cx="121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ff0000"/>
                </a:solidFill>
                <a:latin typeface="Arial"/>
              </a:rPr>
              <a:t>Unieważniona lis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ole tekstowe 21"/>
          <p:cNvSpPr/>
          <p:nvPr/>
        </p:nvSpPr>
        <p:spPr>
          <a:xfrm>
            <a:off x="4572000" y="90792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Karta nie zawiera nazwisk skreślonych kandyda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ole tekstowe 21"/>
          <p:cNvSpPr/>
          <p:nvPr/>
        </p:nvSpPr>
        <p:spPr>
          <a:xfrm>
            <a:off x="4427640" y="17622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ole tekstowe 22"/>
          <p:cNvSpPr/>
          <p:nvPr/>
        </p:nvSpPr>
        <p:spPr>
          <a:xfrm>
            <a:off x="4140360" y="2565360"/>
            <a:ext cx="4752720" cy="31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  <a:ea typeface="Arial"/>
              </a:rPr>
              <a:t>Wyborca postawił znak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„</a:t>
            </a: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  <a:ea typeface="Arial"/>
              </a:rPr>
              <a:t>w obrębie kratki,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przy nazwiskach </a:t>
            </a: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większej liczby kandydatów z różnych list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Wyborca postawił znak „</a:t>
            </a: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” przy nazwiskach kandydató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1/ z listy nr 3, poz. 0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2/ z listy nr 5, poz. 0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3/ z listy nr 6, poz. 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smo odręczne 6" descr=""/>
          <p:cNvPicPr/>
          <p:nvPr/>
        </p:nvPicPr>
        <p:blipFill>
          <a:blip r:embed="rId4"/>
          <a:srcRect l="28987" t="0" r="0" b="0"/>
          <a:stretch/>
        </p:blipFill>
        <p:spPr>
          <a:xfrm>
            <a:off x="1258920" y="4076640"/>
            <a:ext cx="474480" cy="28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ole tekstowe 2"/>
          <p:cNvSpPr/>
          <p:nvPr/>
        </p:nvSpPr>
        <p:spPr>
          <a:xfrm>
            <a:off x="1042920" y="54288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Arial Black"/>
              </a:rPr>
              <a:t>CZY ODDANY GŁOS JEST WAŻ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ole tekstowe 6"/>
          <p:cNvSpPr/>
          <p:nvPr/>
        </p:nvSpPr>
        <p:spPr>
          <a:xfrm>
            <a:off x="250920" y="47829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Dwie li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smo odręczne 8" descr=""/>
          <p:cNvPicPr/>
          <p:nvPr/>
        </p:nvPicPr>
        <p:blipFill>
          <a:blip r:embed="rId1"/>
          <a:stretch/>
        </p:blipFill>
        <p:spPr>
          <a:xfrm>
            <a:off x="828720" y="1438200"/>
            <a:ext cx="2582640" cy="3137040"/>
          </a:xfrm>
          <a:prstGeom prst="rect">
            <a:avLst/>
          </a:prstGeom>
          <a:ln w="0">
            <a:noFill/>
          </a:ln>
        </p:spPr>
      </p:pic>
      <p:pic>
        <p:nvPicPr>
          <p:cNvPr id="548" name="Pismo odręczne 10" descr=""/>
          <p:cNvPicPr/>
          <p:nvPr/>
        </p:nvPicPr>
        <p:blipFill>
          <a:blip r:embed="rId2"/>
          <a:stretch/>
        </p:blipFill>
        <p:spPr>
          <a:xfrm>
            <a:off x="619200" y="1498680"/>
            <a:ext cx="316368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1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1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Obraz 3" descr=""/>
          <p:cNvPicPr/>
          <p:nvPr/>
        </p:nvPicPr>
        <p:blipFill>
          <a:blip r:embed="rId1"/>
          <a:srcRect l="39155" t="8625" r="13282" b="24178"/>
          <a:stretch/>
        </p:blipFill>
        <p:spPr>
          <a:xfrm>
            <a:off x="108000" y="990720"/>
            <a:ext cx="3743280" cy="5533920"/>
          </a:xfrm>
          <a:prstGeom prst="rect">
            <a:avLst/>
          </a:prstGeom>
          <a:ln w="0">
            <a:noFill/>
          </a:ln>
        </p:spPr>
      </p:pic>
      <p:sp>
        <p:nvSpPr>
          <p:cNvPr id="782" name="Prostokąt 4"/>
          <p:cNvSpPr/>
          <p:nvPr/>
        </p:nvSpPr>
        <p:spPr>
          <a:xfrm>
            <a:off x="108000" y="981000"/>
            <a:ext cx="3960720" cy="561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ole tekstowe 2"/>
          <p:cNvSpPr/>
          <p:nvPr/>
        </p:nvSpPr>
        <p:spPr>
          <a:xfrm>
            <a:off x="2363760" y="35100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 Black"/>
              </a:rPr>
              <a:t>Wybory do Sejmu 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rostokąt 12"/>
          <p:cNvSpPr/>
          <p:nvPr/>
        </p:nvSpPr>
        <p:spPr>
          <a:xfrm>
            <a:off x="2053800" y="112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rostokąt 13"/>
          <p:cNvSpPr/>
          <p:nvPr/>
        </p:nvSpPr>
        <p:spPr>
          <a:xfrm>
            <a:off x="974160" y="1114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rostokąt 14"/>
          <p:cNvSpPr/>
          <p:nvPr/>
        </p:nvSpPr>
        <p:spPr>
          <a:xfrm>
            <a:off x="3279240" y="10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rostokąt 15"/>
          <p:cNvSpPr/>
          <p:nvPr/>
        </p:nvSpPr>
        <p:spPr>
          <a:xfrm>
            <a:off x="971640" y="3419640"/>
            <a:ext cx="2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rostokąt 16"/>
          <p:cNvSpPr/>
          <p:nvPr/>
        </p:nvSpPr>
        <p:spPr>
          <a:xfrm>
            <a:off x="2124000" y="3429000"/>
            <a:ext cx="3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rostokąt 20"/>
          <p:cNvSpPr/>
          <p:nvPr/>
        </p:nvSpPr>
        <p:spPr>
          <a:xfrm flipH="1">
            <a:off x="3203640" y="3419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ole tekstowe 21"/>
          <p:cNvSpPr/>
          <p:nvPr/>
        </p:nvSpPr>
        <p:spPr>
          <a:xfrm>
            <a:off x="4356000" y="1628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ole tekstowe 17"/>
          <p:cNvSpPr/>
          <p:nvPr/>
        </p:nvSpPr>
        <p:spPr>
          <a:xfrm>
            <a:off x="4211640" y="2565360"/>
            <a:ext cx="4681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5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  <a:ea typeface="Arial"/>
              </a:rPr>
              <a:t>Wyborca </a:t>
            </a: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nie postawił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 znaku „</a:t>
            </a: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” </a:t>
            </a: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przy nazwisku żadnego kandy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  <a:ea typeface="Arial"/>
              </a:rPr>
              <a:t>Wyborca nie dokonał żadnego wybo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Obraz 3" descr=""/>
          <p:cNvPicPr/>
          <p:nvPr/>
        </p:nvPicPr>
        <p:blipFill>
          <a:blip r:embed="rId1"/>
          <a:srcRect l="39155" t="8625" r="13282" b="24178"/>
          <a:stretch/>
        </p:blipFill>
        <p:spPr>
          <a:xfrm>
            <a:off x="108000" y="990720"/>
            <a:ext cx="3743280" cy="5533920"/>
          </a:xfrm>
          <a:prstGeom prst="rect">
            <a:avLst/>
          </a:prstGeom>
          <a:ln w="0">
            <a:noFill/>
          </a:ln>
        </p:spPr>
      </p:pic>
      <p:sp>
        <p:nvSpPr>
          <p:cNvPr id="793" name="Prostokąt 4"/>
          <p:cNvSpPr/>
          <p:nvPr/>
        </p:nvSpPr>
        <p:spPr>
          <a:xfrm>
            <a:off x="108000" y="981000"/>
            <a:ext cx="3960720" cy="561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ole tekstowe 2"/>
          <p:cNvSpPr/>
          <p:nvPr/>
        </p:nvSpPr>
        <p:spPr>
          <a:xfrm>
            <a:off x="2411280" y="37152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 Black"/>
              </a:rPr>
              <a:t>Wybory do Sejmu 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rostokąt 12"/>
          <p:cNvSpPr/>
          <p:nvPr/>
        </p:nvSpPr>
        <p:spPr>
          <a:xfrm>
            <a:off x="2053800" y="112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rostokąt 13"/>
          <p:cNvSpPr/>
          <p:nvPr/>
        </p:nvSpPr>
        <p:spPr>
          <a:xfrm>
            <a:off x="974160" y="1114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rostokąt 14"/>
          <p:cNvSpPr/>
          <p:nvPr/>
        </p:nvSpPr>
        <p:spPr>
          <a:xfrm>
            <a:off x="3279240" y="10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rostokąt 15"/>
          <p:cNvSpPr/>
          <p:nvPr/>
        </p:nvSpPr>
        <p:spPr>
          <a:xfrm>
            <a:off x="971640" y="3419640"/>
            <a:ext cx="2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rostokąt 16"/>
          <p:cNvSpPr/>
          <p:nvPr/>
        </p:nvSpPr>
        <p:spPr>
          <a:xfrm>
            <a:off x="2124000" y="3429000"/>
            <a:ext cx="3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rostokąt 20"/>
          <p:cNvSpPr/>
          <p:nvPr/>
        </p:nvSpPr>
        <p:spPr>
          <a:xfrm flipH="1">
            <a:off x="3203640" y="3419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ole tekstowe 21"/>
          <p:cNvSpPr/>
          <p:nvPr/>
        </p:nvSpPr>
        <p:spPr>
          <a:xfrm>
            <a:off x="4356000" y="1628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ole tekstowe 12"/>
          <p:cNvSpPr/>
          <p:nvPr/>
        </p:nvSpPr>
        <p:spPr>
          <a:xfrm>
            <a:off x="4211640" y="2349360"/>
            <a:ext cx="4681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5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  <a:ea typeface="Arial"/>
              </a:rPr>
              <a:t>Wyborca </a:t>
            </a: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postawił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 znak „</a:t>
            </a: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” </a:t>
            </a: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przy nazwisku kandydata poza kratk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Znak „</a:t>
            </a: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” postawiony przez wyborcę </a:t>
            </a: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poza przeznaczoną na to kratką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, traktuje się jako dopiski, które nie wpływają na ważność głos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smo odręczne 6" descr=""/>
          <p:cNvPicPr/>
          <p:nvPr/>
        </p:nvPicPr>
        <p:blipFill>
          <a:blip r:embed="rId2"/>
          <a:srcRect l="28987" t="0" r="0" b="0"/>
          <a:stretch/>
        </p:blipFill>
        <p:spPr>
          <a:xfrm>
            <a:off x="2411280" y="1557360"/>
            <a:ext cx="546120" cy="3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Obraz 3" descr=""/>
          <p:cNvPicPr/>
          <p:nvPr/>
        </p:nvPicPr>
        <p:blipFill>
          <a:blip r:embed="rId1"/>
          <a:srcRect l="39155" t="8625" r="13282" b="24178"/>
          <a:stretch/>
        </p:blipFill>
        <p:spPr>
          <a:xfrm>
            <a:off x="108000" y="990720"/>
            <a:ext cx="3743280" cy="5533920"/>
          </a:xfrm>
          <a:prstGeom prst="rect">
            <a:avLst/>
          </a:prstGeom>
          <a:ln w="0">
            <a:noFill/>
          </a:ln>
        </p:spPr>
      </p:pic>
      <p:sp>
        <p:nvSpPr>
          <p:cNvPr id="805" name="Prostokąt 4"/>
          <p:cNvSpPr/>
          <p:nvPr/>
        </p:nvSpPr>
        <p:spPr>
          <a:xfrm>
            <a:off x="108000" y="981000"/>
            <a:ext cx="3960720" cy="561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ole tekstowe 2"/>
          <p:cNvSpPr/>
          <p:nvPr/>
        </p:nvSpPr>
        <p:spPr>
          <a:xfrm>
            <a:off x="2354400" y="36036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 Black"/>
              </a:rPr>
              <a:t>Wybory do Sejmu 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rostokąt 12"/>
          <p:cNvSpPr/>
          <p:nvPr/>
        </p:nvSpPr>
        <p:spPr>
          <a:xfrm>
            <a:off x="2053800" y="112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rostokąt 13"/>
          <p:cNvSpPr/>
          <p:nvPr/>
        </p:nvSpPr>
        <p:spPr>
          <a:xfrm>
            <a:off x="974160" y="1114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rostokąt 14"/>
          <p:cNvSpPr/>
          <p:nvPr/>
        </p:nvSpPr>
        <p:spPr>
          <a:xfrm>
            <a:off x="3279240" y="10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rostokąt 15"/>
          <p:cNvSpPr/>
          <p:nvPr/>
        </p:nvSpPr>
        <p:spPr>
          <a:xfrm>
            <a:off x="971640" y="3419640"/>
            <a:ext cx="2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rostokąt 16"/>
          <p:cNvSpPr/>
          <p:nvPr/>
        </p:nvSpPr>
        <p:spPr>
          <a:xfrm>
            <a:off x="2124000" y="3429000"/>
            <a:ext cx="3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rostokąt 20"/>
          <p:cNvSpPr/>
          <p:nvPr/>
        </p:nvSpPr>
        <p:spPr>
          <a:xfrm flipH="1">
            <a:off x="3203640" y="3419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ole tekstowe 21"/>
          <p:cNvSpPr/>
          <p:nvPr/>
        </p:nvSpPr>
        <p:spPr>
          <a:xfrm>
            <a:off x="4356000" y="1628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ole tekstowe 14"/>
          <p:cNvSpPr/>
          <p:nvPr/>
        </p:nvSpPr>
        <p:spPr>
          <a:xfrm>
            <a:off x="4211640" y="2565360"/>
            <a:ext cx="4681440" cy="30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5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  <a:ea typeface="Arial"/>
              </a:rPr>
              <a:t>Wyborca </a:t>
            </a: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nie postawił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 znaku „</a:t>
            </a: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” </a:t>
            </a: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przy nazwisku żadnego kandy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50000"/>
              </a:lnSpc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  <a:ea typeface="Arial"/>
              </a:rPr>
              <a:t>Znak postawiony przy nazwisku kandydata z listy nr 4, </a:t>
            </a: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oz. 05 nie spełnia wymogów uznania za znak „</a:t>
            </a:r>
            <a:r>
              <a:rPr b="1" lang="pl-PL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X</a:t>
            </a: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smo odręczne 13" descr=""/>
          <p:cNvPicPr/>
          <p:nvPr/>
        </p:nvPicPr>
        <p:blipFill>
          <a:blip r:embed="rId2"/>
          <a:srcRect l="0" t="67729" r="79100" b="0"/>
          <a:stretch/>
        </p:blipFill>
        <p:spPr>
          <a:xfrm>
            <a:off x="324000" y="4149720"/>
            <a:ext cx="407880" cy="2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Obraz 3" descr=""/>
          <p:cNvPicPr/>
          <p:nvPr/>
        </p:nvPicPr>
        <p:blipFill>
          <a:blip r:embed="rId1"/>
          <a:srcRect l="39155" t="8625" r="13282" b="24178"/>
          <a:stretch/>
        </p:blipFill>
        <p:spPr>
          <a:xfrm>
            <a:off x="108000" y="990720"/>
            <a:ext cx="3743280" cy="5533920"/>
          </a:xfrm>
          <a:prstGeom prst="rect">
            <a:avLst/>
          </a:prstGeom>
          <a:ln w="0">
            <a:noFill/>
          </a:ln>
        </p:spPr>
      </p:pic>
      <p:sp>
        <p:nvSpPr>
          <p:cNvPr id="817" name="Prostokąt 4"/>
          <p:cNvSpPr/>
          <p:nvPr/>
        </p:nvSpPr>
        <p:spPr>
          <a:xfrm>
            <a:off x="108000" y="981000"/>
            <a:ext cx="3960720" cy="561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ole tekstowe 2"/>
          <p:cNvSpPr/>
          <p:nvPr/>
        </p:nvSpPr>
        <p:spPr>
          <a:xfrm>
            <a:off x="2233440" y="33480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 Black"/>
              </a:rPr>
              <a:t>Wybory do Sejmu 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rostokąt 12"/>
          <p:cNvSpPr/>
          <p:nvPr/>
        </p:nvSpPr>
        <p:spPr>
          <a:xfrm>
            <a:off x="2053800" y="112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rostokąt 13"/>
          <p:cNvSpPr/>
          <p:nvPr/>
        </p:nvSpPr>
        <p:spPr>
          <a:xfrm>
            <a:off x="974160" y="1114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rostokąt 14"/>
          <p:cNvSpPr/>
          <p:nvPr/>
        </p:nvSpPr>
        <p:spPr>
          <a:xfrm>
            <a:off x="3279240" y="10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rostokąt 15"/>
          <p:cNvSpPr/>
          <p:nvPr/>
        </p:nvSpPr>
        <p:spPr>
          <a:xfrm>
            <a:off x="971640" y="3419640"/>
            <a:ext cx="2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rostokąt 16"/>
          <p:cNvSpPr/>
          <p:nvPr/>
        </p:nvSpPr>
        <p:spPr>
          <a:xfrm>
            <a:off x="2124000" y="3429000"/>
            <a:ext cx="3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rostokąt 20"/>
          <p:cNvSpPr/>
          <p:nvPr/>
        </p:nvSpPr>
        <p:spPr>
          <a:xfrm flipH="1">
            <a:off x="3203640" y="3419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ole tekstowe 21"/>
          <p:cNvSpPr/>
          <p:nvPr/>
        </p:nvSpPr>
        <p:spPr>
          <a:xfrm>
            <a:off x="4500720" y="19512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rostokąt 12"/>
          <p:cNvSpPr/>
          <p:nvPr/>
        </p:nvSpPr>
        <p:spPr>
          <a:xfrm>
            <a:off x="2631960" y="3645000"/>
            <a:ext cx="1207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ff0000"/>
                </a:solidFill>
                <a:latin typeface="Arial"/>
              </a:rPr>
              <a:t>Unieważniona lis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ole tekstowe 21"/>
          <p:cNvSpPr/>
          <p:nvPr/>
        </p:nvSpPr>
        <p:spPr>
          <a:xfrm>
            <a:off x="4284720" y="9828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Karta zawiera unieważnioną listę po wydruku k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ole tekstowe 18"/>
          <p:cNvSpPr/>
          <p:nvPr/>
        </p:nvSpPr>
        <p:spPr>
          <a:xfrm>
            <a:off x="4597560" y="2708280"/>
            <a:ext cx="396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2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Wyborca postawił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 znak „</a:t>
            </a: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” </a:t>
            </a: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wyłącznie przy nazwisku kandydata z listy, której rejestrację unieważnio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Pismo odręczne 6" descr=""/>
          <p:cNvPicPr/>
          <p:nvPr/>
        </p:nvPicPr>
        <p:blipFill>
          <a:blip r:embed="rId2"/>
          <a:srcRect l="28987" t="0" r="0" b="0"/>
          <a:stretch/>
        </p:blipFill>
        <p:spPr>
          <a:xfrm>
            <a:off x="2268360" y="4076640"/>
            <a:ext cx="546120" cy="3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ole tekstowe 17"/>
          <p:cNvSpPr/>
          <p:nvPr/>
        </p:nvSpPr>
        <p:spPr>
          <a:xfrm>
            <a:off x="4981680" y="242244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cc00"/>
                </a:solidFill>
                <a:latin typeface="Arial Black"/>
              </a:rPr>
              <a:t>GŁOS WAŻ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ole tekstowe 18"/>
          <p:cNvSpPr/>
          <p:nvPr/>
        </p:nvSpPr>
        <p:spPr>
          <a:xfrm>
            <a:off x="4500720" y="3573360"/>
            <a:ext cx="453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cc00"/>
                </a:solidFill>
                <a:latin typeface="Arial"/>
                <a:ea typeface="Arial"/>
              </a:rPr>
              <a:t>Co najmniej dwie linie przecinają się w obrębie kratki, głos oddany tylko na jednego kandydata poz. 0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ole tekstowe 21"/>
          <p:cNvSpPr/>
          <p:nvPr/>
        </p:nvSpPr>
        <p:spPr>
          <a:xfrm>
            <a:off x="5197320" y="134136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Karta nie zawiera nazwisk skreślonych kandyda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ole tekstowe 2"/>
          <p:cNvSpPr/>
          <p:nvPr/>
        </p:nvSpPr>
        <p:spPr>
          <a:xfrm>
            <a:off x="2449440" y="34596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 Black"/>
              </a:rPr>
              <a:t>Wybory do Senatu 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Obraz 1" descr=""/>
          <p:cNvPicPr/>
          <p:nvPr/>
        </p:nvPicPr>
        <p:blipFill>
          <a:blip r:embed="rId1"/>
          <a:srcRect l="8470" t="15349" r="16775" b="27953"/>
          <a:stretch/>
        </p:blipFill>
        <p:spPr>
          <a:xfrm>
            <a:off x="316080" y="981000"/>
            <a:ext cx="3968640" cy="5531040"/>
          </a:xfrm>
          <a:prstGeom prst="rect">
            <a:avLst/>
          </a:prstGeom>
          <a:ln w="0">
            <a:noFill/>
          </a:ln>
        </p:spPr>
      </p:pic>
      <p:pic>
        <p:nvPicPr>
          <p:cNvPr id="835" name="Pismo odręczne 6" descr=""/>
          <p:cNvPicPr/>
          <p:nvPr/>
        </p:nvPicPr>
        <p:blipFill>
          <a:blip r:embed="rId2"/>
          <a:srcRect l="53987" t="0" r="0" b="0"/>
          <a:stretch/>
        </p:blipFill>
        <p:spPr>
          <a:xfrm>
            <a:off x="826920" y="2786040"/>
            <a:ext cx="308160" cy="282600"/>
          </a:xfrm>
          <a:prstGeom prst="rect">
            <a:avLst/>
          </a:prstGeom>
          <a:ln w="0">
            <a:noFill/>
          </a:ln>
        </p:spPr>
      </p:pic>
      <p:sp>
        <p:nvSpPr>
          <p:cNvPr id="836" name="Prostokąt 16"/>
          <p:cNvSpPr/>
          <p:nvPr/>
        </p:nvSpPr>
        <p:spPr>
          <a:xfrm>
            <a:off x="395280" y="981000"/>
            <a:ext cx="3960720" cy="561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ole tekstowe 17"/>
          <p:cNvSpPr/>
          <p:nvPr/>
        </p:nvSpPr>
        <p:spPr>
          <a:xfrm>
            <a:off x="4932360" y="220680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cc00"/>
                </a:solidFill>
                <a:latin typeface="Arial Black"/>
              </a:rPr>
              <a:t>GŁOS WAŻ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ole tekstowe 18"/>
          <p:cNvSpPr/>
          <p:nvPr/>
        </p:nvSpPr>
        <p:spPr>
          <a:xfrm>
            <a:off x="4500720" y="3068640"/>
            <a:ext cx="453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cc00"/>
                </a:solidFill>
                <a:latin typeface="Arial"/>
                <a:ea typeface="Arial"/>
              </a:rPr>
              <a:t>Co najmniej dwie linie przecinają się w obrębie kratki, głos oddany na nieskreślonego kandydata poz. 0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ole tekstowe 21"/>
          <p:cNvSpPr/>
          <p:nvPr/>
        </p:nvSpPr>
        <p:spPr>
          <a:xfrm>
            <a:off x="5292720" y="134928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Karta </a:t>
            </a:r>
            <a:r>
              <a:rPr b="1" lang="pl-PL" sz="1800" spc="-1" strike="noStrike" u="sng">
                <a:solidFill>
                  <a:srgbClr val="002060"/>
                </a:solidFill>
                <a:uFillTx/>
                <a:latin typeface="Arial"/>
              </a:rPr>
              <a:t>zawiera</a:t>
            </a: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 nazwisko skreślonego kandy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ole tekstowe 2"/>
          <p:cNvSpPr/>
          <p:nvPr/>
        </p:nvSpPr>
        <p:spPr>
          <a:xfrm>
            <a:off x="2519280" y="37620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 Black"/>
              </a:rPr>
              <a:t>Wybory do Senatu 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Obraz 1" descr=""/>
          <p:cNvPicPr/>
          <p:nvPr/>
        </p:nvPicPr>
        <p:blipFill>
          <a:blip r:embed="rId1"/>
          <a:srcRect l="8470" t="15349" r="16775" b="27953"/>
          <a:stretch/>
        </p:blipFill>
        <p:spPr>
          <a:xfrm>
            <a:off x="324000" y="907920"/>
            <a:ext cx="3968640" cy="5531040"/>
          </a:xfrm>
          <a:prstGeom prst="rect">
            <a:avLst/>
          </a:prstGeom>
          <a:ln w="0">
            <a:noFill/>
          </a:ln>
        </p:spPr>
      </p:pic>
      <p:pic>
        <p:nvPicPr>
          <p:cNvPr id="842" name="Pismo odręczne 6" descr=""/>
          <p:cNvPicPr/>
          <p:nvPr/>
        </p:nvPicPr>
        <p:blipFill>
          <a:blip r:embed="rId2"/>
          <a:srcRect l="53987" t="0" r="0" b="0"/>
          <a:stretch/>
        </p:blipFill>
        <p:spPr>
          <a:xfrm>
            <a:off x="826920" y="2786040"/>
            <a:ext cx="308160" cy="282600"/>
          </a:xfrm>
          <a:prstGeom prst="rect">
            <a:avLst/>
          </a:prstGeom>
          <a:ln w="0">
            <a:noFill/>
          </a:ln>
        </p:spPr>
      </p:pic>
      <p:sp>
        <p:nvSpPr>
          <p:cNvPr id="843" name="Prostokąt 16"/>
          <p:cNvSpPr/>
          <p:nvPr/>
        </p:nvSpPr>
        <p:spPr>
          <a:xfrm>
            <a:off x="395280" y="981000"/>
            <a:ext cx="3960720" cy="561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rostokąt 12"/>
          <p:cNvSpPr/>
          <p:nvPr/>
        </p:nvSpPr>
        <p:spPr>
          <a:xfrm>
            <a:off x="1120680" y="2492280"/>
            <a:ext cx="127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ff0000"/>
                </a:solidFill>
                <a:latin typeface="Arial"/>
              </a:rPr>
              <a:t>Kandydat skreślo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smo odręczne 6" descr=""/>
          <p:cNvPicPr/>
          <p:nvPr/>
        </p:nvPicPr>
        <p:blipFill>
          <a:blip r:embed="rId3"/>
          <a:srcRect l="53987" t="0" r="0" b="0"/>
          <a:stretch/>
        </p:blipFill>
        <p:spPr>
          <a:xfrm>
            <a:off x="826920" y="2349360"/>
            <a:ext cx="308160" cy="28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ole tekstowe 2"/>
          <p:cNvSpPr/>
          <p:nvPr/>
        </p:nvSpPr>
        <p:spPr>
          <a:xfrm>
            <a:off x="2449440" y="34128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 Black"/>
              </a:rPr>
              <a:t>Wybory do Senatu 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Obraz 1" descr=""/>
          <p:cNvPicPr/>
          <p:nvPr/>
        </p:nvPicPr>
        <p:blipFill>
          <a:blip r:embed="rId1"/>
          <a:srcRect l="8470" t="15349" r="16775" b="27953"/>
          <a:stretch/>
        </p:blipFill>
        <p:spPr>
          <a:xfrm>
            <a:off x="179280" y="907920"/>
            <a:ext cx="3969000" cy="5531040"/>
          </a:xfrm>
          <a:prstGeom prst="rect">
            <a:avLst/>
          </a:prstGeom>
          <a:ln w="0">
            <a:noFill/>
          </a:ln>
        </p:spPr>
      </p:pic>
      <p:pic>
        <p:nvPicPr>
          <p:cNvPr id="848" name="Pismo odręczne 6" descr=""/>
          <p:cNvPicPr/>
          <p:nvPr/>
        </p:nvPicPr>
        <p:blipFill>
          <a:blip r:embed="rId2"/>
          <a:srcRect l="53987" t="0" r="0" b="0"/>
          <a:stretch/>
        </p:blipFill>
        <p:spPr>
          <a:xfrm>
            <a:off x="684360" y="2786040"/>
            <a:ext cx="307800" cy="282600"/>
          </a:xfrm>
          <a:prstGeom prst="rect">
            <a:avLst/>
          </a:prstGeom>
          <a:ln w="0">
            <a:noFill/>
          </a:ln>
        </p:spPr>
      </p:pic>
      <p:sp>
        <p:nvSpPr>
          <p:cNvPr id="849" name="Prostokąt 16"/>
          <p:cNvSpPr/>
          <p:nvPr/>
        </p:nvSpPr>
        <p:spPr>
          <a:xfrm>
            <a:off x="250920" y="981000"/>
            <a:ext cx="3960720" cy="561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smo odręczne 6" descr=""/>
          <p:cNvPicPr/>
          <p:nvPr/>
        </p:nvPicPr>
        <p:blipFill>
          <a:blip r:embed="rId3"/>
          <a:srcRect l="53987" t="0" r="0" b="0"/>
          <a:stretch/>
        </p:blipFill>
        <p:spPr>
          <a:xfrm>
            <a:off x="684360" y="2349360"/>
            <a:ext cx="307800" cy="282600"/>
          </a:xfrm>
          <a:prstGeom prst="rect">
            <a:avLst/>
          </a:prstGeom>
          <a:ln w="0">
            <a:noFill/>
          </a:ln>
        </p:spPr>
      </p:pic>
      <p:sp>
        <p:nvSpPr>
          <p:cNvPr id="851" name="pole tekstowe 21"/>
          <p:cNvSpPr/>
          <p:nvPr/>
        </p:nvSpPr>
        <p:spPr>
          <a:xfrm>
            <a:off x="5148360" y="12924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Karta </a:t>
            </a:r>
            <a:r>
              <a:rPr b="1" lang="pl-PL" sz="1800" spc="-1" strike="noStrike" u="sng">
                <a:solidFill>
                  <a:srgbClr val="002060"/>
                </a:solidFill>
                <a:uFillTx/>
                <a:latin typeface="Arial"/>
              </a:rPr>
              <a:t>nie zawiera </a:t>
            </a: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nazwisk skreślonych kandyda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ole tekstowe 11"/>
          <p:cNvSpPr/>
          <p:nvPr/>
        </p:nvSpPr>
        <p:spPr>
          <a:xfrm>
            <a:off x="4498920" y="20620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ole tekstowe 12"/>
          <p:cNvSpPr/>
          <p:nvPr/>
        </p:nvSpPr>
        <p:spPr>
          <a:xfrm>
            <a:off x="4284720" y="2832120"/>
            <a:ext cx="475128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  <a:ea typeface="Arial"/>
              </a:rPr>
              <a:t>Wyborca postawił znak w obrębie kratki, w postaci co najmniej dwóch przecinających się linii,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przy nazwiskach </a:t>
            </a: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większej liczby kandydatów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Wyborca postawił znak „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” przy nazwiskach kandydató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1/ poz. 0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2/ poz. 0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ole tekstowe 2"/>
          <p:cNvSpPr/>
          <p:nvPr/>
        </p:nvSpPr>
        <p:spPr>
          <a:xfrm>
            <a:off x="2449440" y="34452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 Black"/>
              </a:rPr>
              <a:t>Wybory do Senatu 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Obraz 1" descr=""/>
          <p:cNvPicPr/>
          <p:nvPr/>
        </p:nvPicPr>
        <p:blipFill>
          <a:blip r:embed="rId1"/>
          <a:srcRect l="8470" t="15349" r="16775" b="27953"/>
          <a:stretch/>
        </p:blipFill>
        <p:spPr>
          <a:xfrm>
            <a:off x="179280" y="907920"/>
            <a:ext cx="3969000" cy="5531040"/>
          </a:xfrm>
          <a:prstGeom prst="rect">
            <a:avLst/>
          </a:prstGeom>
          <a:ln w="0">
            <a:noFill/>
          </a:ln>
        </p:spPr>
      </p:pic>
      <p:sp>
        <p:nvSpPr>
          <p:cNvPr id="856" name="Prostokąt 16"/>
          <p:cNvSpPr/>
          <p:nvPr/>
        </p:nvSpPr>
        <p:spPr>
          <a:xfrm>
            <a:off x="250920" y="981000"/>
            <a:ext cx="3960720" cy="561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smo odręczne 6" descr=""/>
          <p:cNvPicPr/>
          <p:nvPr/>
        </p:nvPicPr>
        <p:blipFill>
          <a:blip r:embed="rId2"/>
          <a:srcRect l="53987" t="0" r="0" b="0"/>
          <a:stretch/>
        </p:blipFill>
        <p:spPr>
          <a:xfrm>
            <a:off x="684360" y="2349360"/>
            <a:ext cx="307800" cy="282600"/>
          </a:xfrm>
          <a:prstGeom prst="rect">
            <a:avLst/>
          </a:prstGeom>
          <a:ln w="0">
            <a:noFill/>
          </a:ln>
        </p:spPr>
      </p:pic>
      <p:sp>
        <p:nvSpPr>
          <p:cNvPr id="858" name="pole tekstowe 11"/>
          <p:cNvSpPr/>
          <p:nvPr/>
        </p:nvSpPr>
        <p:spPr>
          <a:xfrm>
            <a:off x="4498920" y="20620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ole tekstowe 12"/>
          <p:cNvSpPr/>
          <p:nvPr/>
        </p:nvSpPr>
        <p:spPr>
          <a:xfrm>
            <a:off x="4284720" y="2832120"/>
            <a:ext cx="475128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  <a:ea typeface="Arial"/>
              </a:rPr>
              <a:t>Wyborca postawił znak w obrębie kratki, w postaci co najmniej dwóch przecinających się linii, </a:t>
            </a: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tylko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przy nazwisku  </a:t>
            </a: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skreślonego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kandydata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Wyborca nie dokonał wybo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ole tekstowe 21"/>
          <p:cNvSpPr/>
          <p:nvPr/>
        </p:nvSpPr>
        <p:spPr>
          <a:xfrm>
            <a:off x="5364000" y="129240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Karta </a:t>
            </a:r>
            <a:r>
              <a:rPr b="1" lang="pl-PL" sz="1800" spc="-1" strike="noStrike" u="sng">
                <a:solidFill>
                  <a:srgbClr val="002060"/>
                </a:solidFill>
                <a:uFillTx/>
                <a:latin typeface="Arial"/>
              </a:rPr>
              <a:t>zawiera</a:t>
            </a: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 nazwisko skreślonego kandy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rostokąt 12"/>
          <p:cNvSpPr/>
          <p:nvPr/>
        </p:nvSpPr>
        <p:spPr>
          <a:xfrm>
            <a:off x="975960" y="2421000"/>
            <a:ext cx="127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ff0000"/>
                </a:solidFill>
                <a:latin typeface="Arial"/>
              </a:rPr>
              <a:t>Kandydat skreślo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ole tekstowe 2"/>
          <p:cNvSpPr/>
          <p:nvPr/>
        </p:nvSpPr>
        <p:spPr>
          <a:xfrm>
            <a:off x="1403280" y="476280"/>
            <a:ext cx="56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 Black"/>
              </a:rPr>
              <a:t>Wybory do Senatu 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 Black"/>
              </a:rPr>
              <a:t> – </a:t>
            </a:r>
            <a:r>
              <a:rPr b="0" lang="pl-PL" sz="2000" spc="-1" strike="noStrike">
                <a:solidFill>
                  <a:srgbClr val="c00000"/>
                </a:solidFill>
                <a:latin typeface="Arial Black"/>
              </a:rPr>
              <a:t>głosowanie na jednego kandy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ole tekstowe 11"/>
          <p:cNvSpPr/>
          <p:nvPr/>
        </p:nvSpPr>
        <p:spPr>
          <a:xfrm>
            <a:off x="5040360" y="198900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ole tekstowe 12"/>
          <p:cNvSpPr/>
          <p:nvPr/>
        </p:nvSpPr>
        <p:spPr>
          <a:xfrm>
            <a:off x="5435640" y="2706840"/>
            <a:ext cx="338436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  <a:ea typeface="Arial"/>
              </a:rPr>
              <a:t>Wyborca postawił znak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  <a:ea typeface="Calibri"/>
              </a:rPr>
              <a:t>„</a:t>
            </a:r>
            <a:r>
              <a:rPr b="1" lang="pl-PL" sz="2000" spc="-1" strike="noStrike">
                <a:solidFill>
                  <a:srgbClr val="0000ff"/>
                </a:solidFill>
                <a:latin typeface="Arial"/>
                <a:ea typeface="Calibri"/>
              </a:rPr>
              <a:t>X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  <a:ea typeface="Calibri"/>
              </a:rPr>
              <a:t>”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  <a:ea typeface="Calibri"/>
              </a:rPr>
              <a:t>jednocześnie za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  <a:ea typeface="Calibri"/>
              </a:rPr>
              <a:t>wyborem kandydata - odpowiedź „TAK”              </a:t>
            </a: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  <a:ea typeface="Calibri"/>
              </a:rPr>
              <a:t>i przeciw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  <a:ea typeface="Calibri"/>
              </a:rPr>
              <a:t>wyborowi odpowiedź „NI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Wyborca nie dokonał wybo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Obraz 1" descr=""/>
          <p:cNvPicPr/>
          <p:nvPr/>
        </p:nvPicPr>
        <p:blipFill>
          <a:blip r:embed="rId1"/>
          <a:srcRect l="12573" t="31501" r="14639" b="30703"/>
          <a:stretch/>
        </p:blipFill>
        <p:spPr>
          <a:xfrm>
            <a:off x="0" y="1700280"/>
            <a:ext cx="4995720" cy="3562200"/>
          </a:xfrm>
          <a:prstGeom prst="rect">
            <a:avLst/>
          </a:prstGeom>
          <a:ln w="0">
            <a:noFill/>
          </a:ln>
        </p:spPr>
      </p:pic>
      <p:pic>
        <p:nvPicPr>
          <p:cNvPr id="866" name="Pismo odręczne 6" descr=""/>
          <p:cNvPicPr/>
          <p:nvPr/>
        </p:nvPicPr>
        <p:blipFill>
          <a:blip r:embed="rId2"/>
          <a:srcRect l="53987" t="0" r="0" b="0"/>
          <a:stretch/>
        </p:blipFill>
        <p:spPr>
          <a:xfrm>
            <a:off x="755640" y="3218040"/>
            <a:ext cx="308160" cy="282240"/>
          </a:xfrm>
          <a:prstGeom prst="rect">
            <a:avLst/>
          </a:prstGeom>
          <a:ln w="0">
            <a:noFill/>
          </a:ln>
        </p:spPr>
      </p:pic>
      <p:pic>
        <p:nvPicPr>
          <p:cNvPr id="867" name="Pismo odręczne 6" descr=""/>
          <p:cNvPicPr/>
          <p:nvPr/>
        </p:nvPicPr>
        <p:blipFill>
          <a:blip r:embed="rId3"/>
          <a:srcRect l="53987" t="0" r="0" b="0"/>
          <a:stretch/>
        </p:blipFill>
        <p:spPr>
          <a:xfrm>
            <a:off x="826920" y="3573360"/>
            <a:ext cx="308160" cy="28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ole tekstowe 2"/>
          <p:cNvSpPr/>
          <p:nvPr/>
        </p:nvSpPr>
        <p:spPr>
          <a:xfrm>
            <a:off x="1403280" y="457200"/>
            <a:ext cx="56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 Black"/>
              </a:rPr>
              <a:t>Wybory do Senatu 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 Black"/>
              </a:rPr>
              <a:t> – </a:t>
            </a:r>
            <a:r>
              <a:rPr b="0" lang="pl-PL" sz="2000" spc="-1" strike="noStrike">
                <a:solidFill>
                  <a:srgbClr val="c00000"/>
                </a:solidFill>
                <a:latin typeface="Arial Black"/>
              </a:rPr>
              <a:t>głosowanie na jednego kandy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ole tekstowe 11"/>
          <p:cNvSpPr/>
          <p:nvPr/>
        </p:nvSpPr>
        <p:spPr>
          <a:xfrm>
            <a:off x="4932360" y="206208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ole tekstowe 12"/>
          <p:cNvSpPr/>
          <p:nvPr/>
        </p:nvSpPr>
        <p:spPr>
          <a:xfrm>
            <a:off x="5326200" y="2781360"/>
            <a:ext cx="331128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  <a:ea typeface="Arial"/>
              </a:rPr>
              <a:t>Wyborca nie postawił znaku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  <a:ea typeface="Calibri"/>
              </a:rPr>
              <a:t>„</a:t>
            </a:r>
            <a:r>
              <a:rPr b="1" lang="pl-PL" sz="2000" spc="-1" strike="noStrike">
                <a:solidFill>
                  <a:srgbClr val="0000ff"/>
                </a:solidFill>
                <a:latin typeface="Arial"/>
                <a:ea typeface="Calibri"/>
              </a:rPr>
              <a:t>X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  <a:ea typeface="Calibri"/>
              </a:rPr>
              <a:t>”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  <a:ea typeface="Calibri"/>
              </a:rPr>
              <a:t>ani za wyborem, ani przeciw wyborowi kandy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Wyborca nie dokonał wybo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Obraz 1" descr=""/>
          <p:cNvPicPr/>
          <p:nvPr/>
        </p:nvPicPr>
        <p:blipFill>
          <a:blip r:embed="rId1"/>
          <a:srcRect l="12573" t="31501" r="14639" b="30703"/>
          <a:stretch/>
        </p:blipFill>
        <p:spPr>
          <a:xfrm>
            <a:off x="0" y="1700280"/>
            <a:ext cx="4995720" cy="35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ole tekstowe 2"/>
          <p:cNvSpPr/>
          <p:nvPr/>
        </p:nvSpPr>
        <p:spPr>
          <a:xfrm>
            <a:off x="1116000" y="5382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Arial Black"/>
              </a:rPr>
              <a:t>CZY ODDANY GŁOS JEST WAŻ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ole tekstowe 5"/>
          <p:cNvSpPr/>
          <p:nvPr/>
        </p:nvSpPr>
        <p:spPr>
          <a:xfrm>
            <a:off x="4284720" y="213372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ole tekstowe 6"/>
          <p:cNvSpPr/>
          <p:nvPr/>
        </p:nvSpPr>
        <p:spPr>
          <a:xfrm>
            <a:off x="179280" y="4761000"/>
            <a:ext cx="842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Dwie linie 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Dwie linie są ze sobą stycz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smo odręczne 13" descr=""/>
          <p:cNvPicPr/>
          <p:nvPr/>
        </p:nvPicPr>
        <p:blipFill>
          <a:blip r:embed="rId1"/>
          <a:stretch/>
        </p:blipFill>
        <p:spPr>
          <a:xfrm>
            <a:off x="476280" y="1428840"/>
            <a:ext cx="34974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1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1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ole tekstowe 1"/>
          <p:cNvSpPr/>
          <p:nvPr/>
        </p:nvSpPr>
        <p:spPr>
          <a:xfrm>
            <a:off x="252360" y="1449360"/>
            <a:ext cx="863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 stwierdzenia, czy głos oddany na karcie do głosowania jest głosem ważnym, czy też głosem nieważnym</a:t>
            </a:r>
            <a:r>
              <a:rPr b="1" lang="pl-PL" sz="2800" spc="-1" strike="noStrike">
                <a:solidFill>
                  <a:srgbClr val="000000"/>
                </a:solidFill>
                <a:latin typeface="Arial Black"/>
                <a:ea typeface="Arial"/>
              </a:rPr>
              <a:t>, </a:t>
            </a:r>
            <a:r>
              <a:rPr b="1" lang="pl-PL" sz="2800" spc="-1" strike="noStrike" u="sng">
                <a:solidFill>
                  <a:srgbClr val="000000"/>
                </a:solidFill>
                <a:uFillTx/>
                <a:latin typeface="Arial Black"/>
                <a:ea typeface="Arial"/>
              </a:rPr>
              <a:t>uprawniona</a:t>
            </a:r>
            <a:r>
              <a:rPr b="1" lang="pl-PL" sz="2800" spc="-1" strike="noStrike">
                <a:solidFill>
                  <a:srgbClr val="000000"/>
                </a:solidFill>
                <a:latin typeface="Arial Black"/>
                <a:ea typeface="Arial"/>
              </a:rPr>
              <a:t> jest tylko obwodowa komisja wyborcza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ole tekstowe 2"/>
          <p:cNvSpPr/>
          <p:nvPr/>
        </p:nvSpPr>
        <p:spPr>
          <a:xfrm>
            <a:off x="2629080" y="73332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Arial Black"/>
              </a:rPr>
              <a:t>DEFINICJA ZNAKU „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Obraz 2" descr="Gratis vektorgrafik: Telefon, Mobiltelefon, Ikke, Opkald ..."/>
          <p:cNvPicPr/>
          <p:nvPr/>
        </p:nvPicPr>
        <p:blipFill>
          <a:blip r:embed="rId1"/>
          <a:stretch/>
        </p:blipFill>
        <p:spPr>
          <a:xfrm>
            <a:off x="6199200" y="5256360"/>
            <a:ext cx="1512720" cy="1296720"/>
          </a:xfrm>
          <a:prstGeom prst="rect">
            <a:avLst/>
          </a:prstGeom>
          <a:ln w="0">
            <a:noFill/>
          </a:ln>
        </p:spPr>
      </p:pic>
      <p:sp>
        <p:nvSpPr>
          <p:cNvPr id="875" name="Prostokąt 1"/>
          <p:cNvSpPr/>
          <p:nvPr/>
        </p:nvSpPr>
        <p:spPr>
          <a:xfrm>
            <a:off x="324000" y="35002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 Black"/>
                <a:ea typeface="Arial"/>
              </a:rPr>
              <a:t>Nie ma możliwości występowania z pytaniami w tym zakresie do innych podmiotów, w tym do okręgowej komisji wyborczej, urzędu gminy, urzędnika wyborczego, czy delegatury KB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Obraz 7" descr="Darmo grafika wektorowa: Telefon, Obrotowe, Żółty - Gratis ..."/>
          <p:cNvPicPr/>
          <p:nvPr/>
        </p:nvPicPr>
        <p:blipFill>
          <a:blip r:embed="rId2"/>
          <a:stretch/>
        </p:blipFill>
        <p:spPr>
          <a:xfrm>
            <a:off x="1512720" y="5189400"/>
            <a:ext cx="1393920" cy="1363680"/>
          </a:xfrm>
          <a:prstGeom prst="rect">
            <a:avLst/>
          </a:prstGeom>
          <a:ln w="0">
            <a:noFill/>
          </a:ln>
        </p:spPr>
      </p:pic>
      <p:grpSp>
        <p:nvGrpSpPr>
          <p:cNvPr id="877" name="Znak zakazu 6"/>
          <p:cNvGrpSpPr/>
          <p:nvPr/>
        </p:nvGrpSpPr>
        <p:grpSpPr>
          <a:xfrm>
            <a:off x="1036800" y="4591080"/>
            <a:ext cx="2627280" cy="2627280"/>
            <a:chOff x="1036800" y="4591080"/>
            <a:chExt cx="2627280" cy="2627280"/>
          </a:xfrm>
        </p:grpSpPr>
        <p:pic>
          <p:nvPicPr>
            <p:cNvPr id="878" name="Znak zakazu 6" descr=""/>
            <p:cNvPicPr/>
            <p:nvPr/>
          </p:nvPicPr>
          <p:blipFill>
            <a:blip r:embed="rId3"/>
            <a:stretch/>
          </p:blipFill>
          <p:spPr>
            <a:xfrm>
              <a:off x="1036800" y="4591080"/>
              <a:ext cx="262728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"/>
            <p:cNvSpPr/>
            <p:nvPr/>
          </p:nvSpPr>
          <p:spPr>
            <a:xfrm>
              <a:off x="1800360" y="5446800"/>
              <a:ext cx="91584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0" name="Obraz 2" descr=""/>
          <p:cNvPicPr/>
          <p:nvPr/>
        </p:nvPicPr>
        <p:blipFill>
          <a:blip r:embed="rId4"/>
          <a:stretch/>
        </p:blipFill>
        <p:spPr>
          <a:xfrm>
            <a:off x="3892680" y="5146560"/>
            <a:ext cx="1585800" cy="1449360"/>
          </a:xfrm>
          <a:prstGeom prst="rect">
            <a:avLst/>
          </a:prstGeom>
          <a:ln w="0">
            <a:noFill/>
          </a:ln>
        </p:spPr>
      </p:pic>
      <p:grpSp>
        <p:nvGrpSpPr>
          <p:cNvPr id="881" name="Znak zakazu 8"/>
          <p:cNvGrpSpPr/>
          <p:nvPr/>
        </p:nvGrpSpPr>
        <p:grpSpPr>
          <a:xfrm>
            <a:off x="3376440" y="4522680"/>
            <a:ext cx="2895840" cy="2695680"/>
            <a:chOff x="3376440" y="4522680"/>
            <a:chExt cx="2895840" cy="2695680"/>
          </a:xfrm>
        </p:grpSpPr>
        <p:pic>
          <p:nvPicPr>
            <p:cNvPr id="882" name="Znak zakazu 8" descr=""/>
            <p:cNvPicPr/>
            <p:nvPr/>
          </p:nvPicPr>
          <p:blipFill>
            <a:blip r:embed="rId5"/>
            <a:stretch/>
          </p:blipFill>
          <p:spPr>
            <a:xfrm>
              <a:off x="3376440" y="4522680"/>
              <a:ext cx="2895840" cy="26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4186080" y="5389560"/>
              <a:ext cx="109872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/>
          </p:nvPr>
        </p:nvSpPr>
        <p:spPr>
          <a:xfrm>
            <a:off x="34560" y="34920"/>
            <a:ext cx="9148680" cy="6858000"/>
          </a:xfrm>
          <a:prstGeom prst="rect">
            <a:avLst/>
          </a:prstGeom>
          <a:noFill/>
          <a:ln w="0">
            <a:noFill/>
          </a:ln>
        </p:spPr>
        <p:txBody>
          <a:bodyPr lIns="540000" rIns="540000" tIns="540000" bIns="54000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885" name="pole tekstowe 2"/>
          <p:cNvSpPr/>
          <p:nvPr/>
        </p:nvSpPr>
        <p:spPr>
          <a:xfrm>
            <a:off x="3564000" y="620640"/>
            <a:ext cx="532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Państw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za uwag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ole tekstowe 2"/>
          <p:cNvSpPr/>
          <p:nvPr/>
        </p:nvSpPr>
        <p:spPr>
          <a:xfrm>
            <a:off x="1042920" y="58428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Arial Black"/>
              </a:rPr>
              <a:t>CZY ODDANY GŁOS JEST WAŻ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Łącznik prosty 3"/>
          <p:cNvSpPr/>
          <p:nvPr/>
        </p:nvSpPr>
        <p:spPr>
          <a:xfrm>
            <a:off x="539640" y="1395360"/>
            <a:ext cx="3384720" cy="287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Łącznik prosty 4"/>
          <p:cNvSpPr/>
          <p:nvPr/>
        </p:nvSpPr>
        <p:spPr>
          <a:xfrm flipH="1">
            <a:off x="1258920" y="1908000"/>
            <a:ext cx="3673440" cy="295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ole tekstowe 5"/>
          <p:cNvSpPr/>
          <p:nvPr/>
        </p:nvSpPr>
        <p:spPr>
          <a:xfrm>
            <a:off x="4356000" y="2276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ole tekstowe 6"/>
          <p:cNvSpPr/>
          <p:nvPr/>
        </p:nvSpPr>
        <p:spPr>
          <a:xfrm>
            <a:off x="395280" y="486108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Dwie linie przecinają się 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Obramowanie kratki należy uznać za część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1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1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ole tekstowe 2"/>
          <p:cNvSpPr/>
          <p:nvPr/>
        </p:nvSpPr>
        <p:spPr>
          <a:xfrm>
            <a:off x="1135080" y="62388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Arial Black"/>
              </a:rPr>
              <a:t>CZY ODDANY GŁOS JEST WAŻ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ole tekstowe 5"/>
          <p:cNvSpPr/>
          <p:nvPr/>
        </p:nvSpPr>
        <p:spPr>
          <a:xfrm>
            <a:off x="4356000" y="233208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ole tekstowe 6"/>
          <p:cNvSpPr/>
          <p:nvPr/>
        </p:nvSpPr>
        <p:spPr>
          <a:xfrm>
            <a:off x="1619280" y="504828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Punkt przecięcia linii znajduje się poza kratk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smo odręczne 10" descr=""/>
          <p:cNvPicPr/>
          <p:nvPr/>
        </p:nvPicPr>
        <p:blipFill>
          <a:blip r:embed="rId1"/>
          <a:stretch/>
        </p:blipFill>
        <p:spPr>
          <a:xfrm>
            <a:off x="1135080" y="1328760"/>
            <a:ext cx="2900520" cy="3073320"/>
          </a:xfrm>
          <a:prstGeom prst="rect">
            <a:avLst/>
          </a:prstGeom>
          <a:ln w="0">
            <a:noFill/>
          </a:ln>
        </p:spPr>
      </p:pic>
      <p:pic>
        <p:nvPicPr>
          <p:cNvPr id="565" name="Pismo odręczne 12" descr=""/>
          <p:cNvPicPr/>
          <p:nvPr/>
        </p:nvPicPr>
        <p:blipFill>
          <a:blip r:embed="rId2"/>
          <a:stretch/>
        </p:blipFill>
        <p:spPr>
          <a:xfrm>
            <a:off x="2155680" y="1584360"/>
            <a:ext cx="20862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1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1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rostokąt 1"/>
          <p:cNvSpPr/>
          <p:nvPr/>
        </p:nvSpPr>
        <p:spPr>
          <a:xfrm>
            <a:off x="1476360" y="1844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ole tekstowe 2"/>
          <p:cNvSpPr/>
          <p:nvPr/>
        </p:nvSpPr>
        <p:spPr>
          <a:xfrm>
            <a:off x="1187280" y="56844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Arial Black"/>
              </a:rPr>
              <a:t>CZY ODDANY GŁOS JEST WAŻ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ole tekstowe 5"/>
          <p:cNvSpPr/>
          <p:nvPr/>
        </p:nvSpPr>
        <p:spPr>
          <a:xfrm>
            <a:off x="4356000" y="20462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ole tekstowe 6"/>
          <p:cNvSpPr/>
          <p:nvPr/>
        </p:nvSpPr>
        <p:spPr>
          <a:xfrm>
            <a:off x="324000" y="454176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Co najmniej dwie li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Różne kolory linii mogą oznaczać, że wyborca korzystał z różnych przyborów do pisa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Łącznik prosty 7"/>
          <p:cNvSpPr/>
          <p:nvPr/>
        </p:nvSpPr>
        <p:spPr>
          <a:xfrm>
            <a:off x="755640" y="1557360"/>
            <a:ext cx="3024360" cy="266364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smo odręczne 14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3530520" cy="3057480"/>
          </a:xfrm>
          <a:prstGeom prst="rect">
            <a:avLst/>
          </a:prstGeom>
          <a:ln w="0">
            <a:noFill/>
          </a:ln>
        </p:spPr>
      </p:pic>
      <p:pic>
        <p:nvPicPr>
          <p:cNvPr id="572" name="Pismo odręczne 16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2260800" cy="2529000"/>
          </a:xfrm>
          <a:prstGeom prst="rect">
            <a:avLst/>
          </a:prstGeom>
          <a:ln w="0">
            <a:noFill/>
          </a:ln>
        </p:spPr>
      </p:pic>
      <p:sp>
        <p:nvSpPr>
          <p:cNvPr id="573" name="Łącznik prosty 8"/>
          <p:cNvSpPr/>
          <p:nvPr/>
        </p:nvSpPr>
        <p:spPr>
          <a:xfrm flipH="1">
            <a:off x="1907640" y="1628640"/>
            <a:ext cx="1584360" cy="237672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1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1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ole tekstowe 2"/>
          <p:cNvSpPr/>
          <p:nvPr/>
        </p:nvSpPr>
        <p:spPr>
          <a:xfrm>
            <a:off x="1116000" y="58572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Arial Black"/>
              </a:rPr>
              <a:t>CZY ODDANY GŁOS JEST WAŻ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ole tekstowe 6"/>
          <p:cNvSpPr/>
          <p:nvPr/>
        </p:nvSpPr>
        <p:spPr>
          <a:xfrm>
            <a:off x="395280" y="4788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ole tekstowe 4"/>
          <p:cNvSpPr/>
          <p:nvPr/>
        </p:nvSpPr>
        <p:spPr>
          <a:xfrm>
            <a:off x="1619280" y="1989000"/>
            <a:ext cx="115236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pl-PL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1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1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ole tekstowe 2"/>
          <p:cNvSpPr/>
          <p:nvPr/>
        </p:nvSpPr>
        <p:spPr>
          <a:xfrm>
            <a:off x="1116000" y="51768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Arial Black"/>
              </a:rPr>
              <a:t>CZY ODDANY GŁOS JEST WAŻ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Co najmniej dwie linie przecinaj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się 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smo odręczne 10" descr=""/>
          <p:cNvPicPr/>
          <p:nvPr/>
        </p:nvPicPr>
        <p:blipFill>
          <a:blip r:embed="rId1"/>
          <a:stretch/>
        </p:blipFill>
        <p:spPr>
          <a:xfrm>
            <a:off x="30240" y="1887480"/>
            <a:ext cx="2616120" cy="2482920"/>
          </a:xfrm>
          <a:prstGeom prst="rect">
            <a:avLst/>
          </a:prstGeom>
          <a:ln w="0">
            <a:noFill/>
          </a:ln>
        </p:spPr>
      </p:pic>
      <p:pic>
        <p:nvPicPr>
          <p:cNvPr id="584" name="Pismo odręczne 11" descr=""/>
          <p:cNvPicPr/>
          <p:nvPr/>
        </p:nvPicPr>
        <p:blipFill>
          <a:blip r:embed="rId2"/>
          <a:stretch/>
        </p:blipFill>
        <p:spPr>
          <a:xfrm>
            <a:off x="441360" y="2087640"/>
            <a:ext cx="2720880" cy="2182680"/>
          </a:xfrm>
          <a:prstGeom prst="rect">
            <a:avLst/>
          </a:prstGeom>
          <a:ln w="0">
            <a:noFill/>
          </a:ln>
        </p:spPr>
      </p:pic>
      <p:pic>
        <p:nvPicPr>
          <p:cNvPr id="585" name="Pismo odręczne 12" descr=""/>
          <p:cNvPicPr/>
          <p:nvPr/>
        </p:nvPicPr>
        <p:blipFill>
          <a:blip r:embed="rId3"/>
          <a:stretch/>
        </p:blipFill>
        <p:spPr>
          <a:xfrm>
            <a:off x="573120" y="2463840"/>
            <a:ext cx="2583000" cy="2116080"/>
          </a:xfrm>
          <a:prstGeom prst="rect">
            <a:avLst/>
          </a:prstGeom>
          <a:ln w="0">
            <a:noFill/>
          </a:ln>
        </p:spPr>
      </p:pic>
      <p:pic>
        <p:nvPicPr>
          <p:cNvPr id="586" name="Pismo odręczne 14" descr=""/>
          <p:cNvPicPr/>
          <p:nvPr/>
        </p:nvPicPr>
        <p:blipFill>
          <a:blip r:embed="rId4"/>
          <a:stretch/>
        </p:blipFill>
        <p:spPr>
          <a:xfrm>
            <a:off x="689040" y="1887480"/>
            <a:ext cx="11872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1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1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6T10:10:29Z</dcterms:created>
  <dc:creator>Krajowe Biuro Wyborcze w Tarnobrzegu</dc:creator>
  <dc:description/>
  <dc:language>en-US</dc:language>
  <cp:lastModifiedBy>Elzbieta Koziarska</cp:lastModifiedBy>
  <cp:lastPrinted>2018-05-15T10:39:02Z</cp:lastPrinted>
  <dcterms:modified xsi:type="dcterms:W3CDTF">2019-09-24T13:25:21Z</dcterms:modified>
  <cp:revision>3280</cp:revision>
  <dc:subject/>
  <dc:title>Slajd 1</dc:title>
</cp:coreProperties>
</file>